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A4FD-5994-4DFC-A12E-597B49157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97FC-AF3A-4918-8303-377542F44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5507-8A36-44E5-8295-0D706C04C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0697-0816-41F8-866D-8D86B3B8B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7B9F7-A16A-41C5-BE2C-9E62A92F9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BC5BE-B11D-441D-A08F-2B65E53F7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5FE85-400F-4E84-BC27-7A72D9882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586CF-06A5-49F1-8792-1B3617680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88AE9-D1E3-44E4-8006-A48C11907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0C972-C52C-4613-9232-B6FE36193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C82ED-F2BF-4FFA-9092-54424737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C565-C28B-43CF-909B-C2B0264D8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3E11C-D1F0-475A-994B-3775FD08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3F170-5A82-484A-94DF-AAE8BD7B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B808C-9E44-4B94-94EA-0D02F17D1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12D92-5FDF-4C69-8043-4DDC6EF7B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0AA08-D674-476E-8B60-FFAA7E8F8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C8104-4CBF-4505-91ED-ABC5D431C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AC35A-46B3-40EA-BBCD-360BA8730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55814-5011-48B1-AEFE-9D3F31204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F413B-4544-46A4-94C8-DED62AFCE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4A53B-C747-46E5-AB32-CEE62124C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C726-2BE2-4B13-A870-BB956445D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A3CD4-6DAD-47D5-86C3-FD299054B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5F4BA-9B20-43FF-A3F8-3D57E9BE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EDDDB-0402-4252-8954-D91B12D6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D5ECC-1B25-4C2B-B265-B5DC8979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65F44-E9D8-4A89-9AA9-D6B96B143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1A8AF-C05D-43F7-A8D8-7EC0A4F2C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1158A-7183-4A44-BB90-712B69646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D38C-A4A2-43E9-A2A1-1D05617BB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04BA-03F6-4756-ADF6-611463933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E77E-BC93-4CF9-9536-23DE229AF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7EA5-3864-46AB-B6CA-672E3926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9F17-9631-4866-93AC-E2B27440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58B3-1213-4124-9884-43A67F6A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00200" y="182844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6E3EC-C884-4C21-8884-ED3FA9858F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600200" y="182844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C012A-AA56-4321-A0AD-30118112F3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6CD00-CFAC-4FFA-AD03-5CB7CF43052C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E6CD1-CDE0-4A7B-B4B6-7EBA3BE6AD4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971440" y="3504960"/>
            <a:ext cx="5715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c785"/>
                </a:solidFill>
                <a:latin typeface="Times New Roman"/>
                <a:ea typeface="宋体"/>
              </a:rPr>
              <a:t>FUN FIFTYTW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971440" y="5028840"/>
            <a:ext cx="5715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Your Subtitle Goes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Your Topic Goes He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600200" y="182844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Your Subtopics Go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Your Topic Goes He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600200" y="182844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Your Subtopics Go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2971440" y="5181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TRANSITIONAL P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Line 5"/>
          <p:cNvSpPr/>
          <p:nvPr/>
        </p:nvSpPr>
        <p:spPr>
          <a:xfrm>
            <a:off x="457200" y="64771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"/>
          <p:cNvSpPr/>
          <p:nvPr/>
        </p:nvSpPr>
        <p:spPr>
          <a:xfrm>
            <a:off x="457200" y="16002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4038480" y="228600"/>
            <a:ext cx="243864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宋体"/>
              </a:rPr>
              <a:t>Backdrop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These are full sized backdrops, just scale them up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Can be Copy-Pasted out of Templates for use an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9"/>
          <p:cNvSpPr/>
          <p:nvPr/>
        </p:nvSpPr>
        <p:spPr>
          <a:xfrm>
            <a:off x="457200" y="403848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0" descr="fun_fiftytwo_trs"/>
          <p:cNvPicPr/>
          <p:nvPr/>
        </p:nvPicPr>
        <p:blipFill>
          <a:blip r:embed="rId1"/>
          <a:stretch/>
        </p:blipFill>
        <p:spPr>
          <a:xfrm>
            <a:off x="3886200" y="167652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fun_fiftytwo_qx"/>
          <p:cNvPicPr/>
          <p:nvPr/>
        </p:nvPicPr>
        <p:blipFill>
          <a:blip r:embed="rId2"/>
          <a:stretch/>
        </p:blipFill>
        <p:spPr>
          <a:xfrm>
            <a:off x="457200" y="167652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2" descr="fun_fiftytwo_sld"/>
          <p:cNvPicPr/>
          <p:nvPr/>
        </p:nvPicPr>
        <p:blipFill>
          <a:blip r:embed="rId3"/>
          <a:stretch/>
        </p:blipFill>
        <p:spPr>
          <a:xfrm>
            <a:off x="457200" y="41148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3" descr="fun_fiftytwo_prt"/>
          <p:cNvPicPr/>
          <p:nvPr/>
        </p:nvPicPr>
        <p:blipFill>
          <a:blip r:embed="rId4"/>
          <a:stretch/>
        </p:blipFill>
        <p:spPr>
          <a:xfrm>
            <a:off x="3886200" y="41148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16:30:35Z</dcterms:created>
  <dc:creator>eclipse</dc:creator>
  <dc:description/>
  <dc:language>en-US</dc:language>
  <cp:lastModifiedBy>a</cp:lastModifiedBy>
  <dcterms:modified xsi:type="dcterms:W3CDTF">2015-01-13T17:49:05Z</dcterms:modified>
  <cp:revision>5</cp:revision>
  <dc:subject/>
  <dc:title>FUN FIFTYTW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