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500-2988-4241-AE73-6DB3930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BFE-A78E-48A7-8878-EC496EFB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6202-3DFD-40B9-A8D9-1566BBA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4A5D0-CE09-4749-93F5-5140135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4845-7422-48B4-BFB0-208C0D41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2CBD1-B0CE-42BB-A9BF-B2A5E38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ED5B8-E611-4E01-A461-33D9FDD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6B2C6-C408-4E76-A39D-71C6C72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40861-6097-4D66-9250-7C9ECA46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A99DA-FA3A-4347-B8E3-FBD75B51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22D37-D02F-463F-BFA6-7DF910C5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371BA-D346-4030-8898-3C2D8DB7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A49-BC35-4748-83A0-1094CFB2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7DB1D-0A43-4A16-A357-B5E68BD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BE5A9-96FC-4B87-A0C2-B9A6A5D3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79887-15E0-4FF8-80BE-4DEC9B7C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1EFFB-7B2F-4599-A24D-954AE3B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B3F84-BB0A-4AEF-A789-9A3EC66F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76C74-CAE5-4DA1-98F4-8FEDDCE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3F6CF-00DA-40E7-B410-6BCEDED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1E41D-D458-4079-8418-F25EDF3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5E138-3907-49C8-BC47-388216B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F2A77-83F0-40D6-9347-70208B3E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62A-5047-47E2-ABC4-FEA5B56F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101C7-994E-4CCE-9142-504EE073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0DEBC-FAAE-4E1A-AA70-20BD5DD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65FF-E0C5-4A68-B23A-ADC118DE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C161B-B344-4EA5-BBC6-65A33F2D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F49C7-1777-41FA-9BCB-7D9F3CE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F8C4-FBC2-4CF2-93E4-814938B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2E46-4E97-41A0-9863-421302E6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D31BF-4058-4E97-95BD-BE2F153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F2C1-0D43-4B58-8774-59B0869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9806-EA8F-415D-B3DB-00BF1A2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9F0D-0C49-4490-9139-43208B6E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A8DB2-098A-4DD9-A7C6-3772714E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334AF-A83B-4367-B99A-E2771A4F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789CA-C837-49D3-824C-183B1D31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0E4A9-8707-46B4-9302-A2BE2A11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8763E-E473-4DAC-AEA6-27E70D6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CCF01-A7AD-4F70-A03D-C759061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B71D4-2447-4FC1-A339-E7AAEEE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0C3A4-5986-4356-889E-7FF51840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7FF46-FE06-452F-A954-97663B1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80FD6-C98F-4ACC-A6F9-8D98402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8599-CFB8-49BD-B643-50A9A44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18C41-804F-4386-9761-503F2DC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2A9CF-0DBF-4D3D-AEFB-BA9B941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C3CF7-9093-40AF-92E3-01EF0A7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054D9-BA05-4D67-A7ED-CD10925C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9FC0C-E4D6-4E32-9924-BFF80328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758C4-3EE4-4C35-B574-508E8237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06A6-B0D5-4DE4-A9B9-DABE74E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2FAC4-0CFA-4ED5-A7E8-0C0C9C5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E1043-A827-413E-9096-F64BEF5F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D251D-41FC-4F7E-A485-732E391B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B7EE-B0A4-4778-B36E-A1891675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D3290-9ABE-4ECB-B5A6-09818A6D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70C4-424D-41A0-893A-885AA8A6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98A8D-FDA7-4F8C-9B4C-2F52155C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7DD69-2D2D-4EF1-B278-B3584CB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C2F18-BF88-4EBA-BD93-6023F74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0B1CE-19D4-43F2-A688-5AA5723F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1DA24-8E2B-4155-8BFF-C6F585E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E818A-9AFF-4E9F-A64A-C854909A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95F04-D2CB-4221-8874-F38FBC64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CCDF9-E3B1-442E-8746-C76FB101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17A-0E98-46F3-BCCE-772BD0C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2A196-8F63-4434-9572-07B38BD2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0E634-900B-4C58-AEBC-31F1839F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4127D-6B9E-4CE5-A2AC-579FEB1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2CBBB-9111-4D7B-8EE3-E0F1B82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11856-BE08-488F-BA29-E20CDB9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B690D-BF1C-4503-BBC1-4070374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F6805-2761-4082-95EA-0E2D957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E760A-0A21-4C75-9956-51944FD2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D64E2-AED0-4C99-8797-8328EAEB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AB2-98C6-4B7D-8BC3-D5209E3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0F55-A17C-4DCC-837E-3286A45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0AAA-3403-4144-91D8-C9F1BD9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453-1480-4E71-AA90-B07FFB0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501-49B8-4F81-AC46-624CBE68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84A-5952-4A82-AC25-F59A219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F101-40E8-4AA1-875C-6F1ED4DC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A53-C035-4E6A-A6C2-C607E6CC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252-7F2A-4658-8A13-4BC2BB1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DA68-2E9A-430C-BE7C-CBB78E2A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568B-C4B1-45C7-BCDB-1B5D794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A293-8791-43FC-98C1-0E73E037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2951-22BE-442C-B730-1F9170F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C776-444E-4902-AB72-6B5660E4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855-C233-439B-AC9C-2216EB0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21D6-FD39-4F3F-A15F-0B72068D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8831-9078-4C4C-A4B4-29AAB18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2AF5-7F15-431F-8087-2BD3849C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36F4-89D5-490B-8769-3E0DA5E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8813-6AF8-458E-8141-0973F67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E83C-7301-4D1A-B8AD-86B926C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AC74-3A19-4131-97BD-F36C8AB3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419D-DD50-4A58-A665-CD2D7F66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63D1-9D57-4778-97F4-902D9BCC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5F9C-0AC9-4393-8357-FB53BC8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AAA-DCD3-41AC-B600-69E3F7A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4841-1C67-40A4-A71F-62338C5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FBBD-D48D-47C5-B4F6-7CE09E8A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DF6C-9D1F-49B4-9BEA-373391C0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FE33-3BA0-493B-9A72-4CA6E885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5002-C0A4-427C-B7FE-5571A5D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9F0F-87F6-4303-9A2D-9BC3A81B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8913-1183-4785-BF46-A51BD7E8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B25E-5D0F-4047-AA21-13F1082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F91D-3B07-4A84-98A9-877055EA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2DB8-DBA3-4BF6-9085-68CCA62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DD1-FE21-4E87-A497-F036B89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8E9C-44FE-4FEE-B2BA-6B273A8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8779-20AC-4B0D-ABE7-FAF2E15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99C73-32C0-4E76-AFBB-FDF7845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22C7-51D3-4060-A363-41F406A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B9FF-40D0-41F1-B8B5-B441222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671B9-85FA-4E15-9150-86A6C49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C2706-1A9A-48EF-8C92-B24C0D4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9F38-B2D6-4190-BABC-DF9DBEB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933A-598A-4C8F-8A3C-6743A7CC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2C23-E24E-4149-A620-1536947A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CAC-9FB8-4609-A3C4-D8A7BA2A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E760-80C5-4630-BA57-75F9BC2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ECF5-B6A8-48A8-A98F-C994C492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E166-EC33-4804-9023-44EE6B6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B17E4-4A45-432A-A2F6-A885B0E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851A-BCBA-4139-A5A1-75C41658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ABF1-061B-4BF6-AE4C-A5912D7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EC89-C253-447C-8A07-E11E093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3403-25F7-4B25-9D4E-B092589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8B0C-0617-4053-BF85-9DEC835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98C3-98F2-46C9-894D-31068E0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915-15EF-42CB-AE94-FC6EA2B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7B89-EAFD-421E-9941-7136ECF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7EA83-7930-413A-A252-FAAC874B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EE43E-7326-441A-8362-9883AA17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65C6-E5CB-4A45-A0F4-1E76CF3D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01335-04E5-4860-A230-9514909B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AEFC-591C-47CA-BB62-644775E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00F6-9317-4027-AEC0-395FA86A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6CED-8FDA-45DC-84F9-AEB20BD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DBBA-E895-4B7B-8DC8-32C846A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3558-936E-4C3A-B695-C571D98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598-5DF0-499A-A025-4E022CB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65D78-9A1E-4AD0-AEB6-C16D35B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C450-FB53-4E56-8C6E-66C4505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37C04-793E-420C-BA8C-343485C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AA449-D732-4A41-8990-2394C153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F871-3880-417D-A0B4-070A495E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806D-BE56-4DB4-A2D7-D2974F9C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7157-87B1-4343-B96F-8E2EA69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7295B-7B8D-475A-8C7D-1C3100B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B7165-1263-40E2-887F-F03C78F5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55166-36DD-4154-91B6-817E82D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E21-9459-43B4-A795-1EB946C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B756-7B5A-47D0-ACA4-AB22373D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E299E-09ED-4E51-9EE7-D5DF355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9A57-0239-4985-A6FB-92A2F1C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D2A0-8FC7-4283-A2CD-8AB3791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95F9-6307-4B2C-A3B8-B2484448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5783-769C-48FB-89E2-62B8C11C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1A481-93F3-4E73-9385-00947A96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F9B60-FE4C-4809-9BA1-172E9940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299F0-8DC3-4480-BE81-79428B6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2AB63-0E10-4584-852E-06779DA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98E4-C08B-43B1-8970-0067BACC7201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2DAF-C1C1-4F54-9266-BF5664CCE1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FBC-D467-465E-82D0-7A57106B3F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08AD-EF04-421F-AB97-ED5135D2709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092-CD79-4223-A1C7-F0B922FB5C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5E24-FDCA-4254-844F-0A993078787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63AB-AAE7-4FFB-8C22-004F5F0F1C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7AAA-F83C-4B83-B838-3F4EE84BCDD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B99E-BAE2-40B0-9EF2-6AD0D22122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CBFF-7611-440E-9EB0-79D5D4DA109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8E4-C49E-4635-9E69-CF84862891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E71-6264-4BD4-9126-858B977FF31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076-8075-439A-B368-B7B6CE2A73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DCA-6DFF-47E9-9E16-C0A2EF23C31F}" type="slidenum">
              <a:rPr b="0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DC19-2784-4E52-B905-A2428F98388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6A2-0FA8-4697-AD46-DA76463886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B884-0A6E-4984-B424-A029A8AF757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4D6-DB8F-402F-8861-1661335A7E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5A2-1BC5-45EB-B0FF-B019FA56052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8C6-A641-4991-81E4-3DD6417E51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2F1-7E1E-4286-B6AE-82B42AB3D1C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54C-B16D-4BAD-8EA6-EF2A87CDCA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4538-1690-4597-9973-7DBB26F0B81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DFE-03DC-4272-BF13-7565BEA798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6EF-1233-4689-92E7-D982A81BFAA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FC2-94B8-484F-B4D4-055C1C7B77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04760" y="3504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Eurostile"/>
                <a:ea typeface="宋体"/>
              </a:rPr>
              <a:t>Azure Soluti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944360" y="396252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Franklin Gothic Book"/>
                <a:ea typeface="宋体"/>
              </a:rPr>
              <a:t>Your Subtitle Goes Here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04760" y="37335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944360" y="419076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>WPS Office</dc:creator>
  <dc:description>WPS Office</dc:description>
  <cp:keywords>WPS Office</cp:keywords>
  <dc:language>en-US</dc:language>
  <cp:lastModifiedBy>a</cp:lastModifiedBy>
  <dcterms:modified xsi:type="dcterms:W3CDTF">2014-08-03T07:40:01Z</dcterms:modified>
  <cp:revision>87</cp:revision>
  <dc:subject/>
  <dc:title>Azure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