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5D7-CCAA-4367-8C5B-8CC08B64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0D6-BA1B-49E7-A2D0-0AD20275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409-75D1-46E1-8628-9E1446A3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370-8819-44DB-8B27-367DAA15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D039-D0B1-483B-B950-FB600886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9A21-DFDE-4BE4-BF69-12BA6B50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F2AE-AEB8-45B1-82AF-2ECDAA2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32AE-7798-4D77-A89A-FA0B1DA1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70EF-9747-4A27-8EE6-4459516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0DA4-A0B5-4C6C-A0D9-3C22609D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B16A-FF30-48B6-8BA0-B5B42EB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9B8-8B00-4D8C-8D85-8265DA98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76F-1EB9-4F9E-9A3F-0E88A03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35B7-4ED6-4592-9E2D-083A180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B11C-8AE6-42F1-A73A-DE860B51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C578-8AD6-4D1D-BA27-9401EC92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4FF3-F5D4-4192-AC11-6892FDB9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3549-CDEF-4EA2-9F28-77489BA7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099C-3C5A-4C4C-B5D0-DE86742A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A4F1-BBF8-44A1-B5CB-88B1CD10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40B4-CDB1-4F1A-B58D-7CD7F53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3DE8-D54A-46E1-93C5-1DD59BAD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2D4-EF35-4D19-87E7-2D2B99B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2AA4-5797-45A7-B250-C42E2E6E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09A4-A599-4854-906E-EE3EF54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AE82-C788-4F2F-9201-56F1F532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5E58-DCA4-43D5-99FD-FFF9751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8D39-155E-4716-966F-CCA18740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FDD7-7B83-4466-B699-97473C4E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6DC5-5BF2-4304-B947-C8F28B3D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55D-180D-4226-9F15-99EE03F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831-3B65-4EAF-A689-4442C8F4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A7D-D53B-4FF2-893D-B2B0E74C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A2A-7451-4ED1-B5E1-2B212351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670-4C6F-4C77-B425-E38CA37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E82-9187-4C30-A4D5-EB6C37D7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orme 7"/>
          <p:cNvGrpSpPr/>
          <p:nvPr/>
        </p:nvGrpSpPr>
        <p:grpSpPr>
          <a:xfrm>
            <a:off x="4383000" y="-4680"/>
            <a:ext cx="4760640" cy="601560"/>
            <a:chOff x="4383000" y="-4680"/>
            <a:chExt cx="4760640" cy="601560"/>
          </a:xfrm>
        </p:grpSpPr>
        <p:pic>
          <p:nvPicPr>
            <p:cNvPr id="2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4680"/>
              <a:ext cx="475956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1e1e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1e1e3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6" name="Group 6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7" name="Group 7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8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03040"/>
                <a:ext cx="91411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Text Box 9"/>
              <p:cNvSpPr/>
              <p:nvPr/>
            </p:nvSpPr>
            <p:spPr>
              <a:xfrm rot="21435600">
                <a:off x="-1404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11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7200" y="248040"/>
                <a:ext cx="91548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Text Box 12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7C95-E5FF-4AD0-BA1D-91BF89CC51CC}" type="datetime2">
              <a:rPr b="0" lang="en-US" sz="1200" spc="-1" strike="noStrike">
                <a:solidFill>
                  <a:srgbClr val="c7d7d9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E543-1074-4687-B3E5-46F4C880FDDA}" type="slidenum">
              <a:rPr b="0" lang="en-US" sz="1200" spc="-1" strike="noStrike">
                <a:solidFill>
                  <a:srgbClr val="c7d7d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Forme 7"/>
          <p:cNvGrpSpPr/>
          <p:nvPr/>
        </p:nvGrpSpPr>
        <p:grpSpPr>
          <a:xfrm>
            <a:off x="4383000" y="-4680"/>
            <a:ext cx="4760640" cy="601560"/>
            <a:chOff x="4383000" y="-4680"/>
            <a:chExt cx="4760640" cy="601560"/>
          </a:xfrm>
        </p:grpSpPr>
        <p:pic>
          <p:nvPicPr>
            <p:cNvPr id="54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4680"/>
              <a:ext cx="475956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8300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59" name="Group 7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6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03040"/>
                <a:ext cx="91411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9"/>
              <p:cNvSpPr/>
              <p:nvPr/>
            </p:nvSpPr>
            <p:spPr>
              <a:xfrm rot="21435600">
                <a:off x="-1404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0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63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7200" y="248040"/>
                <a:ext cx="91548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12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001D-7B8F-4FA4-B467-709534EF4A28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AFEC-3C2C-4784-93F1-1EF684400D19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1563-ED0B-47C8-90FA-8CA740C1094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E9CB-122B-4446-85F9-A0F9D965DD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57200" y="2785680"/>
            <a:ext cx="3114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ffffff"/>
                </a:solidFill>
                <a:latin typeface="Constantia"/>
              </a:rPr>
              <a:t>Company Name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77080" y="37465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7f8977"/>
                </a:solidFill>
                <a:latin typeface="Arial"/>
              </a:rPr>
              <a:t>Presentation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4428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4a606e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3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fr-CA" sz="5000" spc="-1" strike="noStrike">
                <a:solidFill>
                  <a:srgbClr val="4a606e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Object 3" descr=""/>
          <p:cNvPicPr/>
          <p:nvPr/>
        </p:nvPicPr>
        <p:blipFill>
          <a:blip r:embed="rId2"/>
          <a:stretch/>
        </p:blipFill>
        <p:spPr>
          <a:xfrm>
            <a:off x="1592280" y="2139840"/>
            <a:ext cx="598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8:10:29Z</dcterms:created>
  <dc:creator>Ric</dc:creator>
  <dc:description/>
  <dc:language>en-US</dc:language>
  <cp:lastModifiedBy>a</cp:lastModifiedBy>
  <dcterms:modified xsi:type="dcterms:W3CDTF">2015-01-14T05:58:43Z</dcterms:modified>
  <cp:revision>8</cp:revision>
  <dc:subject/>
  <dc:title>Presentation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