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DF7-06C5-4FA4-8E3D-BBE1851C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703-C172-4179-9BFC-8F8785B6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604-3927-4A59-B35F-AAD54B3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D6E-AD06-4770-BA1A-85276810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84E5-F645-4EA4-B61B-C6DDDA0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16A-1A19-47C7-894E-AEA1F4F1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E76-1028-43F6-AF09-44C335D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28E8-BE77-4040-8C01-A93789A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7EE7-CCDA-4759-9390-21F6BED6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895B-DF76-429E-A458-76EDE86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889C-0167-4082-B468-6243079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9BD-F02C-423C-ABEC-DF031C5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AED9-A276-4A7B-B7D6-4783CBD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B30A-2173-4E32-9226-E08E41B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C9D-8663-459C-A751-5071E2D8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008-4089-4C24-881C-8B2E1595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A7A-4B26-4BFC-8675-306F727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9E4-E1BA-4929-B6C3-6BBB382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C9F-C080-484F-A18E-9B84282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23F-C413-4941-8D8D-BEDF8088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4AA-9D46-4B0C-9F3A-58ADD827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CFA-CA42-41FD-9381-B4DC8CB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7A1-9404-45DF-B8CB-025A7D8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C64-E2A6-4018-9DA8-304B83E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3C6-AF27-4DF4-A609-39193D918F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C52D-7B58-4001-9A1B-39870C54E6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5894-AF95-41FC-8F5C-B2E668CD4B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D1C-3A31-406F-9935-E74E57C79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6:10:09Z</dcterms:created>
  <dc:creator>Administrator</dc:creator>
  <dc:description/>
  <dc:language>en-US</dc:language>
  <cp:lastModifiedBy>a</cp:lastModifiedBy>
  <dcterms:modified xsi:type="dcterms:W3CDTF">2015-01-14T06:04:1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