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8A2-35A3-4E1A-A8CE-7A0D89BE5A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88F-93A8-4DF1-B91D-14398076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82D-EAD8-4D93-BF91-031C2BFB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65E-BE6C-4B5F-8BD0-5A951796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09D-641A-4343-B437-040C9DE2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C303-3BBF-4760-B057-4856E119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04F-708D-404A-A6D1-22E8BBA1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32D-02A3-4AE0-86F6-AD210A65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D31-93C5-48F1-B6DC-FE36FDE8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72C-0507-4BE1-AF44-5518BCC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73D6-54BB-4013-B7CC-5BD170D0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2E2D-10EA-40BA-BD1D-BD888E5B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3F4-1D36-4703-9845-92ACF9D7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791A-1356-467A-B1A4-B077A11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9894-37CA-4A86-8290-7FB89940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F684-94BD-4EEB-88F2-B56C9382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28B-F834-45C6-BEA4-941A109C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274A-AA86-4DD5-B171-78C654C8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806B-F2B8-40DA-B03A-09A92CD1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C8FF-7CB1-4AB9-B89A-17F2839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5F27-9A7C-4DEC-AE74-8C15449A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17E0-9057-4CA8-81B0-68FF7D8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C582-FCBF-4BE8-8501-4CF2230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534-8CC0-4737-9C46-6C7DD2FA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271F-5D14-440B-B949-EDB176D9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1E28-058D-45B0-ABA1-9A2C65C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667D-B9D3-43ED-9618-95A7961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1EFB-0E0D-4744-A168-4192A4E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B555-4309-438F-99E0-9014B868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F76D-DDEE-466E-9954-138BA3F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7BD8-2E3D-4167-B696-5BD2FDC7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12F-BDFB-4FF5-B062-6320D837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364-9D89-4534-AC25-7CE096D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996-882D-4A3D-9B43-995F23DB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EF7-18DC-4A56-A00B-A31D8D5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32E-FBAA-4D39-B6DA-4646C8F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713-11FA-4E1D-880E-9305174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E774-C0C1-46C1-A146-78FE18C03FE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E572-D290-4DBD-93AB-181D48C50F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FF72-EC65-4E4F-BC8D-DE98B1364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938-054D-462C-A7B0-872ACB4DA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" Target="slide2.xm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805200"/>
            <a:ext cx="915840" cy="231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目录牌子">
            <a:hlinkClick r:id="rId3" action="ppaction://hlinksldjump"/>
          </p:cNvPr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2266920" y="3805200"/>
            <a:ext cx="915840" cy="231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目录牌子"/>
          <p:cNvPicPr/>
          <p:nvPr/>
        </p:nvPicPr>
        <p:blipFill>
          <a:blip r:embed="rId5"/>
          <a:srcRect l="45081" t="55486" r="44908" b="10721"/>
          <a:stretch/>
        </p:blipFill>
        <p:spPr>
          <a:xfrm>
            <a:off x="6116760" y="3805200"/>
            <a:ext cx="915840" cy="2317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rId6" action="ppaction://hlinksldjump"/>
          </p:cNvPr>
          <p:cNvSpPr/>
          <p:nvPr/>
        </p:nvSpPr>
        <p:spPr>
          <a:xfrm>
            <a:off x="198756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85920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84352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2d"/>
                </a:solidFill>
                <a:latin typeface="方正隶书简体"/>
                <a:ea typeface="方正隶书简体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内容返回">
            <a:hlinkClick r:id="rId2" action="ppaction://hlinksldjump"/>
          </p:cNvPr>
          <p:cNvPicPr/>
          <p:nvPr/>
        </p:nvPicPr>
        <p:blipFill>
          <a:blip r:embed="rId3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过渡圈点"/>
          <p:cNvPicPr/>
          <p:nvPr/>
        </p:nvPicPr>
        <p:blipFill>
          <a:blip r:embed="rId4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过渡横条"/>
          <p:cNvPicPr/>
          <p:nvPr/>
        </p:nvPicPr>
        <p:blipFill>
          <a:blip r:embed="rId5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2d"/>
                </a:solidFill>
                <a:latin typeface="方正隶书简体"/>
                <a:ea typeface="方正隶书简体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50"/>
                </a:solidFill>
                <a:latin typeface="方正隶书简体"/>
                <a:ea typeface="方正隶书简体"/>
              </a:rPr>
              <a:t>         </a:t>
            </a:r>
            <a:r>
              <a:rPr b="1" lang="zh-CN" sz="2400" spc="-1" strike="noStrike">
                <a:solidFill>
                  <a:srgbClr val="000050"/>
                </a:solidFill>
                <a:latin typeface="方正隶书简体"/>
                <a:ea typeface="方正隶书简体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边框"/>
          <p:cNvPicPr/>
          <p:nvPr/>
        </p:nvPicPr>
        <p:blipFill>
          <a:blip r:embed="rId3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2d"/>
                </a:solidFill>
                <a:latin typeface="Arial"/>
                <a:ea typeface="方正隶书简体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方正隶书简体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结束返回">
            <a:hlinkClick r:id="rId6" action="ppaction://hlinksldjump"/>
          </p:cNvPr>
          <p:cNvPicPr/>
          <p:nvPr/>
        </p:nvPicPr>
        <p:blipFill>
          <a:blip r:embed="rId7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封面竖条"/>
          <p:cNvPicPr/>
          <p:nvPr/>
        </p:nvPicPr>
        <p:blipFill>
          <a:blip r:embed="rId8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968560" y="3573360"/>
            <a:ext cx="1521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50"/>
                </a:solidFill>
                <a:latin typeface="Arial"/>
                <a:ea typeface="方正隶书简体"/>
              </a:rPr>
              <a:t>谢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0T08:01:41Z</dcterms:modified>
  <cp:revision>1</cp:revision>
  <dc:subject/>
  <dc:title>PowerPoint 演示文稿</dc:title>
</cp:coreProperties>
</file>