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2EE-B629-4568-B8BD-C2F5FCFF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D30-BE2B-4BA3-B82E-4BFA8720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98A-09F2-45BD-B9E2-E777385A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1C8-3835-4392-A3E8-DD4A496E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3D74-A323-4D29-B55D-551445C6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FE9-775D-4735-A492-C7CBD0A9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B6F6-4B57-479F-85F0-6DA4EF8F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B2D3-8622-4783-8C35-3AE46D63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13FF-1D2E-407F-BAEC-ED45475A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5485-301E-4850-83EC-80349C6A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0498-E44B-40BA-AF84-361F468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6AF-257D-4BE9-8D58-35610190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5DB2-09E1-4FC4-ACAB-F6095FC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D9CF-319D-4ED5-8F05-C1AD3CA1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F118-B0C1-4886-A16E-42FDBFFA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3EB4-0F1E-4AF7-B4E0-73687345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3C58-255D-46ED-ACC9-CC793197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D4C5-029F-4AE5-9771-F1A7BC3D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111A-257E-4A9E-A647-796D00C0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F691-C2D4-4D8C-B97A-4F4A0F4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5660-FDAC-4E94-8B7C-EEEFC0C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01BD-2D64-4729-84A8-2E70569F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377-AAD3-488E-BDE6-59E2B6F9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C933-2D9E-4907-B338-993ABD89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C4EC-0AC2-4DD0-B100-747369C7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B2CF-A705-4114-88BA-7BC507D7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28E5-1D0B-4A2B-9F1A-5005E34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17E5-08E7-4B4C-B4C9-18AD8954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7C48B-EBCC-40B8-92F1-70327F0E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1D05-B509-48B9-AEAF-6E95C685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FFC8-5C73-4710-9FCA-FB926A94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8EAF-7783-4433-9D85-C68F08A9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E17A6-770D-4CF2-AE3B-C0320613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540-9699-4778-A39B-5029FD0F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0DFB-57DE-4F6C-B205-D921F15A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27EE-8A0E-4076-8DDD-BD9678FE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BE70-FF01-462A-8F07-4D269E63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87C0-D76F-4094-B794-F1E0BC5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BA16B-FC61-44B6-A82F-979F0C78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E68C-67AE-4B9B-8E81-660542D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A01F-B290-4214-8AC6-FC4AF37F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66333-857E-4A80-8802-0CB4376D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F08B-F585-4855-8075-47576D35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FD2-0920-468E-8395-3A0973B0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A12-E62F-4983-A7F1-1CCF24F1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339-2C96-4FC0-A03B-C0968DF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4C9-9E22-45EA-B4D6-8A4A622F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092-722C-4505-9BB6-2A68F2F4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D41A-C620-41E6-9128-DACA0517DA6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003-BC44-449E-8787-7821CFD1DA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AD2C-ED9D-4E78-8548-976240465E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BE00-A5D9-4B28-AA95-DFEFEDD798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4F1D-E371-4BA4-AE89-ED39CC843E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Program Files\Microsoft Office\OFFICE11\MSOHTMED.EXE" TargetMode="External"/><Relationship Id="rId2" Type="http://schemas.openxmlformats.org/officeDocument/2006/relationships/hyperlink" Target="C:\Program Files\Microsoft Office\OFFICE11\MSOHTMED.EXE" TargetMode="External"/><Relationship Id="rId3" Type="http://schemas.openxmlformats.org/officeDocument/2006/relationships/hyperlink" Target="C:\Program Files\Microsoft Office\OFFICE11\MSOHTMED.EXE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2">
            <a:hlinkClick r:id="rId1"/>
          </p:cNvPr>
          <p:cNvSpPr/>
          <p:nvPr/>
        </p:nvSpPr>
        <p:spPr>
          <a:xfrm>
            <a:off x="1979640" y="-204840"/>
            <a:ext cx="689040" cy="681120"/>
          </a:xfrm>
          <a:prstGeom prst="ellipse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">
            <a:hlinkClick r:id="rId2"/>
          </p:cNvPr>
          <p:cNvSpPr/>
          <p:nvPr/>
        </p:nvSpPr>
        <p:spPr>
          <a:xfrm>
            <a:off x="-598320" y="-204840"/>
            <a:ext cx="6541920" cy="6545160"/>
          </a:xfrm>
          <a:prstGeom prst="ellipse">
            <a:avLst/>
          </a:prstGeom>
          <a:solidFill>
            <a:srgbClr val="55b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>
            <a:hlinkClick r:id="rId3"/>
          </p:cNvPr>
          <p:cNvSpPr/>
          <p:nvPr/>
        </p:nvSpPr>
        <p:spPr>
          <a:xfrm>
            <a:off x="8245440" y="1300320"/>
            <a:ext cx="1224000" cy="1223640"/>
          </a:xfrm>
          <a:prstGeom prst="ellipse">
            <a:avLst/>
          </a:prstGeom>
          <a:solidFill>
            <a:srgbClr val="a7b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09680" y="172728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2"/>
          <p:cNvPicPr/>
          <p:nvPr/>
        </p:nvPicPr>
        <p:blipFill>
          <a:blip r:embed="rId4"/>
          <a:stretch/>
        </p:blipFill>
        <p:spPr>
          <a:xfrm>
            <a:off x="6012000" y="3429000"/>
            <a:ext cx="2622240" cy="266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图片1副本"/>
          <p:cNvPicPr/>
          <p:nvPr/>
        </p:nvPicPr>
        <p:blipFill>
          <a:blip r:embed="rId5"/>
          <a:stretch/>
        </p:blipFill>
        <p:spPr>
          <a:xfrm>
            <a:off x="922320" y="476280"/>
            <a:ext cx="3505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5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7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31">
                                          <p:stCondLst>
                                            <p:cond delay="63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16">
                                          <p:stCondLst>
                                            <p:cond delay="125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>
                                          <p:stCondLst>
                                            <p:cond delay="1573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5" fill="hold">
                                          <p:stCondLst>
                                            <p:cond delay="6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58" fill="hold">
                                          <p:stCondLst>
                                            <p:cond delay="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5" fill="hold">
                                          <p:stCondLst>
                                            <p:cond delay="124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58" fill="hold">
                                          <p:stCondLst>
                                            <p:cond delay="127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5" fill="hold">
                                          <p:stCondLst>
                                            <p:cond delay="156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58" fill="hold">
                                          <p:stCondLst>
                                            <p:cond delay="158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5" fill="hold">
                                          <p:stCondLst>
                                            <p:cond delay="17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58" fill="hold">
                                          <p:stCondLst>
                                            <p:cond delay="17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34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9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98">
                                          <p:stCondLst>
                                            <p:cond delay="3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99">
                                          <p:stCondLst>
                                            <p:cond delay="79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8">
                                          <p:stCondLst>
                                            <p:cond delay="99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16" fill="hold">
                                          <p:stCondLst>
                                            <p:cond delay="39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00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6" fill="hold">
                                          <p:stCondLst>
                                            <p:cond delay="78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00" fill="hold">
                                          <p:stCondLst>
                                            <p:cond delay="803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6" fill="hold">
                                          <p:stCondLst>
                                            <p:cond delay="98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6" fill="hold">
                                          <p:stCondLst>
                                            <p:cond delay="108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00" fill="hold">
                                          <p:stCondLst>
                                            <p:cond delay="11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58 -0.280709 C -0.006357 -0.304128 0.047896 -0.327526 0.067272 -0.327526 C 0.187403 -0.327526 0.311409 0.038297 0.311409 0.404097 C 0.311409 0.219727 0.373413 0.038275 0.431541 0.038275 C 0.493544 0.038275 0.551672 0.222646 0.551672 0.404097 C 0.551672 0.313383 0.582674 0.219727 0.613675 0.219727 C 0.644677 0.219727 0.675679 0.310441 0.675679 0.404097 C 0.675679 0.35728 0.691179 0.313383 0.70668 0.313383 C 0.722181 0.313383 0.737682 0.3602 0.737682 0.404097 C 0.737682 0.380678 0.745431 0.35728 0.753182 0.35728 C 0.757058 0.35728 0.768682 0.3807 0.768682 0.404097 C 0.768682 0.392399 0.772559 0.380678 0.776434 0.380678 C 0.776434 0.383597 0.784184 0.392377 0.784184 0.404097 C 0.784184 0.398237 0.784184 0.392399 0.788058 0.392399 C 0.788058 0.395318 0.791935 0.398259 0.791935 0.404097 C 0.791935 0.401178 0.791935 0.398237 0.791935 0.395318 C 0.79581 0.395318 0.79581 0.398237 0.79581 0.401178 C 0.799685 0.401178 0.799685 0.398259 0.799685 0.395318 C 0.803559 0.395318 0.803559 0.398237 0.803559 0.401178 E">
                                      <p:cBhvr>
                                        <p:cTn id="57" dur="33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 rot="562200">
            <a:off x="1589400" y="3071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7a2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 rot="20521800">
            <a:off x="3458880" y="1334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8583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 rot="330000">
            <a:off x="8071560" y="3071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6345d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 flipH="1">
            <a:off x="7740720" y="5734080"/>
            <a:ext cx="1403280" cy="574560"/>
          </a:xfrm>
          <a:custGeom>
            <a:avLst/>
            <a:gdLst>
              <a:gd name="textAreaLeft" fmla="*/ 360 w 1403280"/>
              <a:gd name="textAreaRight" fmla="*/ 1404000 w 14032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59040" y="3519000"/>
            <a:ext cx="3893400" cy="3056760"/>
            <a:chOff x="59040" y="3519000"/>
            <a:chExt cx="3893400" cy="3056760"/>
          </a:xfrm>
        </p:grpSpPr>
        <p:pic>
          <p:nvPicPr>
            <p:cNvPr id="175" name="Picture 7" descr="6"/>
            <p:cNvPicPr/>
            <p:nvPr/>
          </p:nvPicPr>
          <p:blipFill>
            <a:blip r:embed="rId1"/>
            <a:stretch/>
          </p:blipFill>
          <p:spPr>
            <a:xfrm rot="16440000">
              <a:off x="603000" y="3193920"/>
              <a:ext cx="2805120" cy="37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2"/>
            <p:cNvPicPr/>
            <p:nvPr/>
          </p:nvPicPr>
          <p:blipFill>
            <a:blip r:embed="rId2"/>
            <a:stretch/>
          </p:blipFill>
          <p:spPr>
            <a:xfrm>
              <a:off x="152280" y="4133160"/>
              <a:ext cx="3482280" cy="21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9"/>
          <p:cNvGrpSpPr/>
          <p:nvPr/>
        </p:nvGrpSpPr>
        <p:grpSpPr>
          <a:xfrm>
            <a:off x="5181480" y="283680"/>
            <a:ext cx="3897000" cy="3691800"/>
            <a:chOff x="5181480" y="283680"/>
            <a:chExt cx="3897000" cy="3691800"/>
          </a:xfrm>
        </p:grpSpPr>
        <p:pic>
          <p:nvPicPr>
            <p:cNvPr id="178" name="Picture 10" descr="14"/>
            <p:cNvPicPr/>
            <p:nvPr/>
          </p:nvPicPr>
          <p:blipFill>
            <a:blip r:embed="rId3">
              <a:lum contrast="12000"/>
            </a:blip>
            <a:srcRect l="0" t="0" r="-394" b="-130"/>
            <a:stretch/>
          </p:blipFill>
          <p:spPr>
            <a:xfrm rot="6720000">
              <a:off x="5765400" y="579240"/>
              <a:ext cx="272916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" descr="3"/>
            <p:cNvPicPr/>
            <p:nvPr/>
          </p:nvPicPr>
          <p:blipFill>
            <a:blip r:embed="rId4"/>
            <a:stretch/>
          </p:blipFill>
          <p:spPr>
            <a:xfrm rot="600000">
              <a:off x="5723280" y="1384560"/>
              <a:ext cx="2808360" cy="175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12"/>
          <p:cNvGrpSpPr/>
          <p:nvPr/>
        </p:nvGrpSpPr>
        <p:grpSpPr>
          <a:xfrm>
            <a:off x="2529720" y="1199880"/>
            <a:ext cx="3908520" cy="3956760"/>
            <a:chOff x="2529720" y="1199880"/>
            <a:chExt cx="3908520" cy="3956760"/>
          </a:xfrm>
        </p:grpSpPr>
        <p:pic>
          <p:nvPicPr>
            <p:cNvPr id="181" name="Picture 13" descr="8"/>
            <p:cNvPicPr/>
            <p:nvPr/>
          </p:nvPicPr>
          <p:blipFill>
            <a:blip r:embed="rId5"/>
            <a:stretch/>
          </p:blipFill>
          <p:spPr>
            <a:xfrm rot="21300000">
              <a:off x="2836080" y="1343160"/>
              <a:ext cx="3448800" cy="36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4" descr="1"/>
            <p:cNvPicPr/>
            <p:nvPr/>
          </p:nvPicPr>
          <p:blipFill>
            <a:blip r:embed="rId6"/>
            <a:stretch/>
          </p:blipFill>
          <p:spPr>
            <a:xfrm rot="20940000">
              <a:off x="2700360" y="2365560"/>
              <a:ext cx="3383280" cy="211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9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9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7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7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9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uanqibazuo副本"/>
          <p:cNvPicPr/>
          <p:nvPr/>
        </p:nvPicPr>
        <p:blipFill>
          <a:blip r:embed="rId1"/>
          <a:stretch/>
        </p:blipFill>
        <p:spPr>
          <a:xfrm>
            <a:off x="539640" y="-595440"/>
            <a:ext cx="7758360" cy="5824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4"/>
          <p:cNvPicPr/>
          <p:nvPr/>
        </p:nvPicPr>
        <p:blipFill>
          <a:blip r:embed="rId2"/>
          <a:stretch/>
        </p:blipFill>
        <p:spPr>
          <a:xfrm>
            <a:off x="684360" y="1197000"/>
            <a:ext cx="79200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1"/>
          <p:cNvPicPr/>
          <p:nvPr/>
        </p:nvPicPr>
        <p:blipFill>
          <a:blip r:embed="rId1"/>
          <a:stretch/>
        </p:blipFill>
        <p:spPr>
          <a:xfrm>
            <a:off x="431640" y="333360"/>
            <a:ext cx="8604360" cy="627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7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7120" y="393840"/>
            <a:ext cx="8636040" cy="649116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4"/>
          <p:cNvGrpSpPr/>
          <p:nvPr/>
        </p:nvGrpSpPr>
        <p:grpSpPr>
          <a:xfrm>
            <a:off x="1187280" y="1008000"/>
            <a:ext cx="3313440" cy="1916280"/>
            <a:chOff x="1187280" y="1008000"/>
            <a:chExt cx="3313440" cy="1916280"/>
          </a:xfrm>
        </p:grpSpPr>
        <p:sp>
          <p:nvSpPr>
            <p:cNvPr id="188" name="AutoShape 5"/>
            <p:cNvSpPr/>
            <p:nvPr/>
          </p:nvSpPr>
          <p:spPr>
            <a:xfrm>
              <a:off x="1187280" y="1008000"/>
              <a:ext cx="3313440" cy="1557360"/>
            </a:xfrm>
            <a:prstGeom prst="roundRect">
              <a:avLst>
                <a:gd name="adj" fmla="val 16667"/>
              </a:avLst>
            </a:prstGeom>
            <a:solidFill>
              <a:srgbClr val="54cbd8">
                <a:alpha val="60000"/>
              </a:srgbClr>
            </a:solidFill>
            <a:ln w="28440">
              <a:solidFill>
                <a:srgbClr val="8c2c6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6" descr="a4"/>
            <p:cNvPicPr/>
            <p:nvPr/>
          </p:nvPicPr>
          <p:blipFill>
            <a:blip r:embed="rId3"/>
            <a:srcRect l="0" t="73330" r="4827" b="7218"/>
            <a:stretch/>
          </p:blipFill>
          <p:spPr>
            <a:xfrm>
              <a:off x="1402920" y="2534400"/>
              <a:ext cx="2819520" cy="38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7"/>
          <p:cNvGrpSpPr/>
          <p:nvPr/>
        </p:nvGrpSpPr>
        <p:grpSpPr>
          <a:xfrm>
            <a:off x="3706920" y="3216240"/>
            <a:ext cx="4897080" cy="2590560"/>
            <a:chOff x="3706920" y="3216240"/>
            <a:chExt cx="4897080" cy="2590560"/>
          </a:xfrm>
        </p:grpSpPr>
        <p:sp>
          <p:nvSpPr>
            <p:cNvPr id="191" name="AutoShape 8"/>
            <p:cNvSpPr/>
            <p:nvPr/>
          </p:nvSpPr>
          <p:spPr>
            <a:xfrm>
              <a:off x="3706920" y="3935880"/>
              <a:ext cx="4824000" cy="1870920"/>
            </a:xfrm>
            <a:prstGeom prst="roundRect">
              <a:avLst>
                <a:gd name="adj" fmla="val 16667"/>
              </a:avLst>
            </a:prstGeom>
            <a:solidFill>
              <a:srgbClr val="ffb89b">
                <a:alpha val="80000"/>
              </a:srgbClr>
            </a:solidFill>
            <a:ln w="28440">
              <a:solidFill>
                <a:srgbClr val="be148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9" descr="a1"/>
            <p:cNvPicPr/>
            <p:nvPr/>
          </p:nvPicPr>
          <p:blipFill>
            <a:blip r:embed="rId4"/>
            <a:srcRect l="3775" t="0" r="0" b="74338"/>
            <a:stretch/>
          </p:blipFill>
          <p:spPr>
            <a:xfrm>
              <a:off x="3781440" y="3216240"/>
              <a:ext cx="4822560" cy="72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10"/>
          <p:cNvGrpSpPr/>
          <p:nvPr/>
        </p:nvGrpSpPr>
        <p:grpSpPr>
          <a:xfrm>
            <a:off x="539640" y="3718080"/>
            <a:ext cx="2664000" cy="1655640"/>
            <a:chOff x="539640" y="3718080"/>
            <a:chExt cx="2664000" cy="1655640"/>
          </a:xfrm>
        </p:grpSpPr>
        <p:sp>
          <p:nvSpPr>
            <p:cNvPr id="194" name="AutoShape 11"/>
            <p:cNvSpPr/>
            <p:nvPr/>
          </p:nvSpPr>
          <p:spPr>
            <a:xfrm>
              <a:off x="539640" y="4220280"/>
              <a:ext cx="2663640" cy="1153440"/>
            </a:xfrm>
            <a:prstGeom prst="roundRect">
              <a:avLst>
                <a:gd name="adj" fmla="val 16667"/>
              </a:avLst>
            </a:prstGeom>
            <a:solidFill>
              <a:srgbClr val="ccff66"/>
            </a:solidFill>
            <a:ln w="28440">
              <a:solidFill>
                <a:srgbClr val="7b276b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12" descr="a2"/>
            <p:cNvPicPr/>
            <p:nvPr/>
          </p:nvPicPr>
          <p:blipFill>
            <a:blip r:embed="rId5"/>
            <a:srcRect l="0" t="0" r="0" b="66048"/>
            <a:stretch/>
          </p:blipFill>
          <p:spPr>
            <a:xfrm>
              <a:off x="540000" y="3718080"/>
              <a:ext cx="2663640" cy="52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13"/>
          <p:cNvGrpSpPr/>
          <p:nvPr/>
        </p:nvGrpSpPr>
        <p:grpSpPr>
          <a:xfrm>
            <a:off x="5148360" y="1125360"/>
            <a:ext cx="2952720" cy="1749600"/>
            <a:chOff x="5148360" y="1125360"/>
            <a:chExt cx="2952720" cy="1749600"/>
          </a:xfrm>
        </p:grpSpPr>
        <p:sp>
          <p:nvSpPr>
            <p:cNvPr id="197" name="AutoShape 14"/>
            <p:cNvSpPr/>
            <p:nvPr/>
          </p:nvSpPr>
          <p:spPr>
            <a:xfrm>
              <a:off x="5148360" y="1125360"/>
              <a:ext cx="2952720" cy="1150920"/>
            </a:xfrm>
            <a:prstGeom prst="roundRect">
              <a:avLst>
                <a:gd name="adj" fmla="val 16667"/>
              </a:avLst>
            </a:prstGeom>
            <a:solidFill>
              <a:srgbClr val="fdfa6a">
                <a:alpha val="60000"/>
              </a:srgbClr>
            </a:solidFill>
            <a:ln w="28440">
              <a:solidFill>
                <a:srgbClr val="be148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15" descr="a3"/>
            <p:cNvPicPr/>
            <p:nvPr/>
          </p:nvPicPr>
          <p:blipFill>
            <a:blip r:embed="rId6"/>
            <a:srcRect l="7630" t="71671" r="8197" b="0"/>
            <a:stretch/>
          </p:blipFill>
          <p:spPr>
            <a:xfrm>
              <a:off x="5219280" y="2255400"/>
              <a:ext cx="2590920" cy="6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1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9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1.85185E-006 L 1.66667E-006 -0.02107 E">
                                      <p:cBhvr>
                                        <p:cTn id="114" dur="8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图片1"/>
          <p:cNvPicPr/>
          <p:nvPr/>
        </p:nvPicPr>
        <p:blipFill>
          <a:blip r:embed="rId1"/>
          <a:stretch/>
        </p:blipFill>
        <p:spPr>
          <a:xfrm>
            <a:off x="3348000" y="3313080"/>
            <a:ext cx="2955960" cy="364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图片1副本"/>
          <p:cNvPicPr/>
          <p:nvPr/>
        </p:nvPicPr>
        <p:blipFill>
          <a:blip r:embed="rId2"/>
          <a:srcRect l="0" t="24897" r="0" b="60752"/>
          <a:stretch/>
        </p:blipFill>
        <p:spPr>
          <a:xfrm>
            <a:off x="2728800" y="1673280"/>
            <a:ext cx="421956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9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799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9T06:51:51Z</dcterms:modified>
  <cp:revision>1</cp:revision>
  <dc:subject/>
  <dc:title>PowerPoint 演示文稿</dc:title>
</cp:coreProperties>
</file>