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B67-F015-4482-9313-51EA13B7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2A0-2D8D-4BA7-B923-A60B936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249B1-C28B-4BA2-A359-A00DF17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D5E86-AD90-47BA-A194-69787BF9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80BAE-A8AC-434F-92E8-E473159E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39049-3190-4E4F-B5B8-ADF8BF9E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B0634-82C2-40A1-8BFF-E480F533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0086F-CFC6-49A6-9ED3-ECD21DF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5D6B4-7210-4CD9-A53B-A2B699DD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10E1B-7498-4313-985E-22760318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B2CFE-098E-49D3-9176-2379BA95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DF3B0-99E8-4360-8C34-BE27F134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AF4-00A8-4D88-BD43-44F0D0A6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A549F-3BC7-45CE-99FF-303EAEEB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76D3E-4E90-4DEF-A9DB-30FCD6B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6BFD2-521E-48D4-949C-0AAF2C3B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3E7BC-8F2A-45DB-A566-9242F2FF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FAEE0-8F2C-4D0C-9B4E-343E4E08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1D70F-565F-45D6-B43B-6B02C5B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BE8B6-665C-4FF7-ADC1-C13CACD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A10EB-45C1-435B-897E-AD6D522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C601D-BDDE-4EDF-90D2-DFFF5EF1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A727D-8589-46B6-A919-D726BC6D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2B9-B465-48F3-9854-17B71042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D830A-2DF2-4ADC-AC4F-D3F1E8D7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89132-B697-42F5-929E-B34E2DC2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DD586-D1F1-49B9-8CC5-7EE88085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6AF9B-F893-4679-9A9D-696212E7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3BFD7-0008-4780-BACC-CDFD6D3C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9907E-2A80-4679-9C57-45A935E2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571DF-026B-4794-9AE6-7C0831E3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C0075-F97F-4291-96AB-6659DE2C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1AE3C-7D32-4EFE-8194-5ED281A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2C9A2-BC93-47F4-9467-F969F5D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0AE1-0258-4CE1-B1EB-5BA5C2C8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0F681-4FFB-4ECC-BB18-BFDE45E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896D8-8DEB-43B9-B5F3-FF1BF636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C8C83-19AA-4875-87C7-B330C431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0EEB6-E9AF-4B5A-86B9-E7D4EAC5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C68E7-96FB-4AB9-824C-60F17E59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A8E2A-C031-492B-B454-5C941687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DBB24-DA5C-4172-A332-38525F60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6E896-D6DF-4B9A-9D8C-83F1DC5D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CDDC6-9DA1-4EAB-BC00-C099DAF9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547F7-06DC-48E7-90CF-DD1B00F4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F7AD-F78A-44F4-892D-82CB7540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8A9C8-64F8-4467-B02C-E777223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A0220-B703-4A69-B651-74A223D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177B2-B941-4C6C-AD7F-92BD93E1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7C0C3-DB5C-4714-8E71-894988A3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1B454-6EC6-4A57-AB6A-961D807E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FD239-F877-454C-99E2-D239102B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3A297-5345-4916-BCB6-787C2445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9C1C3-C6D7-4495-998A-76DAB11F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F8C41-1B98-4298-81D0-33DB0223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A6FA0-F53A-4FDD-A576-AE2F0B6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5836-4E00-432F-8D4E-BE4DBCB9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14CD8-DC57-4C59-8533-DF047144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1752F-D272-4893-88E2-D2A4B158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26BD6-C1CF-4CCC-B748-299878C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8A7E0-DE5A-4793-9FFB-3EB7742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ADC55-3B1C-4A5A-B67C-53CC4740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9B195-C7CB-4982-AE4F-328EC9CA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C9807-F9AE-4D16-9FAE-6690A700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4EB1-1051-4F9E-91E5-8A44E44F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E280-550B-432C-8A95-0335CDE7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39B7-420C-45EB-9267-12533DDC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F62B-DAA6-4CE5-9C38-2618367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4F1-6C3F-4C0E-98BB-A1242CF1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B357-CCDD-4AC4-A39E-14A8D06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50FF-4FC9-4B49-AC55-7DE9AA9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FF6C-93A2-446F-9FFE-750D5ED4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2AAC-7C42-4E3C-A98E-A99911C8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5CF8-CE37-44E9-A3E5-C6BD0A9A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6B0F-5722-4CE1-B7B2-0C438E77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9220-ED62-47F8-876D-BF1EC4DF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F4DB-1C67-4B7C-8663-7A721F65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A182-0AE7-41BF-9F6B-78EE05A5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D905-54B8-4F65-AFA5-1B1AAE93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9B2-C6AC-4A7B-AB8A-75C46208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2C44-FB09-410B-BFD2-B6196504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2262-7588-4D33-B065-6AB8EF9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302F-A877-4CEF-9C04-7D54C69F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D5AE-1316-418C-A399-CFB497E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53B3-7C87-478C-8F09-05F5268C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F20F-8A98-4B2B-9160-EC3A56B9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161F-94CD-40D9-BB49-516A1B0D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2699-A244-4EF8-8686-7F4C506B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11C1-0BF1-4735-81B8-C0208E6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9849-5079-473F-B09F-C42B2FEE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A52-81D0-4E85-AED6-C571416C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0648A-2159-4991-87B8-4BC94B0E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E2D97-DCD6-4606-9BB7-2A47239B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F12C-539C-4994-8185-89281FFC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67ED-0888-4B3B-A35D-EA0E5015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B662-EBD0-4C71-A0EE-8C8CD6E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212B-DD09-4D94-BFE4-4821D9C2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602B4-761A-49ED-A40F-47B1D7FA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20791-C7C1-4B51-8459-B24CD4C1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F3DA-D1F6-4791-AD15-90701E2B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4D7C5-7224-473B-8403-4E7DEB9F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933-C30D-4D20-BD37-7D3DC81C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B3A19-8A4C-4B54-B981-C73FEFB7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A61E1-D634-4A20-B719-A094D46A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1DB2E-5562-41A0-A189-43492FAE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E344B-EB7F-4A82-A918-43022E0C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4350F-4F81-4861-9DC2-41DF4561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B71E7-2BF4-40A0-B09D-A993266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79C2-3E6F-4806-85DD-1FEC2D81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C2CCE-3ED0-497A-9CE6-25C07FC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D624-AC11-471F-B465-F0F7C43B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19AA0-275E-4FB4-AFEE-20B75AA0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95C-1E36-430B-81F6-36F7B15C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FF19-4690-4662-8188-5A7113C1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9D0E4-2698-4E9C-947A-6D3DF64A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DA213-0D79-4398-A56F-5D17716A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0C8F9-0F5B-4365-99A9-874AC34D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1438A-AAAF-44CA-92A8-AADD4E14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7877F-8162-4276-9234-B788E8F0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FCEB-86A7-40E4-A836-ADD4102F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C2BD-057F-42D4-8644-02B634BF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65DE1-368B-4125-B409-5ABD990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C78B2-B652-463B-89AB-1952DD9B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CA8-9D23-4D81-9EFB-3E6E5907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2E1A3-CB77-45F0-8DD7-548BA79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B4C18-1BDA-40A3-82D9-01AEE730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97BF-DA13-4A5F-BCA7-EA988CAD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006E6-3FBD-4CA9-A0AE-0A2B1890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C215-539D-4600-A496-5F512B0D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9D964-E771-45F2-9B67-EFDCD8E5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6C80-CDC4-4C6A-BAF2-1004ABAD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75CC0-09F3-4334-BBE3-EAF06858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EB018-8253-410A-B845-680A3FF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BF29E-954D-471C-912A-D1B4EE4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4BE-4580-4EA0-B3F6-8090493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60B11-54F9-4FE6-923F-1C89722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80B2D-4337-49C4-87BD-CC71B34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32427-5B04-47C7-8341-145874B6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37756-5E43-49AF-9511-9DFB1817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D7365-66C6-4B4A-82F9-3C10AFC3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7DF06-3720-4485-82F5-E56CA345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D1D5A-F033-4F0C-BC4E-25ECE25D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E0720-8A64-4588-BC6C-D8BB3E4A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E0E7-CE4D-41E4-B157-648372A1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268F-C5E7-47B2-A1CC-E71E535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DCD-9E69-4490-83C8-C00B3C64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579FD-7239-4321-B27C-BF7B6AF4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09F02-19EC-415E-BB70-85222290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4C5E5-B69A-4F88-9DF2-A369AA0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E2F8E-AAE3-4830-856A-5566AA4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42104-393C-44BF-BD29-EA1D34D0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EB625-BC24-4B93-85D0-20E543BE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584EA-F607-43B0-BD31-D9EEDE17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F0274-7AB0-4BA4-991D-65832C06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C189-9648-4D10-B49A-1904C1F8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03375-7EE4-4591-8670-D3CB1C51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52DC-C5D7-42E4-BB82-0B2CB424C1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4E33-F95F-4202-83F9-056718E9484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071B-8B58-44E9-8D64-5F5E3CEC611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8602-4EE9-441A-B5B6-92EA098687E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6600-FA8C-4378-AFAC-27FA520A040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AE0C-ED5E-4739-BA4B-1EB915324E6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4506-CF2C-47BE-8427-10BB7A97C0A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F652-B099-494E-8D01-E9DC4341E54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F944-55EF-4621-8A3F-86DE8F979B6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4B8C-9CB7-44E3-BF79-AFB192695E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A2BF-B8A8-4435-BF6F-6935C63985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60B3-0E30-4C49-8CEE-D4B286F21D5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72FE-70F8-4D31-AC2F-B221F4C7CEB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700F-DECC-48EB-BF3D-03792819DEA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E76-0908-4750-8DF1-D074745F99B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A832-0BC8-4D62-A6DD-05B9134842B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2CEC-CFDF-4090-8F7A-D381F5E18A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FEEA-C675-4D74-BD92-4B369229E74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E245-3131-4765-8C92-17B1B8A4657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5184-FCC6-4D51-8AE3-C240422DA25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BECF-D928-462E-9367-353C104B419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869E-281D-4F7B-8478-0ED12FD714A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0095-6B9E-4808-994B-1BA252FFC39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B47-34A7-49A7-99F2-3421EC956AA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F3F-D8D4-477D-B690-3B7EFA11F8C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左上蓝云"/>
          <p:cNvPicPr/>
          <p:nvPr/>
        </p:nvPicPr>
        <p:blipFill>
          <a:blip r:embed="rId1"/>
          <a:stretch/>
        </p:blipFill>
        <p:spPr>
          <a:xfrm>
            <a:off x="4680" y="228600"/>
            <a:ext cx="7742160" cy="12762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左上黄云"/>
          <p:cNvPicPr/>
          <p:nvPr/>
        </p:nvPicPr>
        <p:blipFill>
          <a:blip r:embed="rId2"/>
          <a:stretch/>
        </p:blipFill>
        <p:spPr>
          <a:xfrm>
            <a:off x="4680" y="4680"/>
            <a:ext cx="8390160" cy="12668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style"/>
          <p:cNvPicPr/>
          <p:nvPr/>
        </p:nvPicPr>
        <p:blipFill>
          <a:blip r:embed="rId3"/>
          <a:stretch/>
        </p:blipFill>
        <p:spPr>
          <a:xfrm>
            <a:off x="2614680" y="876240"/>
            <a:ext cx="6757920" cy="5964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江南"/>
          <p:cNvPicPr/>
          <p:nvPr/>
        </p:nvPicPr>
        <p:blipFill>
          <a:blip r:embed="rId4"/>
          <a:stretch/>
        </p:blipFill>
        <p:spPr>
          <a:xfrm>
            <a:off x="5343480" y="1353960"/>
            <a:ext cx="2559240" cy="1968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右下圆角"/>
          <p:cNvPicPr/>
          <p:nvPr/>
        </p:nvPicPr>
        <p:blipFill>
          <a:blip r:embed="rId5"/>
          <a:stretch/>
        </p:blipFill>
        <p:spPr>
          <a:xfrm>
            <a:off x="9887040" y="4238640"/>
            <a:ext cx="2334960" cy="26449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7"/>
          <p:cNvSpPr/>
          <p:nvPr/>
        </p:nvSpPr>
        <p:spPr>
          <a:xfrm>
            <a:off x="10631520" y="5238720"/>
            <a:ext cx="16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What Is thi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8" descr="鸟叔"/>
          <p:cNvPicPr/>
          <p:nvPr/>
        </p:nvPicPr>
        <p:blipFill>
          <a:blip r:embed="rId6"/>
          <a:stretch/>
        </p:blipFill>
        <p:spPr>
          <a:xfrm>
            <a:off x="7915320" y="1362240"/>
            <a:ext cx="1428840" cy="2209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抖动"/>
          <p:cNvPicPr/>
          <p:nvPr/>
        </p:nvPicPr>
        <p:blipFill>
          <a:blip r:embed="rId7"/>
          <a:stretch/>
        </p:blipFill>
        <p:spPr>
          <a:xfrm>
            <a:off x="7920000" y="2900520"/>
            <a:ext cx="185724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左上蓝云"/>
          <p:cNvPicPr/>
          <p:nvPr/>
        </p:nvPicPr>
        <p:blipFill>
          <a:blip r:embed="rId1"/>
          <a:stretch/>
        </p:blipFill>
        <p:spPr>
          <a:xfrm>
            <a:off x="-6480" y="104760"/>
            <a:ext cx="7732800" cy="12762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左上黄云"/>
          <p:cNvPicPr/>
          <p:nvPr/>
        </p:nvPicPr>
        <p:blipFill>
          <a:blip r:embed="rId2"/>
          <a:stretch/>
        </p:blipFill>
        <p:spPr>
          <a:xfrm>
            <a:off x="0" y="-6480"/>
            <a:ext cx="8385120" cy="12589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conbg"/>
          <p:cNvPicPr/>
          <p:nvPr/>
        </p:nvPicPr>
        <p:blipFill>
          <a:blip r:embed="rId3"/>
          <a:stretch/>
        </p:blipFill>
        <p:spPr>
          <a:xfrm>
            <a:off x="-11160" y="1450800"/>
            <a:ext cx="12246120" cy="53708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5"/>
          <p:cNvSpPr/>
          <p:nvPr/>
        </p:nvSpPr>
        <p:spPr>
          <a:xfrm>
            <a:off x="1401480" y="174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你是什么范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6" descr="leg"/>
          <p:cNvPicPr/>
          <p:nvPr/>
        </p:nvPicPr>
        <p:blipFill>
          <a:blip r:embed="rId4"/>
          <a:stretch/>
        </p:blipFill>
        <p:spPr>
          <a:xfrm>
            <a:off x="-49320" y="4433760"/>
            <a:ext cx="1630440" cy="16858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7"/>
          <p:cNvSpPr/>
          <p:nvPr/>
        </p:nvSpPr>
        <p:spPr>
          <a:xfrm>
            <a:off x="293760" y="19033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很明显。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2752560" y="1865160"/>
            <a:ext cx="23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哥是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2211120" y="30448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Calibri"/>
              </a:rPr>
              <a:t>江南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10"/>
          <p:cNvSpPr/>
          <p:nvPr/>
        </p:nvSpPr>
        <p:spPr>
          <a:xfrm rot="19380000">
            <a:off x="3608640" y="3168360"/>
            <a:ext cx="4915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ff21"/>
                </a:solidFill>
                <a:latin typeface="Calibri"/>
              </a:rPr>
              <a:t>范！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左下蓝云"/>
          <p:cNvPicPr/>
          <p:nvPr/>
        </p:nvPicPr>
        <p:blipFill>
          <a:blip r:embed="rId1"/>
          <a:stretch/>
        </p:blipFill>
        <p:spPr>
          <a:xfrm>
            <a:off x="-34920" y="5472000"/>
            <a:ext cx="7772400" cy="13240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左下黄云"/>
          <p:cNvPicPr/>
          <p:nvPr/>
        </p:nvPicPr>
        <p:blipFill>
          <a:blip r:embed="rId2"/>
          <a:stretch/>
        </p:blipFill>
        <p:spPr>
          <a:xfrm>
            <a:off x="-25560" y="5719680"/>
            <a:ext cx="8496360" cy="1190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3q"/>
          <p:cNvPicPr/>
          <p:nvPr/>
        </p:nvPicPr>
        <p:blipFill>
          <a:blip r:embed="rId3"/>
          <a:stretch/>
        </p:blipFill>
        <p:spPr>
          <a:xfrm>
            <a:off x="1362240" y="604800"/>
            <a:ext cx="9432720" cy="50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1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左侧目录背景"/>
          <p:cNvPicPr/>
          <p:nvPr/>
        </p:nvPicPr>
        <p:blipFill>
          <a:blip r:embed="rId1"/>
          <a:stretch/>
        </p:blipFill>
        <p:spPr>
          <a:xfrm>
            <a:off x="-11160" y="0"/>
            <a:ext cx="3692520" cy="32162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692280" y="641520"/>
            <a:ext cx="227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4" descr="左下蓝云"/>
          <p:cNvPicPr/>
          <p:nvPr/>
        </p:nvPicPr>
        <p:blipFill>
          <a:blip r:embed="rId2"/>
          <a:stretch/>
        </p:blipFill>
        <p:spPr>
          <a:xfrm>
            <a:off x="4680" y="5910120"/>
            <a:ext cx="6402600" cy="1089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左下黄云"/>
          <p:cNvPicPr/>
          <p:nvPr/>
        </p:nvPicPr>
        <p:blipFill>
          <a:blip r:embed="rId3"/>
          <a:stretch/>
        </p:blipFill>
        <p:spPr>
          <a:xfrm>
            <a:off x="0" y="5977080"/>
            <a:ext cx="6416640" cy="900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每条栏目背景"/>
          <p:cNvPicPr/>
          <p:nvPr/>
        </p:nvPicPr>
        <p:blipFill>
          <a:blip r:embed="rId4"/>
          <a:stretch/>
        </p:blipFill>
        <p:spPr>
          <a:xfrm>
            <a:off x="7840800" y="447840"/>
            <a:ext cx="5141880" cy="938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7"/>
          <p:cNvSpPr/>
          <p:nvPr/>
        </p:nvSpPr>
        <p:spPr>
          <a:xfrm>
            <a:off x="8258040" y="703440"/>
            <a:ext cx="4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2b56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8916840" y="5778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神曲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9" descr="每条栏目背景"/>
          <p:cNvPicPr/>
          <p:nvPr/>
        </p:nvPicPr>
        <p:blipFill>
          <a:blip r:embed="rId5"/>
          <a:stretch/>
        </p:blipFill>
        <p:spPr>
          <a:xfrm>
            <a:off x="8405640" y="1593720"/>
            <a:ext cx="5142240" cy="938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"/>
          <p:cNvSpPr/>
          <p:nvPr/>
        </p:nvSpPr>
        <p:spPr>
          <a:xfrm>
            <a:off x="8823240" y="184932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2b56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9462960" y="1733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神曲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12" descr="每条栏目背景"/>
          <p:cNvPicPr/>
          <p:nvPr/>
        </p:nvPicPr>
        <p:blipFill>
          <a:blip r:embed="rId6"/>
          <a:stretch/>
        </p:blipFill>
        <p:spPr>
          <a:xfrm>
            <a:off x="8132760" y="2727360"/>
            <a:ext cx="5141880" cy="9381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3"/>
          <p:cNvSpPr/>
          <p:nvPr/>
        </p:nvSpPr>
        <p:spPr>
          <a:xfrm>
            <a:off x="8559720" y="301464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2b56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199440" y="28605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争相模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15" descr="每条栏目背景"/>
          <p:cNvPicPr/>
          <p:nvPr/>
        </p:nvPicPr>
        <p:blipFill>
          <a:blip r:embed="rId7"/>
          <a:stretch/>
        </p:blipFill>
        <p:spPr>
          <a:xfrm>
            <a:off x="7478640" y="3873600"/>
            <a:ext cx="5141880" cy="9381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6"/>
          <p:cNvSpPr/>
          <p:nvPr/>
        </p:nvSpPr>
        <p:spPr>
          <a:xfrm>
            <a:off x="7886880" y="415116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2b56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8545680" y="4016520"/>
            <a:ext cx="37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你是什么范儿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左上蓝云"/>
          <p:cNvPicPr/>
          <p:nvPr/>
        </p:nvPicPr>
        <p:blipFill>
          <a:blip r:embed="rId1"/>
          <a:stretch/>
        </p:blipFill>
        <p:spPr>
          <a:xfrm>
            <a:off x="-6480" y="123840"/>
            <a:ext cx="7736040" cy="1276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左上黄云"/>
          <p:cNvPicPr/>
          <p:nvPr/>
        </p:nvPicPr>
        <p:blipFill>
          <a:blip r:embed="rId2"/>
          <a:stretch/>
        </p:blipFill>
        <p:spPr>
          <a:xfrm>
            <a:off x="-25560" y="-34920"/>
            <a:ext cx="8382240" cy="12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过渡页面back"/>
          <p:cNvPicPr/>
          <p:nvPr/>
        </p:nvPicPr>
        <p:blipFill>
          <a:blip r:embed="rId3"/>
          <a:stretch/>
        </p:blipFill>
        <p:spPr>
          <a:xfrm>
            <a:off x="-1440" y="-763560"/>
            <a:ext cx="12199680" cy="76215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1429560" y="31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c2b56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6"/>
          <p:cNvSpPr/>
          <p:nvPr/>
        </p:nvSpPr>
        <p:spPr>
          <a:xfrm rot="20040000">
            <a:off x="4324680" y="24001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</a:rPr>
              <a:t>神曲介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/>
          <p:nvPr/>
        </p:nvSpPr>
        <p:spPr>
          <a:xfrm>
            <a:off x="9872640" y="619596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左上蓝云"/>
          <p:cNvPicPr/>
          <p:nvPr/>
        </p:nvPicPr>
        <p:blipFill>
          <a:blip r:embed="rId1"/>
          <a:stretch/>
        </p:blipFill>
        <p:spPr>
          <a:xfrm>
            <a:off x="-6480" y="104760"/>
            <a:ext cx="7734600" cy="1276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左上黄云"/>
          <p:cNvPicPr/>
          <p:nvPr/>
        </p:nvPicPr>
        <p:blipFill>
          <a:blip r:embed="rId2"/>
          <a:stretch/>
        </p:blipFill>
        <p:spPr>
          <a:xfrm>
            <a:off x="0" y="-6480"/>
            <a:ext cx="8385120" cy="1258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conbg"/>
          <p:cNvPicPr/>
          <p:nvPr/>
        </p:nvPicPr>
        <p:blipFill>
          <a:blip r:embed="rId3"/>
          <a:stretch/>
        </p:blipFill>
        <p:spPr>
          <a:xfrm>
            <a:off x="-11160" y="1469880"/>
            <a:ext cx="12246120" cy="53704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5"/>
          <p:cNvSpPr/>
          <p:nvPr/>
        </p:nvSpPr>
        <p:spPr>
          <a:xfrm>
            <a:off x="1591200" y="212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神曲介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6" descr="psyimg"/>
          <p:cNvPicPr/>
          <p:nvPr/>
        </p:nvPicPr>
        <p:blipFill>
          <a:blip r:embed="rId4"/>
          <a:stretch/>
        </p:blipFill>
        <p:spPr>
          <a:xfrm>
            <a:off x="142920" y="1895400"/>
            <a:ext cx="3352680" cy="436248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7"/>
          <p:cNvGrpSpPr/>
          <p:nvPr/>
        </p:nvGrpSpPr>
        <p:grpSpPr>
          <a:xfrm>
            <a:off x="3836880" y="2187720"/>
            <a:ext cx="8067960" cy="1783800"/>
            <a:chOff x="3836880" y="2187720"/>
            <a:chExt cx="8067960" cy="1783800"/>
          </a:xfrm>
        </p:grpSpPr>
        <p:sp>
          <p:nvSpPr>
            <p:cNvPr id="569" name="Text Box 8"/>
            <p:cNvSpPr/>
            <p:nvPr/>
          </p:nvSpPr>
          <p:spPr>
            <a:xfrm>
              <a:off x="3836880" y="2187720"/>
              <a:ext cx="80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江南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style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，（朝鲜语：강남 스타일，英语：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Gangnam Style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）是韩国歌手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PSY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的一首单曲，于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2012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年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月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日发布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Text Box 9"/>
            <p:cNvSpPr/>
            <p:nvPr/>
          </p:nvSpPr>
          <p:spPr>
            <a:xfrm>
              <a:off x="3941640" y="3054600"/>
              <a:ext cx="787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歌名“江南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style”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来自韩国俚语，指首都首尔一个象征着富裕与时尚的上流社会聚集的地区——江南区豪华奢靡的生活方式。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PSY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在音乐影片中跳着模仿骑马动作的滑稽舞步，取景都在江南区的各处地点，例如桑拿室、马房、旅游巴士等。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MV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由卢洪哲、刘在石、泫雅出演，延续了鸟叔的幽默风格，舞蹈也颇有亮点。即使歌曲取材自韩国的本土文化，对其文化背景不熟识的西方国家亦越来越流行，并引起了国际媒体关注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左上蓝云"/>
          <p:cNvPicPr/>
          <p:nvPr/>
        </p:nvPicPr>
        <p:blipFill>
          <a:blip r:embed="rId1"/>
          <a:stretch/>
        </p:blipFill>
        <p:spPr>
          <a:xfrm>
            <a:off x="-6480" y="123840"/>
            <a:ext cx="7736040" cy="12762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左上黄云"/>
          <p:cNvPicPr/>
          <p:nvPr/>
        </p:nvPicPr>
        <p:blipFill>
          <a:blip r:embed="rId2"/>
          <a:stretch/>
        </p:blipFill>
        <p:spPr>
          <a:xfrm>
            <a:off x="-25560" y="-34920"/>
            <a:ext cx="8380440" cy="12589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过渡页面back"/>
          <p:cNvPicPr/>
          <p:nvPr/>
        </p:nvPicPr>
        <p:blipFill>
          <a:blip r:embed="rId3"/>
          <a:stretch/>
        </p:blipFill>
        <p:spPr>
          <a:xfrm>
            <a:off x="-1440" y="-763560"/>
            <a:ext cx="12199680" cy="76215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5"/>
          <p:cNvSpPr/>
          <p:nvPr/>
        </p:nvSpPr>
        <p:spPr>
          <a:xfrm>
            <a:off x="1429560" y="31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c2b56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6"/>
          <p:cNvSpPr/>
          <p:nvPr/>
        </p:nvSpPr>
        <p:spPr>
          <a:xfrm rot="20040000">
            <a:off x="4324680" y="24001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</a:rPr>
              <a:t>神曲背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左上蓝云"/>
          <p:cNvPicPr/>
          <p:nvPr/>
        </p:nvPicPr>
        <p:blipFill>
          <a:blip r:embed="rId1"/>
          <a:stretch/>
        </p:blipFill>
        <p:spPr>
          <a:xfrm>
            <a:off x="-6480" y="104760"/>
            <a:ext cx="7734600" cy="12762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左上黄云"/>
          <p:cNvPicPr/>
          <p:nvPr/>
        </p:nvPicPr>
        <p:blipFill>
          <a:blip r:embed="rId2"/>
          <a:stretch/>
        </p:blipFill>
        <p:spPr>
          <a:xfrm>
            <a:off x="0" y="-6480"/>
            <a:ext cx="8385120" cy="12589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conbg"/>
          <p:cNvPicPr/>
          <p:nvPr/>
        </p:nvPicPr>
        <p:blipFill>
          <a:blip r:embed="rId3"/>
          <a:stretch/>
        </p:blipFill>
        <p:spPr>
          <a:xfrm>
            <a:off x="-11160" y="1469880"/>
            <a:ext cx="12246120" cy="53704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1591200" y="212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神曲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6" descr="F:\MyPsd\WPS主题PPT设计大赛20121029\xy.pngxy"/>
          <p:cNvPicPr/>
          <p:nvPr/>
        </p:nvPicPr>
        <p:blipFill>
          <a:blip r:embed="rId4"/>
          <a:stretch/>
        </p:blipFill>
        <p:spPr>
          <a:xfrm>
            <a:off x="142920" y="1995480"/>
            <a:ext cx="3352680" cy="41608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7"/>
          <p:cNvSpPr/>
          <p:nvPr/>
        </p:nvSpPr>
        <p:spPr>
          <a:xfrm>
            <a:off x="3684600" y="2120760"/>
            <a:ext cx="81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韩国首都首尔的江南区，是当地人眼中的富人聚集区，许多有钱人和社会名流在此居住，并且象征着“时尚”和“富裕”。而在《江南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》的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MV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中，大部分的外景都取自于位于江南区的桑拿房、马厩、游艇、海滩、旅游巴士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MV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由卢洪哲、刘在石、泫雅出演，延续了鸟叔的幽默风格，舞蹈也颇有亮点。江南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其实反映的就是当今韩国上流社会的风格，通俗的说就是高富帅的奢靡生活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左上蓝云"/>
          <p:cNvPicPr/>
          <p:nvPr/>
        </p:nvPicPr>
        <p:blipFill>
          <a:blip r:embed="rId1"/>
          <a:stretch/>
        </p:blipFill>
        <p:spPr>
          <a:xfrm>
            <a:off x="-6480" y="123840"/>
            <a:ext cx="7736040" cy="127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左上黄云"/>
          <p:cNvPicPr/>
          <p:nvPr/>
        </p:nvPicPr>
        <p:blipFill>
          <a:blip r:embed="rId2"/>
          <a:stretch/>
        </p:blipFill>
        <p:spPr>
          <a:xfrm>
            <a:off x="-25560" y="-34920"/>
            <a:ext cx="8380440" cy="1258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过渡页面back"/>
          <p:cNvPicPr/>
          <p:nvPr/>
        </p:nvPicPr>
        <p:blipFill>
          <a:blip r:embed="rId3"/>
          <a:stretch/>
        </p:blipFill>
        <p:spPr>
          <a:xfrm>
            <a:off x="-1440" y="-763560"/>
            <a:ext cx="12198240" cy="762156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5"/>
          <p:cNvSpPr/>
          <p:nvPr/>
        </p:nvSpPr>
        <p:spPr>
          <a:xfrm>
            <a:off x="1429560" y="31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c2b56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6"/>
          <p:cNvSpPr/>
          <p:nvPr/>
        </p:nvSpPr>
        <p:spPr>
          <a:xfrm rot="20040000">
            <a:off x="4324680" y="240012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</a:rPr>
              <a:t>争相模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左上蓝云"/>
          <p:cNvPicPr/>
          <p:nvPr/>
        </p:nvPicPr>
        <p:blipFill>
          <a:blip r:embed="rId1"/>
          <a:stretch/>
        </p:blipFill>
        <p:spPr>
          <a:xfrm>
            <a:off x="-6480" y="104760"/>
            <a:ext cx="7732800" cy="12762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左上黄云"/>
          <p:cNvPicPr/>
          <p:nvPr/>
        </p:nvPicPr>
        <p:blipFill>
          <a:blip r:embed="rId2"/>
          <a:stretch/>
        </p:blipFill>
        <p:spPr>
          <a:xfrm>
            <a:off x="0" y="-6480"/>
            <a:ext cx="8385120" cy="12589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conbg"/>
          <p:cNvPicPr/>
          <p:nvPr/>
        </p:nvPicPr>
        <p:blipFill>
          <a:blip r:embed="rId3"/>
          <a:stretch/>
        </p:blipFill>
        <p:spPr>
          <a:xfrm>
            <a:off x="-11160" y="1469880"/>
            <a:ext cx="12246120" cy="53704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5"/>
          <p:cNvSpPr/>
          <p:nvPr/>
        </p:nvSpPr>
        <p:spPr>
          <a:xfrm>
            <a:off x="1591200" y="212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争相模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6" descr="F:\MyPsd\WPS主题PPT设计大赛20121029\zx.pngzx"/>
          <p:cNvPicPr/>
          <p:nvPr/>
        </p:nvPicPr>
        <p:blipFill>
          <a:blip r:embed="rId4"/>
          <a:stretch/>
        </p:blipFill>
        <p:spPr>
          <a:xfrm>
            <a:off x="142920" y="3112920"/>
            <a:ext cx="3352680" cy="192564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3684600" y="2120760"/>
            <a:ext cx="81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MV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中 “简单、明快”的骑马舞步，让全世界的网友“癫狂”，引发了从名人到老百姓争相模仿的热潮。在美国有“小甜甜”布兰妮、“大力水手”罗宾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威廉姆斯都在学跳歌曲中的舞蹈，而汤姆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克鲁斯则在自己的主页上专门推荐了这首歌。亚洲的神话组合、张东健、李东赫都模仿过《江南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》的舞步。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792600" y="3905280"/>
            <a:ext cx="81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在明星模仿的引领下，短短三个月时间就引来了上千个版本的模仿，游戏界有“魔兽版”、“植物大战僵尸版”，电影版的剪辑包含了惊悚、喜剧、恐怖多个片种，还有母子版、萝莉版、红军版、韩国警察版、美国海军版等各个版本，《江南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》正像病毒一样快速蔓延。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左上蓝云"/>
          <p:cNvPicPr/>
          <p:nvPr/>
        </p:nvPicPr>
        <p:blipFill>
          <a:blip r:embed="rId1"/>
          <a:stretch/>
        </p:blipFill>
        <p:spPr>
          <a:xfrm>
            <a:off x="-6480" y="123840"/>
            <a:ext cx="7736040" cy="1276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左上黄云"/>
          <p:cNvPicPr/>
          <p:nvPr/>
        </p:nvPicPr>
        <p:blipFill>
          <a:blip r:embed="rId2"/>
          <a:stretch/>
        </p:blipFill>
        <p:spPr>
          <a:xfrm>
            <a:off x="-25560" y="-34920"/>
            <a:ext cx="8379000" cy="1258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过渡页面back"/>
          <p:cNvPicPr/>
          <p:nvPr/>
        </p:nvPicPr>
        <p:blipFill>
          <a:blip r:embed="rId3"/>
          <a:stretch/>
        </p:blipFill>
        <p:spPr>
          <a:xfrm>
            <a:off x="-1440" y="-763560"/>
            <a:ext cx="12198240" cy="762156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1429560" y="31050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c2b56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6"/>
          <p:cNvSpPr/>
          <p:nvPr/>
        </p:nvSpPr>
        <p:spPr>
          <a:xfrm rot="20040000">
            <a:off x="4221000" y="1949040"/>
            <a:ext cx="616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</a:rPr>
              <a:t>你是什么范儿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1-14T06:13:2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