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7A9EA-4137-4B4C-9859-4AFEBDEB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4BB9A-1EED-4E1D-9A00-67BEDFFB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B20DC-AD03-45C7-9406-A22C21F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AA761-B2B9-4306-BDCB-F7B8682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0E890-8F99-42CE-92E2-3062304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88CA6-DCA6-45D8-A094-68DCC04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980D4-C02D-4B8A-8EFA-7D9CE9E2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4342B-10B2-4689-B21E-0FF35A00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02200-BC4F-4A19-B38A-633ED54A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4C86F-8982-4978-9CAD-B67FE301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B043C-AFAD-4D07-AD8C-D431655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3DA01-49AA-4814-8EC2-0B3FC43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BE77A-D08D-4059-A7E7-9C304AA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2704F-7AC4-45CA-A8BD-CF7AFCB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CD136-10ED-4E91-8F70-B34FE27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F2EFD-C9A9-4BAB-96A2-150F3B5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A0F45-F992-49EC-9148-3C115AE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0EF52-7CFD-4989-AB37-DE10B51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4D164-46EC-47A0-914A-37C72EA4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F4842-B4AC-44A7-A605-E8B6AA2D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662E0-E33C-42EB-9643-4B1AB0A9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F0923C-C4C2-47F7-B3F1-98ADBA9F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657C3A-2A3C-4A64-9622-F590551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07F3B1-DF77-4529-BFB9-5FFF88B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7E9A5F-F82B-43B6-97AF-1C519FBC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05A5FF-CFE8-4945-AFA0-2A53DD7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BC30CD-B965-40B1-BE6A-648154A6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C6F91B-E7A2-42F9-A8DD-B86DFD0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3D52B1-4232-4BA0-9BD6-AB7E7C3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54E745-013E-4F0C-92A8-BBFDD35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0CBBA-7508-44A7-B3DE-CF27EE1F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F8BA82-6E4A-440D-9400-D8595D8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D08143-A932-4511-BE61-6A8AB22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872B71-30B0-4AD3-B606-C6B8D74E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97027-694C-4B4E-B2C5-5EB945B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859D4-857E-41EB-AD82-694144E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4515A-C2D3-414A-96F5-C460393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238CA-22F7-4281-873B-C599E9B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5D4D2-A5FC-42D0-B1C9-D25D553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34206-6175-485E-AA48-54E7015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7C749-3254-4D70-B54E-2E9918B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8B1F-8660-4E03-A96B-001BD2B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61708-EB8C-425E-95AF-5A1C722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1FDEE-1B49-4DCA-A9C7-7C2EB81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44F1C-2245-448A-A744-25F7AF4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E5CFC-6744-4727-835F-4414AAC9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E90F6-51AB-4562-B3CF-87440C79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A1E429-5579-4949-AF09-1E2701F3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1D008C-16D0-4CC1-A7AC-E1DF003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416CEC-0B9B-4DAD-B1AC-589B226E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24CAE1-34FD-4968-AFF3-9257A1C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0C9D14-17B7-43AC-AA58-2633EF23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F3EF6-D127-4955-BCC2-2B2DB121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2841B6-4C66-4CEE-A29A-8E9B617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9E08EA-321F-4CD2-B44D-2A10FEB3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E6C152-D060-4B43-9F9D-E347C21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B714D9-4F71-4624-A305-6F38E3C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ACC96-CC05-469D-B319-D5641EA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B4D486-79E8-41B6-A7F5-C5878F62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A64D48-1021-4FA1-A8E9-82F4348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8240-9175-47C0-81E0-2C35A7B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A8094-E87D-48B2-9263-83A2D0F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A08B2-0765-4A3E-BB9B-0933DFF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4F39-07B2-4C9E-B296-DEDFC90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3AC36-737E-4229-9CBE-E6C8441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62802-8930-438A-9050-EE21F28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73DE3-24EC-442F-B7F3-4264E01E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3BFA-0C9C-4820-BD08-973539B2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FE2C0-4614-476D-87BF-79FE373D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145FE-5F96-4BE5-8DD5-DE4D650C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8D5E9-B8AB-4162-AD0F-B0771FE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F80C9-42ED-4EA4-B305-0961592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186E7-6630-4B69-9478-2CAD3FC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66CAC-A300-4732-9AE1-5DA9CA0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6A39C-7E9C-47B8-9403-B6218DD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0FB39-131B-4BC7-B954-10501A4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441F7-9EE7-45AF-97CD-B893269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51E4-74AD-41F0-AFB8-E4868ED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E7749-C5C7-46E1-BBFC-4CC51227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845C4-B90E-4454-8777-21EBCD86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24EC6-451C-482F-9B5F-03724002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AE3BB-05B9-471D-BEED-BF1EE530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C0E1C-A17A-4DC9-8612-EEEAFEE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9BF11-30FF-4DB6-9924-463B74D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CD57E-7920-4A95-957A-2B07687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5EB2D-02DC-4DAD-86EF-0B82EE6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229AC-BEC9-4D5B-B1BE-898EED2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ADC45-AC17-4BB1-BB89-0B04B43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47583-63EB-4D16-8E15-1D1ED3D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70749-9B11-47FD-91D2-7DEA27D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24E55-BC71-4FE4-9D03-E258C361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CD821-4CBE-4FF2-B58E-514DFADF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F06FD3-9F49-4D08-88A3-FDC2061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C13A2-F6D6-4BB8-8FC3-3093AEDF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BE6A3-E94C-4A7E-A778-E67D43CD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705DE8-7A80-432A-93F9-D6F7108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B71FA-C053-4540-A32F-92C2E2E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DD241-DACF-4CB1-BBB6-F30AE525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502DF7-9720-41CD-B5D1-9B3EB069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433A0-C1E3-4A66-9047-69B729D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B32B92-2671-40B8-BBEE-56354E4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FDCA5-E0E4-4448-830A-75C24F6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FFB7AC-0F78-4D10-B40D-FDB478E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AB09F-2775-4CE3-92C8-23D39A5B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3AF31-B957-4E34-A16F-3D21574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AE420B-3418-470B-A4F8-DF43175E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E7AB6-5AA9-4B04-BBC0-AC5C9EE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DF2DF-0C4D-4336-B82C-5ED0767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59BAB-88A3-4975-95F8-35412543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84F3B-EB29-4BF9-84CE-D71F31A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868D1-B2B5-4A9B-B155-8F97C9C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2558F-8BFB-4AAA-AD31-2E89749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B3EBA-585C-4435-A7DF-C1468ADB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8968D4-247C-47DC-88FD-F656E4F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B1944-0A06-42D1-9499-C34C4782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16A60-4EC9-43D5-8CA1-651CF487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171B97-3885-46A5-838D-FA9C3744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D9D5B-2CB9-432A-9DBC-AA2898DA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97A0C-91BB-402A-B432-1CDD9A2C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8473B-7EF9-4761-BB12-1006D05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2AC5F-9587-487C-A781-84BB8688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291AB-E754-4E41-8D6C-0CAC593E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7AD48-4CF3-47DA-ACA5-2B44E52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CC3D1-DC5C-47DF-871D-72D3B59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B3D332-F65F-4B92-A3C2-58CEB70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627EA-B6EC-47A2-A896-6E0B60A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7E049-BDD9-4C58-A77D-C0335F8C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594D3-B831-4ACC-998A-BCFDF4AA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435182-77DE-47D9-A1DC-8592DB5D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E1408-CBA3-4568-90CA-7CBC366B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0265F-32F8-42F0-9202-F72F3F28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CE51F-CB0E-4418-BA15-3DB00BF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60650-EE73-4A32-BC7E-BCB2C38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AA0A5-4D03-4233-B7A9-A13A6FA1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B5D6E-A9FE-4B77-800B-1BE82011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2ED03-6D57-434A-A4FF-257B5C0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6540C-46CA-4DAB-99D9-0313826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924AA-753C-4C43-AD54-5B01C6C1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F584C8-FDAE-472E-AC20-C675B0D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98A15-4E81-41F4-845D-4554FC93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48196-B4E3-4B25-9304-DDBEE2D4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F8017-ACDC-42C2-BA87-31096A40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4A84D-88E4-45E4-95B1-CBD5A837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E2F55-DB06-454F-A808-AB878AB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1440" y="6514920"/>
            <a:ext cx="3860640" cy="15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zh-CN" sz="1000" spc="-1" strike="noStrike">
                <a:solidFill>
                  <a:srgbClr val="939598"/>
                </a:solidFill>
                <a:latin typeface="Arial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6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84B4FDE-47BC-4805-B84D-A58A99884DA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7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8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6CD5BF9-C5F2-40EE-AD97-2543BAA7BE4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9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E2B4700-7C62-4160-86AC-D9854D0A8E4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30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1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7AA5991-BB05-46CC-A2A6-F6F23801FAE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2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BEF25F9-89CD-4BFF-9746-05EF5B06FF0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3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4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5717FD8-AAE8-44D8-83E4-E491C10B4C3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5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9AA3866-EEB3-4A14-B499-4AFAC4A0FCB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6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7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4B8A917-6E24-41BA-BEAD-4AA93859B191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B19-221C-4346-A103-1993B50AE7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3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4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5E32-002E-4304-9DB8-C0BF40E13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5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13ADC82-19C2-4B4A-972F-50E439861BF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6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7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F43FCC4-81D4-4547-BB1D-1CB7B542E72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8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782E1D8-1186-4A1B-BE1A-1C975746516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9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10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C510BF5-A490-4C8D-BCCB-CB9563488D2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1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A6ADFF8-0BC1-45AF-9300-1357A7909B3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2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3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FE0372D-4F8F-44AE-90C0-56079BEB2755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4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188EC76-9B0E-4700-91C2-A57751A1ECC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5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6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8E22E64-25D1-4737-A1B4-38C0D7517AC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7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835CDBA-E90F-43E8-A89B-99C83765F40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8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9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54F8728-745A-4687-ABA8-9B6808BBB4A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20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B3DEBCF-8CEF-42EB-9709-EFDA24B1F38C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1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2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A19248C-8CDF-4B3E-873A-5D2EF78DBB9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3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30C953B-EAB4-4F7F-8A66-BC8D21819E4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4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5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EC2659D-2441-41E6-BC59-E2F66CFA602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3"/>
          <p:cNvSpPr/>
          <p:nvPr/>
        </p:nvSpPr>
        <p:spPr>
          <a:xfrm>
            <a:off x="541440" y="6515640"/>
            <a:ext cx="38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9"/>
          <p:cNvSpPr/>
          <p:nvPr/>
        </p:nvSpPr>
        <p:spPr>
          <a:xfrm>
            <a:off x="0" y="0"/>
            <a:ext cx="12188880" cy="6856560"/>
          </a:xfrm>
          <a:prstGeom prst="rect">
            <a:avLst/>
          </a:prstGeom>
          <a:solidFill>
            <a:srgbClr val="7f7f7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0" descr="title-back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4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7" descr="Kickoff2013-POS-Color.png"/>
          <p:cNvPicPr/>
          <p:nvPr/>
        </p:nvPicPr>
        <p:blipFill>
          <a:blip r:embed="rId2"/>
          <a:stretch/>
        </p:blipFill>
        <p:spPr>
          <a:xfrm>
            <a:off x="8497800" y="4154400"/>
            <a:ext cx="3326040" cy="249084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 rot="20340000">
            <a:off x="2701440" y="3446280"/>
            <a:ext cx="9514080" cy="7142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路伟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 rot="20340000">
            <a:off x="205920" y="1898280"/>
            <a:ext cx="9793440" cy="1973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PD</a:t>
            </a: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储备员竞聘呈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3" descr="content-back-withText.jp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1"/>
          <p:cNvSpPr/>
          <p:nvPr/>
        </p:nvSpPr>
        <p:spPr>
          <a:xfrm flipH="1">
            <a:off x="205560" y="255600"/>
            <a:ext cx="1198260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 flipH="1">
            <a:off x="81720" y="6502320"/>
            <a:ext cx="428760" cy="17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154800" y="6445080"/>
            <a:ext cx="29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3"/>
          <p:cNvSpPr/>
          <p:nvPr/>
        </p:nvSpPr>
        <p:spPr>
          <a:xfrm>
            <a:off x="541440" y="6515640"/>
            <a:ext cx="38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1440"/>
            <a:ext cx="12188880" cy="6858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segue-back.pn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C:\Users\Kathy\Documents\Corporate PPT Template\FINAL\ppt-images\NoTexture_Closing.png"/>
          <p:cNvPicPr/>
          <p:nvPr/>
        </p:nvPicPr>
        <p:blipFill>
          <a:blip r:embed="rId2"/>
          <a:stretch/>
        </p:blipFill>
        <p:spPr>
          <a:xfrm rot="20340000">
            <a:off x="1018800" y="3187800"/>
            <a:ext cx="101505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2440" y="0"/>
            <a:ext cx="8466120" cy="6858000"/>
            <a:chOff x="152244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394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244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340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0:59:00Z</dcterms:created>
  <dc:creator>WW Marketing</dc:creator>
  <dc:description/>
  <cp:keywords/>
  <dc:language>en-US</dc:language>
  <cp:lastModifiedBy>a</cp:lastModifiedBy>
  <dcterms:modified xsi:type="dcterms:W3CDTF">2014-07-29T06:54:17Z</dcterms:modified>
  <cp:revision>504</cp:revision>
  <dc:subject/>
  <dc:title>LENOVO TEMPLATE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