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581-66C2-4F69-9E5E-B7ACEB0E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641-EADA-4C1C-9DEE-80529FF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800-DB2F-4B7E-BEB0-3953E9C1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65C-DD8C-47E7-AC41-7345780B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699B-7525-41C9-AC9C-277FCAA3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9A6B-260E-401C-B773-9746BAC6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95F2-2D3A-4306-BBB4-8779CC2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7F6-BC15-4A0B-B441-6167493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716A-CC99-483A-9B1C-7960709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751D-E1B5-4312-BFE6-2B20A21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DADE-84C0-4DB9-B7DB-9B8C3F7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8E7-8795-4941-A50C-7751C78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42AC-9A76-4E65-8035-DC126E5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818F-3D48-4969-8BDB-70FABDA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FF74-9605-46F7-A4BD-AD4B49C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5AA1-32BA-4277-B1C5-0F6BDE73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B8D-0E10-42BC-8281-5E4080CE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AB46-756C-4C65-A750-6D05ACCD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0E2F-3D24-48A9-8F6A-C58BA8E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D284-2538-4CE8-9DC2-30ABE23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CEDF-9722-4D0B-BDB0-7CDADF2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C270-A95C-47FD-B930-5689359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C9A-FE36-40D3-915D-C5EA28E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89C7-A645-4708-9756-8076C6A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E9B2-BFD4-4566-B00B-9BB305A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C0E5-58B3-47D8-A7B4-BCAD75F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480E-0523-49E0-A657-F2027B5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D32D-022D-489D-A5F8-760F720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C6F6-C492-4DC3-BB47-77BDCE9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243B-22E5-43E5-8102-8BBD66B1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D21-4517-44D0-A52E-5648A86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8DC-6984-4F1D-B563-285BDEB5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C7F-A0A3-4B8F-B2BC-01FF1BDD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0D8-6209-4AAF-BA6C-D91FFA99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6BE-DBE8-42B4-87DC-B33DD3A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4A0-408D-4FE2-8492-3256C6C2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402-2762-4DE7-9095-E1D77792537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739-FD83-478B-B128-4742B9AB75E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F19F-4956-49F9-823F-02B34B3E2AE5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CE6-5E30-48F2-9EB8-2D5B3B0C37E7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243240" y="49608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4:14:48Z</dcterms:created>
  <dc:creator>北京锐得幻演广告有限公司</dc:creator>
  <dc:description/>
  <cp:keywords/>
  <dc:language>en-US</dc:language>
  <cp:lastModifiedBy>a</cp:lastModifiedBy>
  <dcterms:modified xsi:type="dcterms:W3CDTF">2014-08-11T07:35:25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