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8C3C5-9843-467F-AE70-1B0072F03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39723-F999-425F-9C20-EB5BF4F25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F8997-60C7-4A2D-BFBC-1137DD735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81BED-D929-4D9A-98C9-59930D06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B96C2-4F1D-4B1C-B476-65F7A10EF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B7FAF-EE6B-418D-AC7A-E68D6D5D1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EF26-2520-4412-9DAC-91E806028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A45D9-5DD7-40F4-A552-00490EFC0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46C78-5C34-41DA-9FBE-E83E4E6E5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2CC9-91D5-46BE-B539-BAA86210B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2B89F-A1D5-428B-8C86-1B7ACD656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9EF5E-11A3-48AC-B2C6-AA20212E4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gf dgzer yuy koulkùml"/>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C15114D2-6130-48FF-B5CC-3947083F9EE5}"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427A-8C8C-458D-B098-D6BF787BA8D2}"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ADF9-A280-4BCF-AF41-18CB4CD99CB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gh fgh kùlre gfd"/>
          <p:cNvPicPr/>
          <p:nvPr/>
        </p:nvPicPr>
        <p:blipFill>
          <a:blip r:embed="rId2"/>
          <a:stretch/>
        </p:blipFill>
        <p:spPr>
          <a:xfrm>
            <a:off x="0" y="0"/>
            <a:ext cx="9144000" cy="6858000"/>
          </a:xfrm>
          <a:prstGeom prst="rect">
            <a:avLst/>
          </a:prstGeom>
          <a:ln w="0">
            <a:noFill/>
          </a:ln>
        </p:spPr>
      </p:pic>
      <p:sp>
        <p:nvSpPr>
          <p:cNvPr id="82" name="Text Box 4"/>
          <p:cNvSpPr/>
          <p:nvPr/>
        </p:nvSpPr>
        <p:spPr>
          <a:xfrm>
            <a:off x="1908000" y="1341360"/>
            <a:ext cx="687708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8T10:22:15Z</dcterms:modified>
  <cp:revision>3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