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AB1-8A64-4903-83C3-A41AFDEC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C6D-68D5-43B4-A58B-87DB560E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D05-F0B2-4969-B2AB-0684CE4B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79F-7D68-4BB6-AAE0-23AFF34E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0A9B-2240-4926-93BC-ACDD9983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3F40-06AD-4968-91BB-B748D81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9CCA-BE38-4D5F-A99D-4D29B65F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04CE-2C78-48F9-8706-6F4DBEB0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7147-6D66-4B00-8950-331874F3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36BD-F4D3-4D84-8DF1-8578E012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DC2C-4DA9-442E-98D4-377262F1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096-CBF7-4146-A27E-5D0E5A48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BD97-2B77-4312-8653-8BA1D5D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F697-263A-4040-903F-54388AB0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6B48-3A9D-4FAF-B281-1126BFC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C03C-C7B1-4DEB-BAC0-2E66A52F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D1D6-0ABB-4CDA-BF08-14291BAC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1433-F9E5-401B-BE3D-EC27F896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D2A1-7864-46A8-BECE-F11C4B93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689C-9C26-4BDD-99E2-94B7CC88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9264-3099-4BE2-9B77-50BEF86C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BEC34-391C-4E41-8648-CD599C44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53F-4687-42DC-BB4D-2E7A31D5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F306-2429-41C3-A0B8-12FAAFDE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56F3-5982-4A0E-9794-39B3A4F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DDF88-3F3C-4F96-805B-4333CA8F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96D3-39E9-45D9-B8BB-50129972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EF46-7DCA-45F5-8F10-E44C4C1F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0B85-7A95-4AA4-9199-D91526EB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6AC3-3B84-47AF-BA1F-34D987B1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7B6-A390-47C2-8D67-A292B08C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790-43F4-4524-963E-8BE2C38E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034-597E-4095-8DE5-E32E812F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EE7-5390-45A3-8F7A-BAAA99B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AE6-EEF5-4175-A60F-A56141B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6B6-EBBB-45DF-BA38-9B375634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A895-E2B3-40CE-AEDB-657139288C4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6F2-33D6-4A29-BFF7-24FB4E1615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819000"/>
            <a:ext cx="9144000" cy="4343400"/>
            <a:chOff x="0" y="819000"/>
            <a:chExt cx="9144000" cy="4343400"/>
          </a:xfrm>
        </p:grpSpPr>
        <p:pic>
          <p:nvPicPr>
            <p:cNvPr id="6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819000"/>
              <a:ext cx="9144000" cy="43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6" descr=""/>
            <p:cNvPicPr/>
            <p:nvPr/>
          </p:nvPicPr>
          <p:blipFill>
            <a:blip r:embed="rId3"/>
            <a:stretch/>
          </p:blipFill>
          <p:spPr>
            <a:xfrm>
              <a:off x="8223840" y="2952360"/>
              <a:ext cx="92016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9151-469C-4B1B-BC13-5566DA051E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0" y="4627440"/>
            <a:ext cx="9144000" cy="515880"/>
            <a:chOff x="0" y="4627440"/>
            <a:chExt cx="9144000" cy="515880"/>
          </a:xfrm>
        </p:grpSpPr>
        <p:sp>
          <p:nvSpPr>
            <p:cNvPr id="50" name="Straight Connector 10"/>
            <p:cNvSpPr/>
            <p:nvPr/>
          </p:nvSpPr>
          <p:spPr>
            <a:xfrm>
              <a:off x="0" y="4627440"/>
              <a:ext cx="9144000" cy="1800"/>
            </a:xfrm>
            <a:prstGeom prst="line">
              <a:avLst/>
            </a:prstGeom>
            <a:ln w="19080">
              <a:solidFill>
                <a:srgbClr val="8cb3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4671000"/>
              <a:ext cx="685800" cy="47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C289-63F5-4433-8EE7-2FC15E183DCC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C6B1-0BE5-4B9A-87C8-980915499AB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0" y="4705200"/>
            <a:ext cx="9144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-11160" y="1092240"/>
            <a:ext cx="91407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输入标题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13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1T06:51:06Z</dcterms:modified>
  <cp:revision>1</cp:revision>
  <dc:subject/>
  <dc:title>PowerPoint 演示文稿</dc:title>
</cp:coreProperties>
</file>