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18E1E-C6BD-401A-83CB-560AB4B5F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E92DB-C42F-493B-B44C-BBBF7F0D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96556E-0D44-4F95-B397-DA3D7382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F88DD7-E145-4DA0-AC49-B291FE4B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CA6F7D-0F3B-4A5D-B7B8-61ADE4A8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4C3976-1FB1-407E-823C-690088A6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DF0344-2DE7-4868-B750-E677F01A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B63DFA-F269-40F4-870C-9CF1F7C7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9FF988-CAA9-4997-8184-0FDFC6EC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16CB43-5C45-4F46-9C36-689DE836C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B74DA4-BEE1-448E-BDC7-9FCCFF9F1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C61884-9904-406D-A5C6-A32DEB758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1D15E-F5A3-4A14-9F3F-6269A6DF5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FF1426-D919-40E1-8CAD-17BC21C9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D9315A-E5A0-4072-85D0-86178511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EDE33E-F1E8-4955-A3FA-7D046442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EFFC42-0564-4330-B5FB-221140D7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DBC7E2-5C1B-4C33-80FD-AB1BDCB9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12553A-A8C4-447F-80C5-3D76917A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B6AC0C-1D84-4A3A-8CD8-E3C37704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5184C7-92E7-4857-A023-57B66075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A0E0CD-1C95-406C-90DE-4E3F4608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076E85-BBDC-417D-B8EB-8CABF4BD0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31D38-914C-4694-807C-E72BC84EF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C400BD-0BAD-4B3E-92DE-138B5D1EE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A4456B-7D48-4A25-8C05-5AF79C22A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E1E570-73FF-429A-A72B-98397248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CF194-9048-4957-883C-D9643AF0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43B109-BDEB-47A5-825E-761F6044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290B18-7068-48B2-A13C-592C4138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28044-72BE-46CE-ABD0-B22D7FA1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4FFA44-0F38-4C41-AC69-EC1B88B8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D08F9-08F8-4839-9468-426EF76F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AA6E97-4EF0-40B6-8A7B-B9FD9916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CDD6-4D05-46BF-9B65-EFA29E578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ADD96-675A-432A-ACBF-E99704A4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6C841C-813C-4B2F-AB70-3F342A6D3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EEBBD-4C40-497E-B7F6-3CA511727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878315-2110-4383-89EB-E356F43C1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FF7F9E-13DD-4F2B-83F5-7D511F24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CD0A03-257C-4BB0-AA0B-DA378DD8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E00A6C-4707-4663-8887-D32467ED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CBD044-409F-417E-9CA1-8B5E2541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FDC226-9F7A-4528-8A08-E98A133D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426CA8-F960-4678-8629-EE49D814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3AE1-ED78-42E7-AD46-CC5517B5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62938B-8EDF-4682-830A-C51D1368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27C654-7B2D-43B3-86CA-C7413F19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D2E552-192F-45A9-B4AC-F3ADBAFA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29E534-ECFD-430D-9494-A44E9CA26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AC068A-9BC5-460F-BEB9-58333D619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A251B1-613E-447C-94F6-44A0649DA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B8F8D4-0E48-4C6E-97A6-93DA90EC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DBB94A-5FBE-48A5-A049-19985756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A80688-27C5-46FA-82F9-977B60AB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335F1D-692D-4838-A0A5-C55932C2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53D57-2A78-483F-BBA0-F48B15DF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7C6764-970E-4AC2-88C6-EBD3AFD1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930984-BDEA-423B-8B17-4D6DC3B7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2B8FA7-4D57-4743-AA3E-271DB40B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E49EDC-BBCB-44BB-BB7C-2DFC9C77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0346B4-5198-4A73-9A58-481EF2D9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D7B03D-655C-4BBA-A4D6-E160562C1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62C6A9-1260-4C71-9F76-4814529EC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8F6478-DD88-401B-BE25-3AAB90721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E3428B-6BF2-40F7-A94A-FF621A6C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CEF366-C212-488A-96D1-ABA13896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A479F-AB72-4923-B021-34A6CC88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385DB6-3A31-4478-85D6-76F6FB9C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BD1EDD-BE6C-4689-AE27-E920D7D5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BB8B9E-B9E4-49F6-91C5-6D2A4D04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D70B43-D49A-4D3E-8D04-D9B8ABA2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A77ABF-310D-4EDA-AE22-9641332A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4CF91F-DF1A-4CE4-AB31-121F29D4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E72F05-E78C-4D1A-8A4B-15AF137A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A3815A-96E4-4B5E-AF33-FAE2DC1A5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E70663-5F3C-4DAA-9B6B-91648257A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4AC5-CD8A-414F-B04D-BD93F6F3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04E6-1986-415A-B888-9B6BC24C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84BA-08B3-447F-98FE-B93CDF81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2385E-CB0C-46EA-919A-4E1AFEF3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B5682-893B-4946-B1F6-2C3D240A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A85F-A892-43A3-9349-A3B26B89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48E5-EAD0-4DF2-8B5F-85417C62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867A-D1D4-45B2-9AAE-5F2EC01E8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14C7A-9F89-4238-9871-9E1A36278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D3BB8-31B3-4E9C-96A2-4D0A7D555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5EC67-4FBF-4FA7-93A7-ED1F349C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D082A-C59D-4DB2-AE76-5D432776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D6B36-E971-4833-882B-DBA39003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15CD4-EFFA-407A-B773-8E18942A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A5DE9-BA47-403D-989A-EDE318B4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EFFC8-4957-4CF1-AD04-6D97A006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C9025-01F9-4065-81F8-47F472A9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8CF98-47A4-4C79-A59D-7A8BA724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B6CF0-B2F8-47A1-97B0-FCBE8902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80240-D64E-46D6-B0CA-E8479B24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F41CE-6C76-4599-B0F1-DD3317F4D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73D55-CD1F-4524-B2C6-351BE7EE8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E6759-1FBA-4F27-A0AE-D45B22743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F885C-D82A-4090-B9A7-51135055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9AD11-6B8A-4BDC-86D6-8464B3AE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81545-D3A7-44FD-91A6-BBA8B0A1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B5326-DABD-4D0D-9A4B-4BB94454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DC124-DDD9-4528-8D4B-B82C5D67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CBEBB-E9D0-45E6-B3C5-7F96DA0C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BD600-472B-4E48-A5B6-27B522B9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E2CE3-530A-4BA1-8B4F-22FD2BA4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58BAE-765C-4215-8AD8-EF0BE0C8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6C607-CC79-4B32-BC24-078A3BC5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F2199-41E4-4F17-9187-D272F48F9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AD1DE-CD56-4C0E-8E85-F98461989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B1B0F-1811-4F6A-BF08-804115845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51E42-BED0-475A-9378-9B6E64D8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27351-1E33-473D-8D2F-96B5174D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858BF-6411-4664-A64B-E58CC489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A99D2-85B7-44FF-9B8B-FB5D9922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5F57A-1697-499A-9F83-DA39FBB4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6F43E-DC4D-4687-8241-98BE49DC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AE1E6-F61A-49F0-9F9F-8AD38EFD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23C89-A08A-45FF-81CD-3E3C8127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82CEF-FC5E-498D-ADE9-FB954915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C9406-5CCB-4546-AADF-BD82F8C5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296B0-DBAD-4742-BDD0-D376730B0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CE821-4963-4621-B7C9-56CF95C5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88A28-10B9-46F2-BA0F-3D20CE53B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8A1AE-B76D-4594-AE62-D51EB96C6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8C77F-E24F-416F-B1BC-F30F6EA3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7E567-736B-4250-93F1-480AC21C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D7B71-1EF3-47D2-BB3E-A466CDA0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1B870-1E8F-4CA6-9B28-346938CE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E17B2-FA7B-4A3B-9E0A-DC963E6E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271B7-3FED-40B0-8A09-24F72879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BAB4D-29DD-435C-98BD-8CC9CAF0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4E9B8-7A09-486F-BDA6-0E164A29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BD407-D9F4-4C9A-8B14-65DCF9DD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05DE6-7210-47CF-AC16-08ECEEBD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2D51D-5218-42E1-B4CC-BC5763D4D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13A49-63F9-477A-8691-C2FD24FF0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52DF4-7782-4E07-B66D-269CBAAFC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AE489-558D-4D17-ADEB-FD309017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C3E6F-0B96-4C40-9DAF-5607A5FE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C0527-06C4-4167-A3F0-C18E6256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8C333-69FA-45D0-8D07-B8AEC833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A395A-56D2-4014-81EF-C875980E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F25D9-BE2A-4983-888A-EE8F77E5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E11B1-6D6E-488C-B5A5-7DF7EE73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68B38-B6D1-49B0-97A8-A4796B6F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DE1E6-1462-4142-82B0-6B758DF8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2A31E-A312-46C8-85F8-8F2DFCCA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B5F2C-3AA1-4B9A-9D42-17539E66F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451CD-64CD-4211-9C4A-B180AB9D8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34C0F-E9B3-4759-ADE6-19E98532C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CA383-B1D7-4E15-91BF-A5A2E715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97B5A-0A68-4729-AD98-51DA425A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14779-ADD1-470B-B2EF-9F061036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6E150-B54B-46DA-8832-E5FDC15D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B8E0A-65AB-4B55-B08D-563A3028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F988F-C8DA-4DE9-89CF-D80A6802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50AB8-5899-44AF-BBCB-EF9A1BA3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07726-8C3D-4E11-A0C1-377EFC74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DC147-F73A-440A-A2F4-6FE02054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374B3-AE01-4A03-9602-551D7C4A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986E1-BF42-411E-B0C0-CB6E2D416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D28BB-B46B-4D6C-9185-93A82F961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B28A8C-A6EB-41D0-B308-A9BDFF1EC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FB8960-3615-4128-B17C-ECACCBED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C552DF-60F2-43CC-B709-196F46F9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3511440"/>
            <a:ext cx="9144000" cy="3346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362320" y="1676520"/>
            <a:ext cx="62481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9900"/>
                </a:solidFill>
                <a:latin typeface="Verdana"/>
              </a:rPr>
              <a:t>Click to edit the outline text format</a:t>
            </a: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9900"/>
                </a:solidFill>
                <a:latin typeface="Verdana"/>
              </a:rPr>
              <a:t>Second Outline Level</a:t>
            </a: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9900"/>
                </a:solidFill>
                <a:latin typeface="Verdana"/>
              </a:rPr>
              <a:t>Third Outline Level</a:t>
            </a: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  <a:p>
            <a:pPr lvl="3" marL="1600200" indent="-228600">
              <a:spcBef>
                <a:spcPts val="624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9900"/>
                </a:solidFill>
                <a:latin typeface="Verdana"/>
              </a:rPr>
              <a:t>Fourth Outline Level</a:t>
            </a: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  <a:p>
            <a:pPr lvl="4" marL="2057400" indent="-228600">
              <a:spcBef>
                <a:spcPts val="624"/>
              </a:spcBef>
              <a:buClr>
                <a:srgbClr val="99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9900"/>
                </a:solidFill>
                <a:latin typeface="Verdana"/>
              </a:rPr>
              <a:t>Fifth Outline Level</a:t>
            </a: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9900"/>
                </a:solidFill>
                <a:latin typeface="Verdana"/>
              </a:rPr>
              <a:t>Sixth Outline Level</a:t>
            </a: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9900"/>
                </a:solidFill>
                <a:latin typeface="Verdana"/>
              </a:rPr>
              <a:t>Seventh Outline Level</a:t>
            </a: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2014560"/>
            <a:ext cx="2135160" cy="484344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cc9900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0" y="6546960"/>
            <a:ext cx="9144000" cy="311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26520" y="6477120"/>
            <a:ext cx="2514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32767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4B88-B53D-4F7B-AD41-AAF4FB99E85A}" type="slidenum">
              <a:rPr b="0" lang="ko-KR" sz="1200" spc="-1" strike="noStrike">
                <a:solidFill>
                  <a:srgbClr val="000000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594324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Oval 11"/>
          <p:cNvSpPr/>
          <p:nvPr/>
        </p:nvSpPr>
        <p:spPr>
          <a:xfrm>
            <a:off x="547560" y="365040"/>
            <a:ext cx="1122480" cy="1122480"/>
          </a:xfrm>
          <a:prstGeom prst="ellipse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49DB-41B6-4A4D-9CB7-E0AF668A7F1F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4D2D-79AD-474B-B9FE-A37959E63C5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2415-76ED-4BA3-A6AE-24053937AADB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152C-C9FC-4485-9431-43229732C3A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D067-4AD5-448D-B861-BBB7DC7F8EBD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410A-4ACA-4372-86D2-A8546066A1B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6B7F-4373-4121-834E-2D5372FE852F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5651-0D5D-4C10-B9B1-297470DFF16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416A-8DED-4DF5-A68E-E6B99401B3A8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1C51-74D5-4500-90BC-EE68E322318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7D37-D4FF-45CE-948B-77C8A81E031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DBF7-9FE5-4983-BEE0-F8CB485EA7A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2362320" y="1676520"/>
            <a:ext cx="62481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9900"/>
                </a:solidFill>
                <a:latin typeface="Verdana"/>
              </a:rPr>
              <a:t>Click to edit the outline text format</a:t>
            </a: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9900"/>
                </a:solidFill>
                <a:latin typeface="Verdana"/>
              </a:rPr>
              <a:t>Second Outline Level</a:t>
            </a: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9900"/>
                </a:solidFill>
                <a:latin typeface="Verdana"/>
              </a:rPr>
              <a:t>Third Outline Level</a:t>
            </a: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  <a:p>
            <a:pPr lvl="3" marL="1600200" indent="-228600">
              <a:spcBef>
                <a:spcPts val="624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9900"/>
                </a:solidFill>
                <a:latin typeface="Verdana"/>
              </a:rPr>
              <a:t>Fourth Outline Level</a:t>
            </a: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  <a:p>
            <a:pPr lvl="4" marL="2057400" indent="-228600">
              <a:spcBef>
                <a:spcPts val="624"/>
              </a:spcBef>
              <a:buClr>
                <a:srgbClr val="99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9900"/>
                </a:solidFill>
                <a:latin typeface="Verdana"/>
              </a:rPr>
              <a:t>Fifth Outline Level</a:t>
            </a: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9900"/>
                </a:solidFill>
                <a:latin typeface="Verdana"/>
              </a:rPr>
              <a:t>Sixth Outline Level</a:t>
            </a: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9900"/>
                </a:solidFill>
                <a:latin typeface="Verdana"/>
              </a:rPr>
              <a:t>Seventh Outline Level</a:t>
            </a: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F197-D55F-48C3-A96C-6F8BEF275808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E49A-5BD8-436E-9720-AEF3EB2FC490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7842-CB9C-4AF1-B469-51D11D03CC1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6323-1D5E-479E-A36C-ACC1F32DE177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0D0E-4D91-44A0-886D-3B3EAA04F7E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2F11-2E54-4784-B3C8-DBB5062A4FF2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FFA1-09B5-4835-9B1B-1BB30494139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0FA9-8C9A-4FEB-AD42-939102DA83D9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BFCE-5C4D-455C-83CE-2F181C3F186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650B-DDCA-4046-80C1-C6CD16CE0E19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B78A-9D12-4DAD-8A02-960EF85938A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9186-5B90-4262-8192-F3D0836FFD6B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B0FE-01B6-4718-B4CB-54682F56BC3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5500" spc="-1" strike="noStrike">
              <a:solidFill>
                <a:srgbClr val="ffcc66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1447920" y="2057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200" spc="-1" strike="noStrike">
              <a:solidFill>
                <a:srgbClr val="cc9900"/>
              </a:solidFill>
              <a:latin typeface="Verdana"/>
              <a:ea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2362320" y="1676520"/>
            <a:ext cx="62481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2500" spc="-1" strike="noStrike">
              <a:solidFill>
                <a:srgbClr val="cc9900"/>
              </a:solidFill>
              <a:latin typeface="Verdana"/>
              <a:ea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AutoShape 3"/>
          <p:cNvSpPr/>
          <p:nvPr/>
        </p:nvSpPr>
        <p:spPr>
          <a:xfrm>
            <a:off x="1049400" y="1782720"/>
            <a:ext cx="7047000" cy="3487680"/>
          </a:xfrm>
          <a:prstGeom prst="roundRect">
            <a:avLst>
              <a:gd name="adj" fmla="val 16667"/>
            </a:avLst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AutoShape 4"/>
          <p:cNvSpPr/>
          <p:nvPr/>
        </p:nvSpPr>
        <p:spPr>
          <a:xfrm>
            <a:off x="1187280" y="1925640"/>
            <a:ext cx="6280200" cy="2595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1800"/>
              </a:gs>
              <a:gs pos="100000">
                <a:srgbClr val="66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AutoShape 5"/>
          <p:cNvSpPr/>
          <p:nvPr/>
        </p:nvSpPr>
        <p:spPr>
          <a:xfrm>
            <a:off x="2133720" y="2438280"/>
            <a:ext cx="5843520" cy="265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4700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Rectangle 6"/>
          <p:cNvSpPr/>
          <p:nvPr/>
        </p:nvSpPr>
        <p:spPr>
          <a:xfrm>
            <a:off x="1371600" y="205740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Rectangle 7"/>
          <p:cNvSpPr/>
          <p:nvPr/>
        </p:nvSpPr>
        <p:spPr>
          <a:xfrm>
            <a:off x="4038480" y="35812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95280" y="6454800"/>
            <a:ext cx="4824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更多</a:t>
            </a:r>
            <a:r>
              <a:rPr b="0" lang="zh-CN" sz="1400" spc="-1" strike="noStrike" u="sng">
                <a:solidFill>
                  <a:srgbClr val="996600"/>
                </a:solidFill>
                <a:uFillTx/>
                <a:latin typeface="楷体"/>
                <a:ea typeface="楷体"/>
                <a:hlinkClick r:id="rId2"/>
              </a:rPr>
              <a:t>免费PPT模板</a:t>
            </a:r>
            <a:r>
              <a:rPr b="1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尽在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Times New Roman"/>
                <a:hlinkClick r:id="rId3"/>
              </a:rPr>
              <a:t>http://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90" name="Group 3"/>
          <p:cNvGrpSpPr/>
          <p:nvPr/>
        </p:nvGrpSpPr>
        <p:grpSpPr>
          <a:xfrm>
            <a:off x="762120" y="2286000"/>
            <a:ext cx="7618320" cy="1338120"/>
            <a:chOff x="762120" y="2286000"/>
            <a:chExt cx="7618320" cy="1338120"/>
          </a:xfrm>
        </p:grpSpPr>
        <p:sp>
          <p:nvSpPr>
            <p:cNvPr id="591" name="AutoShape 4"/>
            <p:cNvSpPr/>
            <p:nvPr/>
          </p:nvSpPr>
          <p:spPr>
            <a:xfrm>
              <a:off x="762120" y="2286000"/>
              <a:ext cx="7618320" cy="13381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AutoShape 5"/>
            <p:cNvSpPr/>
            <p:nvPr/>
          </p:nvSpPr>
          <p:spPr>
            <a:xfrm>
              <a:off x="2251080" y="2405160"/>
              <a:ext cx="6016680" cy="109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47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Rectangle 6"/>
            <p:cNvSpPr/>
            <p:nvPr/>
          </p:nvSpPr>
          <p:spPr>
            <a:xfrm>
              <a:off x="803520" y="2322360"/>
              <a:ext cx="14475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Group 7"/>
          <p:cNvGrpSpPr/>
          <p:nvPr/>
        </p:nvGrpSpPr>
        <p:grpSpPr>
          <a:xfrm>
            <a:off x="762120" y="3809880"/>
            <a:ext cx="7618320" cy="1338120"/>
            <a:chOff x="762120" y="3809880"/>
            <a:chExt cx="7618320" cy="1338120"/>
          </a:xfrm>
        </p:grpSpPr>
        <p:sp>
          <p:nvSpPr>
            <p:cNvPr id="595" name="AutoShape 8"/>
            <p:cNvSpPr/>
            <p:nvPr/>
          </p:nvSpPr>
          <p:spPr>
            <a:xfrm>
              <a:off x="762120" y="3809880"/>
              <a:ext cx="7618320" cy="13381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AutoShape 9"/>
            <p:cNvSpPr/>
            <p:nvPr/>
          </p:nvSpPr>
          <p:spPr>
            <a:xfrm>
              <a:off x="2251080" y="3929040"/>
              <a:ext cx="6016680" cy="109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47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Rectangle 10"/>
            <p:cNvSpPr/>
            <p:nvPr/>
          </p:nvSpPr>
          <p:spPr>
            <a:xfrm>
              <a:off x="803520" y="3846240"/>
              <a:ext cx="14475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8" name="Rectangle 11"/>
          <p:cNvSpPr/>
          <p:nvPr/>
        </p:nvSpPr>
        <p:spPr>
          <a:xfrm>
            <a:off x="2362320" y="1752480"/>
            <a:ext cx="2971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0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0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08:11:19Z</dcterms:created>
  <dc:creator>ThemeGallery</dc:creator>
  <dc:description/>
  <dc:language>en-US</dc:language>
  <cp:lastModifiedBy>a</cp:lastModifiedBy>
  <dcterms:modified xsi:type="dcterms:W3CDTF">2015-01-14T03:12:53Z</dcterms:modified>
  <cp:revision>54</cp:revision>
  <dc:subject/>
  <dc:title>040TGp_time_mon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