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0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9907-F676-4533-A72C-B3C3B7964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12FA-1351-4C44-85D7-CBFFA6BF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12931-838E-4FAD-8267-2DC6CE72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6F147-BFCC-4C55-B74F-13173B59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26C55-AD87-4E5F-B748-721759FB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892A0-1ABE-4A56-A2A1-12B8D880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22AFA-C25C-4B24-8EA9-42BB4D70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FBA9B-3682-48E9-97FE-C5F3A41D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F8F06-50D4-4B18-9098-807627DA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9F1BA6-C15F-48E4-B4C3-23225E78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38760-DD79-45BA-9DB0-35E88E93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96C05-ED7D-42A9-B863-FE9592192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4102-044D-4032-8418-2C632853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22C07B-5DDD-4BFD-9C2B-82C4AF07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AF0CF-AD86-4A8D-B42A-E975BF2C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DE42FD-7488-4F59-BCFF-1F345D4F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80F73-4301-4C83-A06D-8EAB6602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75B9A-88B3-4449-8F7E-447F4787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F533E-31A2-450D-9168-78C3AE1C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159F5C-0C1E-4A03-A2CA-F4469AAB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EFF32-5E8D-4432-B3E7-43CDD672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D48AF1-AED3-4D78-9CD7-54DD83B2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064D8-BECA-4201-B26C-28EC16254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5762-7D8E-442A-A2BB-501F3B08B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24C77-B3C6-4BA1-8FEC-4623758C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84917-7E91-4DB6-8FCB-7927B125D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D602F-E8FE-419D-9AAD-808637E0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8C7B5-347A-44CA-A721-8E1AD52E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6251A-A10F-4EDC-AE63-48AC8824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2BA35-5D74-4D78-8B4B-1A0A4FFE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39072-E837-4D14-9100-A497793C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58D40-A132-4FED-AE69-39A10E65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288AD-ABA6-4C79-81A3-30FACDA4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41220-2796-4692-89E4-E4C10FDC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6C65-701E-45EC-8C8A-B9B3CB3A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B18C4-268C-4617-88ED-FC7185C7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48B22-3EA2-41DB-B1F6-6F5DEA48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871E69-45B2-4A5C-9645-F8126468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0736D4-CE9A-4979-8A07-C6A8B77E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3DCACF-B060-48C4-BCFE-CF34589D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8DD38-F070-4843-AC1F-3FB502BA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09586-8821-46D5-84FA-5EA972CA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C15AB-6FBB-4EA9-B78D-0C31A7F0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FB2DC7-F6B3-4DA4-9283-FF510854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13AE6-5025-43F5-A1F1-1C2AB9BE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6F58-1658-4F51-ADCB-8CA5270D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E3A0A-FE8B-4AEE-9CB9-02E24E3D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6A523-C34A-4D5F-8E3B-A10B9076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6D15C1-AEB5-4AC5-B455-4579E554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62A07-8CF1-4BD0-9F34-7EA4E1975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E401B-068C-49B4-B7F1-06B63E5BB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6FF7D4-280F-44F0-B227-59C5EA94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FFA408-E517-4E43-9C4A-4828FB40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C730B1-4AAD-44FE-BF5E-A9F48535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C739C8-504A-41AF-A2C2-0C1FB8F6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1CB1E3-162E-4A49-91BB-9F30CD98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0EC1-4A28-42A6-A7BC-ED88C4DA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50D782-9E33-4409-BCDD-04C799C5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BAA06F-5D2B-42EC-89E7-B03F31A9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67872B-8255-4569-A702-FD9B3586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5623D6-2E69-40C6-AEBE-B5259768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3FFBD8-BD1C-4DF0-9078-6D14D671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A8A5FC-18DC-4EA6-BF79-5AE26C7B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B9131D-D75E-4012-B450-D171EF46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BFC7F1-E956-42E8-95FB-AB0FF9F3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04287C-4890-4CE3-9B04-4C9C4325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F853A8-23CD-41D2-A032-90824BCD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B618-FB6A-4404-9A7D-13726C31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F85FFD-9083-438F-97DE-247E2959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148764-8738-49E9-BBE5-8C618CC9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F52EB6-E54F-4B54-A6EF-0F2ED6B9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31A157-E85C-4818-B92D-CDFFCFB5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710B9E-D084-4F88-AE80-202B6A65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3BFE6E-8ADF-4271-8DEF-4E7BE82A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02DC0E-E620-4F55-9F2C-FF9FC3A0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3774B7-0039-472F-B9E6-330D50E24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E0FD76-8B34-4FD3-9BAA-CE8708F6A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7BF8-418C-408F-9808-CF98682D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8EF8-3597-4D41-966F-9F8C388F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A406-4404-48BB-A7E7-9332C923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16C1-A6E7-4D92-86E8-8A44E73A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4129-D386-4AA4-B182-0ECBD3B1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2C58-22D9-42F0-9F1F-17B3024E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1FE1-4F75-4955-B67F-AD3DBAEC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3E62-8897-48D5-945E-3A57A0FA5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1726-925B-4D6B-88E6-BBD9EBCE8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9FD48-EC8B-4237-890A-4D220AD85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CC0BC-991B-463C-8B91-522EF111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82526-B6F3-4446-87DD-8606E647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D68AC-0E1F-4818-9E5D-7D1BAC85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23C69-DBB5-476B-867A-A76FA33B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D54A-8052-4B2C-86BD-117CCB35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986BC-0F9E-4695-90F8-D37B4AAF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523FE-437A-4ABE-82D9-03B73DFD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9FDF5-1946-4AB1-9A74-723E83CF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CBD52-6E57-438F-9BE2-365929A5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DD21C-988E-4D00-95FC-C2A90066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9B247-C07E-4E3D-B9B0-4C1B6710A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492E9-AE57-453F-8BDA-97EA13E6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C3296-565B-4F82-A2E7-BFEA807D6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1A601-C826-4AAA-9CAE-CFEDB1B2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46E0D-CACE-4707-9458-0A3965F0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C568-81FC-44B5-99D2-6D3F5EE8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830EA-2A36-4191-B524-CB89683C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14381-9A18-4191-BB7C-0ADD9526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0978D-F878-4E12-9301-1148E70F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3733E-41E8-4425-B666-E239BB1E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328C1-CF56-48EE-9CD5-FDC3E036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5C39F-A0F3-41C7-8E86-10A2A8B7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6B3BA-1451-4AD5-B244-30F0B2E7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3CC61-9B64-45D1-A187-759B5CAC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14298-D6AF-4983-81EF-513E6AD8C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8ECFA-105F-4971-8202-4D575A561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157D-4143-42D2-8A62-7EB0004A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8CE11-63C4-4E87-ABFB-F57EB803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B4231-86C5-4F55-A096-EF5126F8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B5F4E-86B1-4E37-9AAA-FF438DAC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7271A-8CCC-4731-96B1-8EA606CA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E3F56-EA84-4CE5-8300-0FA102A6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94FB6-C36E-43E9-BAD7-72ABD697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398A9-7C16-4230-A6B0-14BB6906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EA896-114C-4FFB-B88A-139DC91B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99927-44A7-4F12-B624-2B01F3ED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1EF07-2D7C-42CF-A5F1-7D72757F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29CD-1488-4A22-B07A-6B7E1A74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A702F-1617-42AD-A5C3-84F9ABB8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79F61-F731-4206-8459-209E6831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F55B2-C966-4167-8CE4-826CF3B3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7E980-3E22-4A05-B68B-DCD25F2B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EC34D-70E1-40A4-A9FD-76D1E907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68318-5B73-4E0C-A030-ED85C0E7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A9DF2-40BB-4056-ACA6-22478D3A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E5D29-0484-42A3-A7A2-D4B15834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66E73-0DF8-4182-B24D-E4B367D0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AB1F6-DCF2-4FDF-9054-D2EA7B0F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C6CD-3E8A-4763-AD1E-0467A24A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6E77D-4A4E-4964-BFED-00B90D9C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1D84E-A035-4EAD-8F88-B3FAA095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DBF62-51CB-4214-86D0-E4C80218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FF3CB-6E27-48DD-91D4-58BDBED92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EEA2D-69E1-4FD5-8157-40F5A01C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5372A-F288-4A34-AB3E-7D6D926C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BCC95-6DCD-4955-A6B7-33350E99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D3BA1-039C-4D21-B3CC-7655D95E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954D8-D750-485A-9D4A-FDE7D0D3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3EDAA-55A3-46C5-A919-4738D4E1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2D9E-C5E2-459C-9614-26901579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42364-542E-401E-9616-27AA9024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C285C-57AF-4488-BF3F-D7C1BB92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2A18E-8CF2-466D-BE65-2F70B9C2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32CD2-AF26-4A14-99FA-E56E1AA4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71E38-2CB7-4443-B76D-954C0734B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0AE59-715C-4165-9FC8-0335196B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3C30C-46F4-4C8C-8AF1-11C96819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63125-F2A2-4500-A5BE-E507BA0F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86011-EBF5-4D63-9E13-53653B70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AAEC1-2D55-4393-AF16-73B22B6C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57D9-50E0-48FD-B8F4-58F4C198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855E2-CE0D-44F6-B072-FEB9EAAB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85027-9FCB-4216-92D5-5D100F1C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6B0CC-BDE2-41F9-8EC4-42C0F213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F10CB-4754-4475-96BF-E496D2F5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A6EFE-9C20-47B4-860E-D447C793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1205B-75BB-4ECD-A6BC-3E580A954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DA7A7-62A7-42F6-97B9-7AC0633A0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1EEA0-FF90-46A3-80B6-CBAA60FC5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265F6-CED9-4086-BE54-65E7E75D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CBC53-AD72-47A0-A093-58F8E721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759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Heavy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ranklin Gothic Heavy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Heavy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ranklin Gothic Heavy"/>
            </a:endParaRPr>
          </a:p>
          <a:p>
            <a:pPr lvl="2" marL="108576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Heavy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ranklin Gothic Heavy"/>
            </a:endParaRPr>
          </a:p>
          <a:p>
            <a:pPr lvl="3" marL="142884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Heavy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ranklin Gothic Heavy"/>
            </a:endParaRPr>
          </a:p>
          <a:p>
            <a:pPr lvl="4" marL="177156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Heavy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ranklin Gothic Heavy"/>
            </a:endParaRPr>
          </a:p>
          <a:p>
            <a:pPr lvl="5" marL="177156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Heavy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ranklin Gothic Heavy"/>
            </a:endParaRPr>
          </a:p>
          <a:p>
            <a:pPr lvl="6" marL="177156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Heavy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Franklin Gothic Heavy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D3F6-22C8-45DB-94F9-32334541850A}" type="slidenum">
              <a:rPr b="0" lang="en-US" sz="10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Z:\newtek\_backgrounds_1.02\Tim\powerpoint templates\81-100\minus_orange\elements\orange.png"/>
          <p:cNvPicPr/>
          <p:nvPr/>
        </p:nvPicPr>
        <p:blipFill>
          <a:blip r:embed="rId10"/>
          <a:stretch/>
        </p:blipFill>
        <p:spPr>
          <a:xfrm>
            <a:off x="7848720" y="5524560"/>
            <a:ext cx="1295280" cy="1257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136D-69A2-4153-984C-8723D5A4A3F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A2FB-011E-46BE-ACB5-25AFADAB51D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46A5-A590-4A9E-8A27-638B71B9AD86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581D-53EF-40BB-B8AA-A131C95D1B3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EE8B-FC04-457D-9FEC-9D9C7CDBF85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3A08-E9DA-4056-8D7B-318E9EA7F63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4E59-8FA7-41D0-B46F-E2A6459D976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7809-69FE-4577-82C4-467C10CE446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D609-D074-4BCC-9CD6-D8490EE092C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FCDE-5A5C-4596-89AE-60E297B51EF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1E64-2446-4D0F-81C3-AD72D25A688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1D50-4D15-4DB4-8B52-F6FA87C4D49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Z:\newtek\_backgrounds_1.02\Tim\powerpoint templates\81-100\minus_orange\elements\orange.png"/>
          <p:cNvPicPr/>
          <p:nvPr/>
        </p:nvPicPr>
        <p:blipFill>
          <a:blip r:embed="rId3"/>
          <a:stretch/>
        </p:blipFill>
        <p:spPr>
          <a:xfrm>
            <a:off x="2514600" y="244440"/>
            <a:ext cx="4114800" cy="3994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759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8960" y="8377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Heavy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Franklin Gothic Heavy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Heavy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ranklin Gothic Heavy"/>
            </a:endParaRPr>
          </a:p>
          <a:p>
            <a:pPr lvl="2" marL="108576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Heavy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Franklin Gothic Heavy"/>
            </a:endParaRPr>
          </a:p>
          <a:p>
            <a:pPr lvl="3" marL="142884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Heavy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Franklin Gothic Heavy"/>
            </a:endParaRPr>
          </a:p>
          <a:p>
            <a:pPr lvl="4" marL="177156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Heavy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Franklin Gothic Heavy"/>
            </a:endParaRPr>
          </a:p>
          <a:p>
            <a:pPr lvl="5" marL="177156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Heavy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Franklin Gothic Heavy"/>
            </a:endParaRPr>
          </a:p>
          <a:p>
            <a:pPr lvl="6" marL="177156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Heavy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Franklin Gothic Heavy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Franklin Gothic Heavy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9656-AFE6-4609-ADB0-5CF3F127B67B}" type="slidenum">
              <a:rPr b="0" lang="en-US" sz="12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81A2-B02B-4B14-9B19-88501C0A9E6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20FB-4A79-48C1-8393-AD9051731DC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9E88-5255-4AE4-AAD1-E0A800AF4DE1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B2F7-9D85-43C7-930D-5C8EDBA8F31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A3F9-4B2F-4756-9246-D4CE49040931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EDB4-2C87-40B4-9EA7-624AFC4E30A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DAA2-386F-470E-88FB-C59D4C6F90D8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CC71-C8A5-4791-A298-9B8ABE0C7A3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268A-7BFC-4CF1-9502-2EF25359A45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1848-088C-46B7-86C5-758B52B24BD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4109-0BDF-4A2D-8014-7383DB79534E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BFEC-70E6-48E6-B184-52B3D780528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9625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  <a:ea typeface="宋体"/>
              </a:rPr>
              <a:t>Minus Orange</a:t>
            </a:r>
            <a:endParaRPr b="0" lang="en-US" sz="7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837720" y="4800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Your Subtopic Goes Here</a:t>
            </a:r>
            <a:endParaRPr b="0" lang="en-US" sz="24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676160" y="759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Your subtopic goes here</a:t>
            </a:r>
            <a:endParaRPr b="0" lang="en-US" sz="28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676160" y="759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18960" y="8377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Heavy"/>
                <a:ea typeface="宋体"/>
              </a:rPr>
              <a:t>Your subtopic goes here</a:t>
            </a:r>
            <a:endParaRPr b="0" lang="en-US" sz="2800" spc="-1" strike="noStrike">
              <a:solidFill>
                <a:srgbClr val="000000"/>
              </a:solidFill>
              <a:latin typeface="Franklin Gothic Heavy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2T18:45:00Z</dcterms:created>
  <dc:creator/>
  <dc:description/>
  <cp:keywords/>
  <dc:language>en-US</dc:language>
  <cp:lastModifiedBy>a</cp:lastModifiedBy>
  <dcterms:modified xsi:type="dcterms:W3CDTF">2014-05-31T02:13:30Z</dcterms:modified>
  <cp:revision>18</cp:revision>
  <dc:subject/>
  <dc:title>Minus Ora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