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E9B-4EA2-4D2A-A712-267D66EE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1E4-A1C6-492D-8C6C-BDE3B0F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D9B-4C9C-4BF1-A3BF-5C3B4BCA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001-B572-4C9D-BCA8-BD2197E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FEC3-C5CB-47B8-A6D3-C2C9D781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9E49-C75C-4E36-8C45-97301FF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24A-5402-4531-A624-E56BDEB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8D7-14F5-45D8-9647-21291DB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F72-2171-4BE5-8216-69CE2EF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9F6-4321-4960-835F-1C4C08E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4BAA-F00D-4C83-B695-98714037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8C2-00D3-459F-9261-01E7B83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AC57-DDFE-489F-9AC0-2FB1CA1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91E-3D32-4833-9C94-68E7C7E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39A-F239-47DE-85A7-77046C80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5D2-B7FB-413A-8BA1-265B7D32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799-B364-4DE9-9341-530AE5CB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FC3-E11E-45C0-95D7-72E2A5B0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D21-AD6F-41D3-A97C-A845108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0A2-0BD3-465D-9469-F4D04C9D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21F-363C-41E5-A32F-71990439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F98-6F1E-4A62-A152-F58360D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329-BC6C-4379-98A1-FDDCA8F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CEF-A659-45C6-B835-8534559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289-D941-4A9E-94EC-9496DA5FBA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74A-1930-40A7-8F65-67D8496EAF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542-581E-4A4C-9512-B337DDF11A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9621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矩形 4" descr=""/>
          <p:cNvPicPr/>
          <p:nvPr/>
        </p:nvPicPr>
        <p:blipFill>
          <a:blip r:embed="rId2"/>
          <a:stretch/>
        </p:blipFill>
        <p:spPr>
          <a:xfrm>
            <a:off x="0" y="603360"/>
            <a:ext cx="5473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矩形 4" descr=""/>
          <p:cNvPicPr/>
          <p:nvPr/>
        </p:nvPicPr>
        <p:blipFill>
          <a:blip r:embed="rId2"/>
          <a:stretch/>
        </p:blipFill>
        <p:spPr>
          <a:xfrm>
            <a:off x="1450800" y="1238400"/>
            <a:ext cx="2640240" cy="78552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1523880" y="457200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矩形 4" descr=""/>
          <p:cNvPicPr/>
          <p:nvPr/>
        </p:nvPicPr>
        <p:blipFill>
          <a:blip r:embed="rId2"/>
          <a:stretch/>
        </p:blipFill>
        <p:spPr>
          <a:xfrm>
            <a:off x="5791320" y="2230560"/>
            <a:ext cx="2646360" cy="78732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1523880" y="457200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矩形 4" descr=""/>
          <p:cNvPicPr/>
          <p:nvPr/>
        </p:nvPicPr>
        <p:blipFill>
          <a:blip r:embed="rId2"/>
          <a:stretch/>
        </p:blipFill>
        <p:spPr>
          <a:xfrm>
            <a:off x="8491680" y="609480"/>
            <a:ext cx="785520" cy="264636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380880" y="160020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4" descr=""/>
          <p:cNvPicPr/>
          <p:nvPr/>
        </p:nvPicPr>
        <p:blipFill>
          <a:blip r:embed="rId2"/>
          <a:stretch/>
        </p:blipFill>
        <p:spPr>
          <a:xfrm>
            <a:off x="8491680" y="609480"/>
            <a:ext cx="785520" cy="264636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380880" y="160020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矩形 4" descr=""/>
          <p:cNvPicPr/>
          <p:nvPr/>
        </p:nvPicPr>
        <p:blipFill>
          <a:blip r:embed="rId2"/>
          <a:stretch/>
        </p:blipFill>
        <p:spPr>
          <a:xfrm>
            <a:off x="8491680" y="609480"/>
            <a:ext cx="785520" cy="26463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533520" y="4267080"/>
            <a:ext cx="5790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矩形 4" descr=""/>
          <p:cNvPicPr/>
          <p:nvPr/>
        </p:nvPicPr>
        <p:blipFill>
          <a:blip r:embed="rId2"/>
          <a:stretch/>
        </p:blipFill>
        <p:spPr>
          <a:xfrm>
            <a:off x="8491680" y="609480"/>
            <a:ext cx="785520" cy="264636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380880" y="160020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 hate that everything is out of my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t happens as it was s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i was cheated by u two. forgive sounds good, but forget i think i never c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Delicious SmallCaps"/>
                <a:ea typeface="Aharoni"/>
              </a:rPr>
              <a:t>u two totally have no idea that how much i want to forgive 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eclipse</dc:creator>
  <dc:description/>
  <cp:keywords/>
  <dc:language>en-US</dc:language>
  <cp:lastModifiedBy>a</cp:lastModifiedBy>
  <dcterms:modified xsi:type="dcterms:W3CDTF">2014-08-13T01:47:50Z</dcterms:modified>
  <cp:revision>57</cp:revision>
  <dc:subject/>
  <dc:title>Golden Glo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