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92A-87BE-4131-8397-7EC0FF3C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041-11C2-42B3-89B6-D0BAF8B2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5F628-E064-48E4-BA24-F9443CF0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D11B8-F6A2-4F6C-9C96-09306790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2E7F4-D688-4CA9-AF36-48D858F7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21808-E4EB-4076-9A1A-8967111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4E67D-6C15-440B-96D0-DC8C389A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4EEC0-9BAD-4877-B7D5-3799E69B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DFFE9-DC9D-4550-88BB-FA2A8F7A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8C82E-1C52-4BAB-AF0F-D1B5B2A7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4CE30-8B1F-4135-BF40-4BCBFC7A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2D3EC-1041-4F2C-9CDC-DBA39604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E98-1C78-48F5-9B8F-4EDE57C0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4B120-0774-4D46-BCA8-16336A19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14FDB-658F-4209-B804-6B4E6054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C972A-ABD8-4371-86D4-0C4931C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ACD54-1458-4504-8CCF-0C48D164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64C05-ADA6-4B7E-8CB9-432982BA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7CF0F-636C-4BB0-ABA0-477CF8F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A3BE2-38E8-48F4-96A1-444F501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E2354-4A49-4EF5-8596-BEC566A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65A5F-D1A6-423F-97E8-55B9E556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7FD06-5A1C-4D3C-B246-4220FABC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38D-EB60-4BB7-946D-C54BE69F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86DA9-1930-48B7-9D3E-94BF9D60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E918F-54EA-45E5-B1BD-9BD57B8D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9ADBA-0162-46B5-8521-690097A5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53B9F-5444-427A-A1F0-CB1E2712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AE362-6869-4A8D-8DF4-5C9DBD68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F4C49-9594-4463-9A90-51140257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FF4F2-CC2A-4BD6-8A50-79F21162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867C4-4AEC-4CCE-89C2-94C5F3F7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24B3A-8FA3-4993-AB83-3680E59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5AE8A-6A31-4CB7-B355-DFAE840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779E-A48D-440F-B234-A1294080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A6168-3F4C-41A7-A5E0-1428BAA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C9E8A-7A45-4B72-A884-38DF4BAF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7EE0A-D8B8-4602-A5D4-C936ECBA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8D84E-555D-44D0-9653-16F24734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43E10-B4E7-45FC-B8E6-9A0FC642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DB16B-F65F-4474-AD6D-6F15DAB0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85ABE-91F6-43F2-AF74-E1CB9A5F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D0920-EC0E-480C-8F85-F875857B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B17F2-BC91-4F53-8FBC-A2021F2C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F79F1-851F-4F95-B326-E5C09498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4BEF-3BD3-4998-B284-33631BAC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F9EC1-93C9-4367-B43A-25F0029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4F249-7F5E-46BE-AD2A-2B84B921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D7E18-8B1F-4F17-B6E4-FEC22CE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70DF7-9A36-4FA0-A875-3AD35662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D23E6-C2D1-4428-9458-1FA4D39D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61F66-9E29-45DB-A583-B4AF3F42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8A214-CA0D-4D55-9B7D-80062E15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4E367-735E-4B00-86EB-13FB3C44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3AA10-9EBB-4932-A709-139FCEC9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D9388-E300-45C9-BB5D-28EBE9FC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C681-8286-448C-BA09-57B3BBA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1E4DD-3637-423E-B739-F65C3303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F08A4-380D-4DC1-8C6D-3FEBA79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D4A0E-E9BA-4D74-8902-91F6F558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15316-F7C6-4611-9898-56B1E59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E282D-970A-43E0-B769-62D24A8C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2C2A1-C2E1-43B9-9F8F-889D87D3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AED8B-0D86-4DC9-9656-39FD5E65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7979-5617-4AE3-98B1-4F88999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3B39-7392-4D6D-825F-F3973369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4449-5078-4558-A03C-6D8D31DD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66BD-6540-4E5F-8791-8F9C0C44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F9D-96B0-4DE4-B38B-8E4BED0E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BC07-9BF4-4588-B3DC-2D023EA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7CAB-D900-4290-848F-3940243F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3140-771A-4C8E-80DD-00EEDFF7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8EA8-7ACC-4562-A8FA-96C3EC6C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DE80-134B-4480-9F94-8E4D2740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466F-F74F-4B1E-97F4-FB29C1B4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05E86-93DB-45FA-A730-5B1E91CC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8518-6FD5-402D-B1D8-CE58313D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F9AF-24FC-495E-823F-813DEBDD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BBC8-4046-48BE-B251-6EF18631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152-E426-438E-A1FC-4576251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27A1-475B-4A55-81B2-6F3D229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89A0-B66E-4BDC-97FC-86DE6349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FBE0-3EC8-4E0D-8FFE-17C2CD4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FA9D-7793-45F8-A2E7-49DFE396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E20B-C56D-4148-8390-CDBB3B1E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DCC1-DA37-4575-A4A7-3C2DC8D4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2C84-ED4F-4B6D-A85B-1CB1E8BB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C6703-06D2-46E0-9339-86239A9C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1D12-C55D-4806-B04D-F54D2962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3983E-9FAA-44F7-A9CB-D15BC919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0E6-879D-4F19-91DF-4D9175B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4DFD-E117-4CAE-A766-D9A21AC6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3533-6FD5-471A-A44F-73DED482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814E-1C80-4B48-A647-FEE438D5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40C96-0C4E-4C36-A5E7-7EE69CA6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BBE5-5C3C-4E66-8C27-01CBF642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4CDEA-E4F2-4AAC-BC97-D5D331A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D50EC-C017-45F5-8219-F2AD1B7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5350-0956-474A-9C83-F30E35EC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A9A8-F038-435E-A2D3-6C699771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B18B-0330-4445-9EF8-F66CC49E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C60-A5F8-4FFE-9013-BA7C123C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82F9-3C8F-4C7E-8EDF-E91DDD78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1B1B-AA7C-4280-A4B7-F117388E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3F1F-ED0C-401A-A967-E135E77A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F0A69-7EFD-4DCA-B6B4-0772B176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0FB0-06AE-492B-8EDD-8C15EDC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51EE-AEA7-435A-84BF-C63ABEA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18812-3D52-41A5-9F8A-8C5166DB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8AA85-FF5F-454B-BB91-AEE2A457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A5A35-B005-43C0-98B1-086795A3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00FF3-CB7C-4D77-8914-390D0B65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C86-128D-450B-8EBF-71A9746C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C5081-1355-4904-8E5F-0D749DEA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409AA-CD9F-41CA-920A-A04BEAE3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43A8F-B264-47D5-9779-C4BF0E81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D1DA9-D0FA-4CE5-860C-66320F78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830D9-E24F-49C6-B073-C806D4CB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DBBE9-27AA-4B8F-8347-A7EBC271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8EA8A-1416-4334-BBB2-9E824B6D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510BA-0AE4-4815-94D3-AEF990C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AB09B-03E4-4AC5-B9EE-7A08250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CA9C1-AE49-4246-BE5C-F9DD3D26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4FA-670D-4349-84B9-359C195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9ECDA-1A46-4D90-A51D-60208AB6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52154-C73C-4A6B-BC23-47D8493E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7B1F6-6B21-4286-980E-80446870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5BBA7-C955-40FA-9BE4-88B062A2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D072B-A166-4EDB-959C-8127FCDF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3375-D579-45CE-9DA7-83C62582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80B97-5B15-4E33-B8CF-91815850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A3674-15EB-46EC-AA27-DC2C813E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8C27-9D8E-441D-BF69-21AA8349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8CBB0-94FE-46A7-886B-A6AFC78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DC7-7C52-489B-9689-8AA00B8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26778-3CAC-49C6-A725-EAC4DDD1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AE86F-5B11-4CDA-A477-BD08709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265CE-8404-44AA-BB45-06923784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17C6-2855-4F5F-AC5A-3ABC6D11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DF8B-C5C6-4575-99EE-8C9803A6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1CA2C-E805-4BE2-B101-1A3DA9C8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0603C-09BA-4560-8968-A7B9C33D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A10F-2D02-43CB-A84F-0984B605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25835-1205-4758-8CC8-BAABC47D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1568E-B0B6-4C7E-8710-AFF4C469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568-3BB2-465A-BE9B-AE04CF5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381D3-60FD-47BE-8F01-14F3B117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4ED86-6923-46E4-BD2F-8EAE665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6A367-4BA5-4074-BBBF-CF3275F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44310-64C0-462F-A9E6-14019493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30C6E-4A4E-4FAE-A8F6-390F3E7A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E1C0A-C93A-48F1-9C06-6218ED9C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7977D-B057-4273-B8C3-4D5FFEF6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52544-4206-4379-B081-97F63930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D3F99-F24F-45A7-9837-A1439CBE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97D47-868E-4ECC-A721-7E2EBE97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DF3F-32D0-4348-8EB6-CE5205B61A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BE0-8B02-4BB3-A75C-826673E8E2C2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84DA-F884-4B23-AA56-3F4216975C27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AF81-A607-4CCC-A2C4-830D96DCD412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763-D511-4F1C-A2CF-A21202A6C303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984D-9ACE-4773-ADF6-362839253261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ADF6-910C-4427-BB03-51C9E8360019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BFA5-E891-4981-A056-FB4036061BD5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164-9C29-4B06-83E7-FA162DA03F8F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BD22-79E7-4418-8372-B97A0F3ED1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8B0E-5D59-4063-8F73-F479563D5D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B980-F076-478E-B257-C1D0B9091320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3A71-A1B6-4956-99FD-B32F16B22E49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EA21-C6A2-4256-A80F-43F032B3D4E2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A517-5160-44A0-8C88-DF6BE8189111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61A3-06DB-43C8-B167-E312045F39B8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6C28-3316-4A84-BF62-9A463244A2E7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F24C-3228-4A90-9E33-82652E8E7C98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88CC-A5E1-4C3B-8BF4-F83FAEABAFE8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C7EE-4AA1-4927-91C9-1A31920498CD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6FC7-E8DC-4716-97E5-91FB72C570E8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FE40-BE5C-43ED-8AA9-35CA34A1985E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6BB8-CF6F-4181-8A63-92290F0A568D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84B5-7423-402A-B544-2304FE5F011E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77E7-3D5F-4744-8F13-602680FCB8C0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杀"/>
          <p:cNvPicPr/>
          <p:nvPr/>
        </p:nvPicPr>
        <p:blipFill>
          <a:blip r:embed="rId1"/>
          <a:stretch/>
        </p:blipFill>
        <p:spPr>
          <a:xfrm>
            <a:off x="0" y="963720"/>
            <a:ext cx="12200040" cy="4784760"/>
          </a:xfrm>
          <a:prstGeom prst="rect">
            <a:avLst/>
          </a:prstGeom>
          <a:ln w="0">
            <a:noFill/>
          </a:ln>
        </p:spPr>
      </p:pic>
      <p:sp>
        <p:nvSpPr>
          <p:cNvPr id="534" name="Line 3"/>
          <p:cNvSpPr/>
          <p:nvPr/>
        </p:nvSpPr>
        <p:spPr>
          <a:xfrm>
            <a:off x="6523200" y="1486080"/>
            <a:ext cx="5454360" cy="1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4"/>
          <p:cNvSpPr/>
          <p:nvPr/>
        </p:nvSpPr>
        <p:spPr>
          <a:xfrm>
            <a:off x="11719080" y="1268280"/>
            <a:ext cx="1440" cy="4357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28680" y="2927520"/>
            <a:ext cx="1162044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6829560" y="122220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9629640" y="5091120"/>
            <a:ext cx="230364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9650520" y="5537160"/>
            <a:ext cx="2303280" cy="1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Picture 5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sp>
        <p:nvSpPr>
          <p:cNvPr id="761" name="Line 6"/>
          <p:cNvSpPr/>
          <p:nvPr/>
        </p:nvSpPr>
        <p:spPr>
          <a:xfrm>
            <a:off x="7104240" y="659772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8"/>
          <p:cNvSpPr/>
          <p:nvPr/>
        </p:nvSpPr>
        <p:spPr>
          <a:xfrm>
            <a:off x="731880" y="2916360"/>
            <a:ext cx="60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卡通"/>
              </a:rPr>
              <a:t>没有</a:t>
            </a:r>
            <a:r>
              <a:rPr b="0" lang="zh-CN" sz="2400" spc="-1" strike="noStrike">
                <a:solidFill>
                  <a:srgbClr val="a50501"/>
                </a:solidFill>
                <a:latin typeface="Calibri"/>
                <a:ea typeface="迷你简卡通"/>
              </a:rPr>
              <a:t>稳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卡通"/>
              </a:rPr>
              <a:t>定的下班时间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卡通"/>
              </a:rPr>
              <a:t>　　没有２４小时的公交车．．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迷你简卡通"/>
              </a:rPr>
              <a:t>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Line 9"/>
          <p:cNvSpPr/>
          <p:nvPr/>
        </p:nvSpPr>
        <p:spPr>
          <a:xfrm>
            <a:off x="2989440" y="264960"/>
            <a:ext cx="8962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120600" y="-1764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</a:t>
            </a:r>
            <a:r>
              <a:rPr b="0" lang="zh-CN" sz="2800" spc="-1" strike="noStrike">
                <a:solidFill>
                  <a:srgbClr val="ffffff"/>
                </a:solidFill>
                <a:latin typeface="迷你简卡通"/>
                <a:ea typeface="迷你简准圆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Picture 11" descr="s"/>
          <p:cNvPicPr/>
          <p:nvPr/>
        </p:nvPicPr>
        <p:blipFill>
          <a:blip r:embed="rId2"/>
          <a:srcRect l="19685" t="4920" r="0" b="4920"/>
          <a:stretch/>
        </p:blipFill>
        <p:spPr>
          <a:xfrm>
            <a:off x="7896240" y="1835280"/>
            <a:ext cx="27766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Line 2"/>
          <p:cNvSpPr/>
          <p:nvPr/>
        </p:nvSpPr>
        <p:spPr>
          <a:xfrm>
            <a:off x="7562880" y="1486080"/>
            <a:ext cx="4416480" cy="28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Line 3"/>
          <p:cNvSpPr/>
          <p:nvPr/>
        </p:nvSpPr>
        <p:spPr>
          <a:xfrm>
            <a:off x="11719080" y="1268280"/>
            <a:ext cx="1440" cy="4357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Line 4"/>
          <p:cNvSpPr/>
          <p:nvPr/>
        </p:nvSpPr>
        <p:spPr>
          <a:xfrm>
            <a:off x="719280" y="5083200"/>
            <a:ext cx="11472840" cy="46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Picture 5" descr="杀"/>
          <p:cNvPicPr/>
          <p:nvPr/>
        </p:nvPicPr>
        <p:blipFill>
          <a:blip r:embed="rId1"/>
          <a:stretch/>
        </p:blipFill>
        <p:spPr>
          <a:xfrm>
            <a:off x="0" y="949320"/>
            <a:ext cx="12192120" cy="4783320"/>
          </a:xfrm>
          <a:prstGeom prst="rect">
            <a:avLst/>
          </a:prstGeom>
          <a:ln w="0">
            <a:noFill/>
          </a:ln>
        </p:spPr>
      </p:pic>
      <p:sp>
        <p:nvSpPr>
          <p:cNvPr id="771" name="Line 6"/>
          <p:cNvSpPr/>
          <p:nvPr/>
        </p:nvSpPr>
        <p:spPr>
          <a:xfrm>
            <a:off x="6523200" y="1486080"/>
            <a:ext cx="5454360" cy="1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Line 7"/>
          <p:cNvSpPr/>
          <p:nvPr/>
        </p:nvSpPr>
        <p:spPr>
          <a:xfrm>
            <a:off x="11717280" y="1177920"/>
            <a:ext cx="1800" cy="4357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569880" y="4724280"/>
            <a:ext cx="11414160" cy="32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10448280" y="47260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3 Q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776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qqq"/>
          <p:cNvPicPr/>
          <p:nvPr/>
        </p:nvPicPr>
        <p:blipFill>
          <a:blip r:embed="rId1"/>
          <a:stretch/>
        </p:blipFill>
        <p:spPr>
          <a:xfrm>
            <a:off x="623880" y="2479680"/>
            <a:ext cx="1020600" cy="102060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  <p:sp>
        <p:nvSpPr>
          <p:cNvPr id="541" name="Rectangle 3"/>
          <p:cNvSpPr/>
          <p:nvPr/>
        </p:nvSpPr>
        <p:spPr>
          <a:xfrm>
            <a:off x="0" y="6302520"/>
            <a:ext cx="1219212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0"/>
            <a:ext cx="1223172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8354880" y="603360"/>
            <a:ext cx="331812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8354880" y="4765680"/>
            <a:ext cx="3318120" cy="9619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8353440" y="1994040"/>
            <a:ext cx="3317760" cy="9586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迷你简卡通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8358120" y="3389400"/>
            <a:ext cx="331812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9408240" y="614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9443160" y="2149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12"/>
          <p:cNvSpPr/>
          <p:nvPr/>
        </p:nvSpPr>
        <p:spPr>
          <a:xfrm>
            <a:off x="9420120" y="3459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9419040" y="4849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2148120" y="221472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Calibri"/>
                <a:ea typeface="迷你简综艺"/>
              </a:rPr>
              <a:t>目录</a:t>
            </a:r>
            <a:endParaRPr b="1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15"/>
          <p:cNvSpPr/>
          <p:nvPr/>
        </p:nvSpPr>
        <p:spPr>
          <a:xfrm>
            <a:off x="4317840" y="3041640"/>
            <a:ext cx="31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Directory.....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16" descr="JJ"/>
          <p:cNvPicPr/>
          <p:nvPr/>
        </p:nvPicPr>
        <p:blipFill>
          <a:blip r:embed="rId2"/>
          <a:srcRect l="1668" t="2078" r="2181" b="1905"/>
          <a:stretch/>
        </p:blipFill>
        <p:spPr>
          <a:xfrm>
            <a:off x="6751800" y="6391440"/>
            <a:ext cx="537840" cy="399960"/>
          </a:xfrm>
          <a:prstGeom prst="rect">
            <a:avLst/>
          </a:prstGeom>
          <a:ln w="0">
            <a:noFill/>
          </a:ln>
        </p:spPr>
      </p:pic>
      <p:sp>
        <p:nvSpPr>
          <p:cNvPr id="555" name="Line 17"/>
          <p:cNvSpPr/>
          <p:nvPr/>
        </p:nvSpPr>
        <p:spPr>
          <a:xfrm>
            <a:off x="7104240" y="659772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9078840" y="662040"/>
            <a:ext cx="14400" cy="8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8628120" y="1190520"/>
            <a:ext cx="2905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9078840" y="2050920"/>
            <a:ext cx="14400" cy="806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8628120" y="2581200"/>
            <a:ext cx="2905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22"/>
          <p:cNvSpPr/>
          <p:nvPr/>
        </p:nvSpPr>
        <p:spPr>
          <a:xfrm>
            <a:off x="9078840" y="3432240"/>
            <a:ext cx="14400" cy="8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23"/>
          <p:cNvSpPr/>
          <p:nvPr/>
        </p:nvSpPr>
        <p:spPr>
          <a:xfrm>
            <a:off x="8628120" y="3941640"/>
            <a:ext cx="2905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ine 24"/>
          <p:cNvSpPr/>
          <p:nvPr/>
        </p:nvSpPr>
        <p:spPr>
          <a:xfrm>
            <a:off x="9063000" y="4822920"/>
            <a:ext cx="15840" cy="80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ine 25"/>
          <p:cNvSpPr/>
          <p:nvPr/>
        </p:nvSpPr>
        <p:spPr>
          <a:xfrm>
            <a:off x="8613720" y="5276880"/>
            <a:ext cx="2905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9045720" y="1127160"/>
            <a:ext cx="212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27"/>
          <p:cNvSpPr/>
          <p:nvPr/>
        </p:nvSpPr>
        <p:spPr>
          <a:xfrm>
            <a:off x="9063000" y="389880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9061560" y="25052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9031320" y="522432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30"/>
          <p:cNvSpPr/>
          <p:nvPr/>
        </p:nvSpPr>
        <p:spPr>
          <a:xfrm>
            <a:off x="8573400" y="6159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31"/>
          <p:cNvSpPr/>
          <p:nvPr/>
        </p:nvSpPr>
        <p:spPr>
          <a:xfrm>
            <a:off x="8587800" y="203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32"/>
          <p:cNvSpPr/>
          <p:nvPr/>
        </p:nvSpPr>
        <p:spPr>
          <a:xfrm>
            <a:off x="8574120" y="3395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33"/>
          <p:cNvSpPr/>
          <p:nvPr/>
        </p:nvSpPr>
        <p:spPr>
          <a:xfrm>
            <a:off x="8573400" y="4737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34"/>
          <p:cNvSpPr/>
          <p:nvPr/>
        </p:nvSpPr>
        <p:spPr>
          <a:xfrm>
            <a:off x="484200" y="1908000"/>
            <a:ext cx="144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Line 35"/>
          <p:cNvSpPr/>
          <p:nvPr/>
        </p:nvSpPr>
        <p:spPr>
          <a:xfrm>
            <a:off x="9590040" y="519120"/>
            <a:ext cx="234792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36"/>
          <p:cNvSpPr/>
          <p:nvPr/>
        </p:nvSpPr>
        <p:spPr>
          <a:xfrm>
            <a:off x="11750760" y="227160"/>
            <a:ext cx="1440" cy="52797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0" y="6302520"/>
            <a:ext cx="121921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3" descr="J"/>
          <p:cNvPicPr/>
          <p:nvPr/>
        </p:nvPicPr>
        <p:blipFill>
          <a:blip r:embed="rId1"/>
          <a:srcRect l="3453" t="5329" r="3829" b="2248"/>
          <a:stretch/>
        </p:blipFill>
        <p:spPr>
          <a:xfrm>
            <a:off x="6762600" y="6391440"/>
            <a:ext cx="533520" cy="399960"/>
          </a:xfrm>
          <a:prstGeom prst="rect">
            <a:avLst/>
          </a:prstGeom>
          <a:ln w="0">
            <a:noFill/>
          </a:ln>
        </p:spPr>
      </p:pic>
      <p:sp>
        <p:nvSpPr>
          <p:cNvPr id="577" name="Line 4"/>
          <p:cNvSpPr/>
          <p:nvPr/>
        </p:nvSpPr>
        <p:spPr>
          <a:xfrm>
            <a:off x="7104240" y="659772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626436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6264360" y="19764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迷你简卡通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8"/>
          <p:cNvSpPr/>
          <p:nvPr/>
        </p:nvSpPr>
        <p:spPr>
          <a:xfrm>
            <a:off x="250668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7353000" y="213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3568680" y="3363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7328520" y="3376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Line 13"/>
          <p:cNvSpPr/>
          <p:nvPr/>
        </p:nvSpPr>
        <p:spPr>
          <a:xfrm>
            <a:off x="3230640" y="2038320"/>
            <a:ext cx="14040" cy="8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Line 14"/>
          <p:cNvSpPr/>
          <p:nvPr/>
        </p:nvSpPr>
        <p:spPr>
          <a:xfrm>
            <a:off x="2779560" y="2567160"/>
            <a:ext cx="2905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6988320" y="2035080"/>
            <a:ext cx="15840" cy="806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ine 16"/>
          <p:cNvSpPr/>
          <p:nvPr/>
        </p:nvSpPr>
        <p:spPr>
          <a:xfrm>
            <a:off x="6537240" y="2565360"/>
            <a:ext cx="2905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Line 17"/>
          <p:cNvSpPr/>
          <p:nvPr/>
        </p:nvSpPr>
        <p:spPr>
          <a:xfrm>
            <a:off x="3227400" y="3346560"/>
            <a:ext cx="14400" cy="804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Line 18"/>
          <p:cNvSpPr/>
          <p:nvPr/>
        </p:nvSpPr>
        <p:spPr>
          <a:xfrm>
            <a:off x="2776680" y="3846600"/>
            <a:ext cx="29048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72480" y="3351240"/>
            <a:ext cx="15840" cy="806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6523200" y="3805200"/>
            <a:ext cx="2904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21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22"/>
          <p:cNvSpPr/>
          <p:nvPr/>
        </p:nvSpPr>
        <p:spPr>
          <a:xfrm>
            <a:off x="3211560" y="38019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23"/>
          <p:cNvSpPr/>
          <p:nvPr/>
        </p:nvSpPr>
        <p:spPr>
          <a:xfrm>
            <a:off x="6970680" y="24890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24"/>
          <p:cNvSpPr/>
          <p:nvPr/>
        </p:nvSpPr>
        <p:spPr>
          <a:xfrm>
            <a:off x="6939000" y="375120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25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26"/>
          <p:cNvSpPr/>
          <p:nvPr/>
        </p:nvSpPr>
        <p:spPr>
          <a:xfrm>
            <a:off x="6498720" y="2016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27"/>
          <p:cNvSpPr/>
          <p:nvPr/>
        </p:nvSpPr>
        <p:spPr>
          <a:xfrm>
            <a:off x="2723760" y="329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28"/>
          <p:cNvSpPr/>
          <p:nvPr/>
        </p:nvSpPr>
        <p:spPr>
          <a:xfrm>
            <a:off x="6481080" y="3263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29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30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Line 31"/>
          <p:cNvSpPr/>
          <p:nvPr/>
        </p:nvSpPr>
        <p:spPr>
          <a:xfrm>
            <a:off x="285840" y="264960"/>
            <a:ext cx="116665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32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3240" y="28440"/>
            <a:ext cx="29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  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o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0" y="6302520"/>
            <a:ext cx="121921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6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sp>
        <p:nvSpPr>
          <p:cNvPr id="611" name="Line 7"/>
          <p:cNvSpPr/>
          <p:nvPr/>
        </p:nvSpPr>
        <p:spPr>
          <a:xfrm>
            <a:off x="7104240" y="659772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9"/>
          <p:cNvSpPr/>
          <p:nvPr/>
        </p:nvSpPr>
        <p:spPr>
          <a:xfrm>
            <a:off x="2989440" y="264960"/>
            <a:ext cx="8962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192240" y="2916360"/>
            <a:ext cx="570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卡通"/>
              </a:rPr>
              <a:t>是牛是马，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卡通"/>
              </a:rPr>
              <a:t>　也不会是威武霸气的老</a:t>
            </a:r>
            <a:r>
              <a:rPr b="0" lang="zh-CN" sz="2800" spc="-1" strike="noStrike">
                <a:solidFill>
                  <a:srgbClr val="a50501"/>
                </a:solidFill>
                <a:latin typeface="Calibri"/>
                <a:ea typeface="迷你简卡通"/>
              </a:rPr>
              <a:t>虎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卡通"/>
              </a:rPr>
              <a:t>．．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11"/>
          <p:cNvSpPr/>
          <p:nvPr/>
        </p:nvSpPr>
        <p:spPr>
          <a:xfrm>
            <a:off x="6735600" y="909720"/>
            <a:ext cx="110196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卡通"/>
              </a:rPr>
              <a:t>诗人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12"/>
          <p:cNvSpPr/>
          <p:nvPr/>
        </p:nvSpPr>
        <p:spPr>
          <a:xfrm>
            <a:off x="7966080" y="909720"/>
            <a:ext cx="107316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卡通"/>
              </a:rPr>
              <a:t>编曲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13"/>
          <p:cNvSpPr/>
          <p:nvPr/>
        </p:nvSpPr>
        <p:spPr>
          <a:xfrm>
            <a:off x="6737400" y="3193920"/>
            <a:ext cx="110808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卡通"/>
              </a:rPr>
              <a:t>作家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14"/>
          <p:cNvSpPr/>
          <p:nvPr/>
        </p:nvSpPr>
        <p:spPr>
          <a:xfrm>
            <a:off x="6756480" y="2060640"/>
            <a:ext cx="108900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卡通"/>
              </a:rPr>
              <a:t>策划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15"/>
          <p:cNvSpPr/>
          <p:nvPr/>
        </p:nvSpPr>
        <p:spPr>
          <a:xfrm>
            <a:off x="9144000" y="909720"/>
            <a:ext cx="148752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卡通"/>
              </a:rPr>
              <a:t>艺术家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9144000" y="2060640"/>
            <a:ext cx="147312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卡通"/>
              </a:rPr>
              <a:t>工程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7966080" y="2060640"/>
            <a:ext cx="107316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卡通"/>
              </a:rPr>
              <a:t>制片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9163080" y="3193920"/>
            <a:ext cx="145404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卡通"/>
              </a:rPr>
              <a:t>设计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7967520" y="3193920"/>
            <a:ext cx="102708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卡通"/>
              </a:rPr>
              <a:t>美工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6647040" y="4292640"/>
            <a:ext cx="4128840" cy="106884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501"/>
                </a:solidFill>
                <a:latin typeface="Calibri"/>
                <a:ea typeface="迷你简卡通"/>
              </a:rPr>
              <a:t>为广告创造概念和内容的人</a:t>
            </a:r>
            <a:r>
              <a:rPr b="0" lang="zh-CN" sz="3200" spc="-1" strike="noStrike">
                <a:solidFill>
                  <a:srgbClr val="a50501"/>
                </a:solidFill>
                <a:latin typeface="Calibri"/>
                <a:ea typeface="迷你简卡通"/>
              </a:rPr>
              <a:t>+</a:t>
            </a:r>
            <a:r>
              <a:rPr b="0" lang="zh-CN" sz="3200" spc="-1" strike="noStrike">
                <a:solidFill>
                  <a:srgbClr val="a50501"/>
                </a:solidFill>
                <a:latin typeface="Calibri"/>
                <a:ea typeface="迷你简卡通"/>
              </a:rPr>
              <a:t>以上所</a:t>
            </a:r>
            <a:r>
              <a:rPr b="0" lang="zh-CN" sz="3200" spc="-1" strike="noStrike">
                <a:solidFill>
                  <a:srgbClr val="a50501"/>
                </a:solidFill>
                <a:latin typeface="迷你简卡通"/>
                <a:ea typeface="迷你简卡通"/>
              </a:rPr>
              <a:t>有</a:t>
            </a:r>
            <a:r>
              <a:rPr b="0" lang="zh-CN" sz="3200" spc="-1" strike="noStrike">
                <a:solidFill>
                  <a:srgbClr val="a50501"/>
                </a:solidFill>
                <a:latin typeface="迷你简卡通"/>
                <a:ea typeface="迷你简卡通"/>
              </a:rPr>
              <a:t>an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21"/>
          <p:cNvSpPr/>
          <p:nvPr/>
        </p:nvSpPr>
        <p:spPr>
          <a:xfrm>
            <a:off x="6889680" y="909720"/>
            <a:ext cx="787320" cy="619200"/>
          </a:xfrm>
          <a:custGeom>
            <a:avLst/>
            <a:gdLst>
              <a:gd name="textAreaLeft" fmla="*/ 115200 w 787320"/>
              <a:gd name="textAreaRight" fmla="*/ 672120 w 787320"/>
              <a:gd name="textAreaTop" fmla="*/ 90720 h 619200"/>
              <a:gd name="textAreaBottom" fmla="*/ 5284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lnTo>
                  <a:pt x="17932" y="16960"/>
                </a:ln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lnTo>
                  <a:pt x="3667" y="4639"/>
                </a:ln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22"/>
          <p:cNvSpPr/>
          <p:nvPr/>
        </p:nvSpPr>
        <p:spPr>
          <a:xfrm>
            <a:off x="6889680" y="3170160"/>
            <a:ext cx="787320" cy="619200"/>
          </a:xfrm>
          <a:custGeom>
            <a:avLst/>
            <a:gdLst>
              <a:gd name="textAreaLeft" fmla="*/ 115200 w 787320"/>
              <a:gd name="textAreaRight" fmla="*/ 672120 w 787320"/>
              <a:gd name="textAreaTop" fmla="*/ 90720 h 619200"/>
              <a:gd name="textAreaBottom" fmla="*/ 5284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lnTo>
                  <a:pt x="17932" y="16960"/>
                </a:ln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lnTo>
                  <a:pt x="3667" y="4639"/>
                </a:ln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23"/>
          <p:cNvSpPr/>
          <p:nvPr/>
        </p:nvSpPr>
        <p:spPr>
          <a:xfrm>
            <a:off x="6889680" y="2060640"/>
            <a:ext cx="787320" cy="619200"/>
          </a:xfrm>
          <a:custGeom>
            <a:avLst/>
            <a:gdLst>
              <a:gd name="textAreaLeft" fmla="*/ 115200 w 787320"/>
              <a:gd name="textAreaRight" fmla="*/ 672120 w 787320"/>
              <a:gd name="textAreaTop" fmla="*/ 90720 h 619200"/>
              <a:gd name="textAreaBottom" fmla="*/ 5284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lnTo>
                  <a:pt x="17932" y="16960"/>
                </a:ln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lnTo>
                  <a:pt x="3667" y="4639"/>
                </a:ln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4"/>
          <p:cNvSpPr/>
          <p:nvPr/>
        </p:nvSpPr>
        <p:spPr>
          <a:xfrm>
            <a:off x="8043840" y="907920"/>
            <a:ext cx="789120" cy="619200"/>
          </a:xfrm>
          <a:custGeom>
            <a:avLst/>
            <a:gdLst>
              <a:gd name="textAreaLeft" fmla="*/ 115560 w 789120"/>
              <a:gd name="textAreaRight" fmla="*/ 673560 w 789120"/>
              <a:gd name="textAreaTop" fmla="*/ 90720 h 619200"/>
              <a:gd name="textAreaBottom" fmla="*/ 5284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lnTo>
                  <a:pt x="17932" y="16960"/>
                </a:ln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lnTo>
                  <a:pt x="3667" y="4639"/>
                </a:ln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25"/>
          <p:cNvSpPr/>
          <p:nvPr/>
        </p:nvSpPr>
        <p:spPr>
          <a:xfrm>
            <a:off x="8043840" y="3168720"/>
            <a:ext cx="789120" cy="619200"/>
          </a:xfrm>
          <a:custGeom>
            <a:avLst/>
            <a:gdLst>
              <a:gd name="textAreaLeft" fmla="*/ 115560 w 789120"/>
              <a:gd name="textAreaRight" fmla="*/ 673560 w 789120"/>
              <a:gd name="textAreaTop" fmla="*/ 90720 h 619200"/>
              <a:gd name="textAreaBottom" fmla="*/ 5284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lnTo>
                  <a:pt x="17932" y="16960"/>
                </a:ln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lnTo>
                  <a:pt x="3667" y="4639"/>
                </a:ln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26"/>
          <p:cNvSpPr/>
          <p:nvPr/>
        </p:nvSpPr>
        <p:spPr>
          <a:xfrm>
            <a:off x="8043840" y="2060640"/>
            <a:ext cx="789120" cy="619200"/>
          </a:xfrm>
          <a:custGeom>
            <a:avLst/>
            <a:gdLst>
              <a:gd name="textAreaLeft" fmla="*/ 115560 w 789120"/>
              <a:gd name="textAreaRight" fmla="*/ 673560 w 789120"/>
              <a:gd name="textAreaTop" fmla="*/ 90720 h 619200"/>
              <a:gd name="textAreaBottom" fmla="*/ 5284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lnTo>
                  <a:pt x="17932" y="16960"/>
                </a:ln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lnTo>
                  <a:pt x="3667" y="4639"/>
                </a:ln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27"/>
          <p:cNvSpPr/>
          <p:nvPr/>
        </p:nvSpPr>
        <p:spPr>
          <a:xfrm>
            <a:off x="9483840" y="909720"/>
            <a:ext cx="787320" cy="619200"/>
          </a:xfrm>
          <a:custGeom>
            <a:avLst/>
            <a:gdLst>
              <a:gd name="textAreaLeft" fmla="*/ 115200 w 787320"/>
              <a:gd name="textAreaRight" fmla="*/ 672120 w 787320"/>
              <a:gd name="textAreaTop" fmla="*/ 90720 h 619200"/>
              <a:gd name="textAreaBottom" fmla="*/ 5284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lnTo>
                  <a:pt x="17932" y="16960"/>
                </a:ln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lnTo>
                  <a:pt x="3667" y="4639"/>
                </a:ln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28"/>
          <p:cNvSpPr/>
          <p:nvPr/>
        </p:nvSpPr>
        <p:spPr>
          <a:xfrm>
            <a:off x="9483840" y="3170160"/>
            <a:ext cx="787320" cy="619200"/>
          </a:xfrm>
          <a:custGeom>
            <a:avLst/>
            <a:gdLst>
              <a:gd name="textAreaLeft" fmla="*/ 115200 w 787320"/>
              <a:gd name="textAreaRight" fmla="*/ 672120 w 787320"/>
              <a:gd name="textAreaTop" fmla="*/ 90720 h 619200"/>
              <a:gd name="textAreaBottom" fmla="*/ 5284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lnTo>
                  <a:pt x="17932" y="16960"/>
                </a:ln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lnTo>
                  <a:pt x="3667" y="4639"/>
                </a:ln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29"/>
          <p:cNvSpPr/>
          <p:nvPr/>
        </p:nvSpPr>
        <p:spPr>
          <a:xfrm>
            <a:off x="9483840" y="2060640"/>
            <a:ext cx="787320" cy="619200"/>
          </a:xfrm>
          <a:custGeom>
            <a:avLst/>
            <a:gdLst>
              <a:gd name="textAreaLeft" fmla="*/ 115200 w 787320"/>
              <a:gd name="textAreaRight" fmla="*/ 672120 w 787320"/>
              <a:gd name="textAreaTop" fmla="*/ 90720 h 619200"/>
              <a:gd name="textAreaBottom" fmla="*/ 5284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lnTo>
                  <a:pt x="17932" y="16960"/>
                </a:ln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lnTo>
                  <a:pt x="3667" y="4639"/>
                </a:ln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3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sp>
        <p:nvSpPr>
          <p:cNvPr id="636" name="Line 4"/>
          <p:cNvSpPr/>
          <p:nvPr/>
        </p:nvSpPr>
        <p:spPr>
          <a:xfrm>
            <a:off x="7104240" y="659772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626436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50668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3568680" y="3363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7328520" y="3376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11"/>
          <p:cNvSpPr/>
          <p:nvPr/>
        </p:nvSpPr>
        <p:spPr>
          <a:xfrm>
            <a:off x="3230640" y="2038320"/>
            <a:ext cx="14040" cy="804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Line 12"/>
          <p:cNvSpPr/>
          <p:nvPr/>
        </p:nvSpPr>
        <p:spPr>
          <a:xfrm>
            <a:off x="2779560" y="2567160"/>
            <a:ext cx="290520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3227400" y="3346560"/>
            <a:ext cx="14400" cy="804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Line 14"/>
          <p:cNvSpPr/>
          <p:nvPr/>
        </p:nvSpPr>
        <p:spPr>
          <a:xfrm>
            <a:off x="2776680" y="3846600"/>
            <a:ext cx="29048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Line 15"/>
          <p:cNvSpPr/>
          <p:nvPr/>
        </p:nvSpPr>
        <p:spPr>
          <a:xfrm>
            <a:off x="6972480" y="3351240"/>
            <a:ext cx="15840" cy="806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Line 16"/>
          <p:cNvSpPr/>
          <p:nvPr/>
        </p:nvSpPr>
        <p:spPr>
          <a:xfrm>
            <a:off x="6523200" y="3805200"/>
            <a:ext cx="2904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3211560" y="38019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6939000" y="375120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1"/>
          <p:cNvSpPr/>
          <p:nvPr/>
        </p:nvSpPr>
        <p:spPr>
          <a:xfrm>
            <a:off x="2723760" y="329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22"/>
          <p:cNvSpPr/>
          <p:nvPr/>
        </p:nvSpPr>
        <p:spPr>
          <a:xfrm>
            <a:off x="6481080" y="3263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24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25"/>
          <p:cNvSpPr/>
          <p:nvPr/>
        </p:nvSpPr>
        <p:spPr>
          <a:xfrm>
            <a:off x="285840" y="264960"/>
            <a:ext cx="116665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26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  <p:sp>
        <p:nvSpPr>
          <p:cNvPr id="659" name="Rectangle 27"/>
          <p:cNvSpPr/>
          <p:nvPr/>
        </p:nvSpPr>
        <p:spPr>
          <a:xfrm>
            <a:off x="6264360" y="1992240"/>
            <a:ext cx="3317760" cy="95904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迷你简卡通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28"/>
          <p:cNvSpPr/>
          <p:nvPr/>
        </p:nvSpPr>
        <p:spPr>
          <a:xfrm>
            <a:off x="7353720" y="2147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Line 29"/>
          <p:cNvSpPr/>
          <p:nvPr/>
        </p:nvSpPr>
        <p:spPr>
          <a:xfrm>
            <a:off x="6989760" y="2049480"/>
            <a:ext cx="14400" cy="80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Line 30"/>
          <p:cNvSpPr/>
          <p:nvPr/>
        </p:nvSpPr>
        <p:spPr>
          <a:xfrm>
            <a:off x="6539040" y="2579760"/>
            <a:ext cx="2904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1"/>
          <p:cNvSpPr/>
          <p:nvPr/>
        </p:nvSpPr>
        <p:spPr>
          <a:xfrm>
            <a:off x="6972480" y="2503440"/>
            <a:ext cx="223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2"/>
          <p:cNvSpPr/>
          <p:nvPr/>
        </p:nvSpPr>
        <p:spPr>
          <a:xfrm>
            <a:off x="6498720" y="2031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5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sp>
        <p:nvSpPr>
          <p:cNvPr id="669" name="Line 6"/>
          <p:cNvSpPr/>
          <p:nvPr/>
        </p:nvSpPr>
        <p:spPr>
          <a:xfrm>
            <a:off x="7104240" y="638172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157320" y="-1440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</a:t>
            </a:r>
            <a:r>
              <a:rPr b="0" lang="zh-CN" sz="2800" spc="-1" strike="noStrike">
                <a:solidFill>
                  <a:srgbClr val="ffffff"/>
                </a:solidFill>
                <a:latin typeface="迷你简卡通"/>
                <a:ea typeface="迷你简准圆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2989440" y="264960"/>
            <a:ext cx="8962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192240" y="2916360"/>
            <a:ext cx="60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卡通"/>
              </a:rPr>
              <a:t>不管能做什么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卡通"/>
              </a:rPr>
              <a:t>　都不会做出比</a:t>
            </a:r>
            <a:r>
              <a:rPr b="0" lang="zh-CN" sz="2400" spc="-1" strike="noStrike">
                <a:solidFill>
                  <a:srgbClr val="a50501"/>
                </a:solidFill>
                <a:latin typeface="Calibri"/>
                <a:ea typeface="迷你简卡通"/>
              </a:rPr>
              <a:t>袜子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卡通"/>
              </a:rPr>
              <a:t>还臭的东西．．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迷你简卡通"/>
              </a:rPr>
              <a:t>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AutoShape 11"/>
          <p:cNvSpPr/>
          <p:nvPr/>
        </p:nvSpPr>
        <p:spPr>
          <a:xfrm>
            <a:off x="8637480" y="2700360"/>
            <a:ext cx="1125720" cy="1125360"/>
          </a:xfrm>
          <a:prstGeom prst="octagon">
            <a:avLst>
              <a:gd name="adj" fmla="val 29287"/>
            </a:avLst>
          </a:prstGeom>
          <a:solidFill>
            <a:srgbClr val="a50501"/>
          </a:solidFill>
          <a:ln w="9360">
            <a:solidFill>
              <a:srgbClr val="a5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12"/>
          <p:cNvSpPr/>
          <p:nvPr/>
        </p:nvSpPr>
        <p:spPr>
          <a:xfrm rot="840000">
            <a:off x="8637120" y="306504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COP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5521320" y="1844640"/>
            <a:ext cx="439092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501"/>
                </a:solidFill>
                <a:latin typeface="Calibri"/>
                <a:ea typeface="迷你简卡通"/>
              </a:rPr>
              <a:t>．．．甜过初恋．．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7908840" y="4191120"/>
            <a:ext cx="4235400" cy="52056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501"/>
                </a:solidFill>
                <a:latin typeface="Calibri"/>
                <a:ea typeface="迷你简卡通"/>
              </a:rPr>
              <a:t>钻石恒久远　一颗永流传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6994440" y="836640"/>
            <a:ext cx="4645080" cy="39888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501"/>
                </a:solidFill>
                <a:latin typeface="Calibri"/>
                <a:ea typeface="迷你简卡通"/>
              </a:rPr>
              <a:t>世界上有种专门拆散亲子关系的怪物，叫做＂长大＂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6"/>
          <p:cNvSpPr/>
          <p:nvPr/>
        </p:nvSpPr>
        <p:spPr>
          <a:xfrm>
            <a:off x="5522760" y="4938840"/>
            <a:ext cx="4389480" cy="155628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501"/>
                </a:solidFill>
                <a:latin typeface="迷你简准圆"/>
                <a:ea typeface="迷你简准圆"/>
              </a:rPr>
              <a:t>It's a beatiful day,and I can't see it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0" name="AutoShape 17"/>
          <p:cNvCxnSpPr>
            <a:stCxn id="678" idx="3"/>
            <a:endCxn id="674" idx="2"/>
          </p:cNvCxnSpPr>
          <p:nvPr/>
        </p:nvCxnSpPr>
        <p:spPr>
          <a:xfrm flipH="1">
            <a:off x="9762840" y="1265040"/>
            <a:ext cx="1877040" cy="2068920"/>
          </a:xfrm>
          <a:prstGeom prst="bentConnector3">
            <a:avLst>
              <a:gd name="adj1" fmla="val -12718"/>
            </a:avLst>
          </a:prstGeom>
          <a:ln w="31680">
            <a:solidFill>
              <a:srgbClr val="000000"/>
            </a:solidFill>
            <a:prstDash val="dash"/>
            <a:miter/>
          </a:ln>
        </p:spPr>
      </p:cxnSp>
      <p:cxnSp>
        <p:nvCxnSpPr>
          <p:cNvPr id="681" name="AutoShape 18"/>
          <p:cNvCxnSpPr>
            <a:stCxn id="677" idx="0"/>
            <a:endCxn id="674" idx="2"/>
          </p:cNvCxnSpPr>
          <p:nvPr/>
        </p:nvCxnSpPr>
        <p:spPr>
          <a:xfrm flipV="1" rot="16200000">
            <a:off x="9428040" y="3594240"/>
            <a:ext cx="367560" cy="826200"/>
          </a:xfrm>
          <a:prstGeom prst="bentConnector3">
            <a:avLst>
              <a:gd name="adj1" fmla="val 49901"/>
            </a:avLst>
          </a:prstGeom>
          <a:ln w="31680">
            <a:solidFill>
              <a:srgbClr val="000000"/>
            </a:solidFill>
            <a:prstDash val="dash"/>
            <a:miter/>
          </a:ln>
        </p:spPr>
      </p:cxnSp>
      <p:cxnSp>
        <p:nvCxnSpPr>
          <p:cNvPr id="682" name="AutoShape 19"/>
          <p:cNvCxnSpPr>
            <a:stCxn id="676" idx="2"/>
            <a:endCxn id="674" idx="2"/>
          </p:cNvCxnSpPr>
          <p:nvPr/>
        </p:nvCxnSpPr>
        <p:spPr>
          <a:xfrm flipH="1" rot="16200000">
            <a:off x="8327880" y="1899000"/>
            <a:ext cx="261000" cy="1485000"/>
          </a:xfrm>
          <a:prstGeom prst="bentConnector3">
            <a:avLst>
              <a:gd name="adj1" fmla="val 50138"/>
            </a:avLst>
          </a:prstGeom>
          <a:ln w="31680">
            <a:solidFill>
              <a:srgbClr val="000000"/>
            </a:solidFill>
            <a:prstDash val="dash"/>
            <a:miter/>
          </a:ln>
        </p:spPr>
      </p:cxnSp>
      <p:cxnSp>
        <p:nvCxnSpPr>
          <p:cNvPr id="683" name="AutoShape 20"/>
          <p:cNvCxnSpPr>
            <a:stCxn id="679" idx="0"/>
            <a:endCxn id="674" idx="2"/>
          </p:cNvCxnSpPr>
          <p:nvPr/>
        </p:nvCxnSpPr>
        <p:spPr>
          <a:xfrm flipH="1" flipV="1" rot="5400000">
            <a:off x="7338600" y="3639600"/>
            <a:ext cx="1675440" cy="919800"/>
          </a:xfrm>
          <a:prstGeom prst="bentConnector2">
            <a:avLst/>
          </a:prstGeom>
          <a:ln w="3168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3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sp>
        <p:nvSpPr>
          <p:cNvPr id="686" name="Line 4"/>
          <p:cNvSpPr/>
          <p:nvPr/>
        </p:nvSpPr>
        <p:spPr>
          <a:xfrm>
            <a:off x="7104240" y="659772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6261120" y="3375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6264360" y="19764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迷你简卡通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7353000" y="213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7326000" y="3457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6988320" y="2035080"/>
            <a:ext cx="15840" cy="806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6537240" y="2565360"/>
            <a:ext cx="2905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6969240" y="3432240"/>
            <a:ext cx="15840" cy="806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6521400" y="3886200"/>
            <a:ext cx="2905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6970680" y="24890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6937200" y="383220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15"/>
          <p:cNvSpPr/>
          <p:nvPr/>
        </p:nvSpPr>
        <p:spPr>
          <a:xfrm>
            <a:off x="6498720" y="2016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6478920" y="3344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18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19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Line 20"/>
          <p:cNvSpPr/>
          <p:nvPr/>
        </p:nvSpPr>
        <p:spPr>
          <a:xfrm>
            <a:off x="3230640" y="2038320"/>
            <a:ext cx="14040" cy="804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Line 21"/>
          <p:cNvSpPr/>
          <p:nvPr/>
        </p:nvSpPr>
        <p:spPr>
          <a:xfrm>
            <a:off x="2779560" y="2567160"/>
            <a:ext cx="290520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22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3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24"/>
          <p:cNvSpPr/>
          <p:nvPr/>
        </p:nvSpPr>
        <p:spPr>
          <a:xfrm>
            <a:off x="2519280" y="3381480"/>
            <a:ext cx="331812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25"/>
          <p:cNvSpPr/>
          <p:nvPr/>
        </p:nvSpPr>
        <p:spPr>
          <a:xfrm>
            <a:off x="3581280" y="345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26"/>
          <p:cNvSpPr/>
          <p:nvPr/>
        </p:nvSpPr>
        <p:spPr>
          <a:xfrm>
            <a:off x="3240000" y="3424320"/>
            <a:ext cx="14400" cy="8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27"/>
          <p:cNvSpPr/>
          <p:nvPr/>
        </p:nvSpPr>
        <p:spPr>
          <a:xfrm>
            <a:off x="2789280" y="3933720"/>
            <a:ext cx="2905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28"/>
          <p:cNvSpPr/>
          <p:nvPr/>
        </p:nvSpPr>
        <p:spPr>
          <a:xfrm>
            <a:off x="3224160" y="3890880"/>
            <a:ext cx="21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9"/>
          <p:cNvSpPr/>
          <p:nvPr/>
        </p:nvSpPr>
        <p:spPr>
          <a:xfrm>
            <a:off x="2735280" y="338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30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Line 31"/>
          <p:cNvSpPr/>
          <p:nvPr/>
        </p:nvSpPr>
        <p:spPr>
          <a:xfrm>
            <a:off x="285840" y="264960"/>
            <a:ext cx="116665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32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5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sp>
        <p:nvSpPr>
          <p:cNvPr id="719" name="Line 6"/>
          <p:cNvSpPr/>
          <p:nvPr/>
        </p:nvSpPr>
        <p:spPr>
          <a:xfrm>
            <a:off x="7104240" y="659772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192240" y="2916360"/>
            <a:ext cx="60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卡通"/>
              </a:rPr>
              <a:t>不到最好一刻决不说</a:t>
            </a:r>
            <a:r>
              <a:rPr b="0" lang="zh-CN" sz="2400" spc="-1" strike="noStrike">
                <a:solidFill>
                  <a:srgbClr val="a50501"/>
                </a:solidFill>
                <a:latin typeface="Calibri"/>
                <a:ea typeface="迷你简卡通"/>
              </a:rPr>
              <a:t>好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卡通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卡通"/>
              </a:rPr>
              <a:t>　　因为这样可以做得更好．．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  <a:ea typeface="迷你简卡通"/>
              </a:rPr>
              <a:t>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192240" y="4428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·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Line 10"/>
          <p:cNvSpPr/>
          <p:nvPr/>
        </p:nvSpPr>
        <p:spPr>
          <a:xfrm>
            <a:off x="2989440" y="264960"/>
            <a:ext cx="8962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4" name="Picture 11" descr="how"/>
          <p:cNvPicPr/>
          <p:nvPr/>
        </p:nvPicPr>
        <p:blipFill>
          <a:blip r:embed="rId2"/>
          <a:srcRect l="0" t="0" r="14010" b="0"/>
          <a:stretch/>
        </p:blipFill>
        <p:spPr>
          <a:xfrm>
            <a:off x="5880240" y="2455920"/>
            <a:ext cx="5522760" cy="92052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12"/>
          <p:cNvSpPr/>
          <p:nvPr/>
        </p:nvSpPr>
        <p:spPr>
          <a:xfrm>
            <a:off x="5457960" y="3718080"/>
            <a:ext cx="6397560" cy="48996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a50501"/>
                </a:solidFill>
                <a:latin typeface="Calibri"/>
                <a:ea typeface="迷你简卡通"/>
              </a:rPr>
              <a:t>一份文档，一支笔一张纸，外加一个热血沸腾的脑袋，用红、黑、灰、白点缀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3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sp>
        <p:nvSpPr>
          <p:cNvPr id="728" name="Line 4"/>
          <p:cNvSpPr/>
          <p:nvPr/>
        </p:nvSpPr>
        <p:spPr>
          <a:xfrm>
            <a:off x="7104240" y="659772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6234120" y="19764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迷你简卡通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250668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7322760" y="213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3568680" y="3363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Line 9"/>
          <p:cNvSpPr/>
          <p:nvPr/>
        </p:nvSpPr>
        <p:spPr>
          <a:xfrm>
            <a:off x="6958080" y="2035080"/>
            <a:ext cx="15840" cy="806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6507000" y="2565360"/>
            <a:ext cx="2905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Line 11"/>
          <p:cNvSpPr/>
          <p:nvPr/>
        </p:nvSpPr>
        <p:spPr>
          <a:xfrm>
            <a:off x="3227400" y="3346560"/>
            <a:ext cx="14400" cy="804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Line 12"/>
          <p:cNvSpPr/>
          <p:nvPr/>
        </p:nvSpPr>
        <p:spPr>
          <a:xfrm>
            <a:off x="2776680" y="3846600"/>
            <a:ext cx="29048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3"/>
          <p:cNvSpPr/>
          <p:nvPr/>
        </p:nvSpPr>
        <p:spPr>
          <a:xfrm>
            <a:off x="3211560" y="38019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6940440" y="24890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6468480" y="2016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16"/>
          <p:cNvSpPr/>
          <p:nvPr/>
        </p:nvSpPr>
        <p:spPr>
          <a:xfrm>
            <a:off x="2723760" y="329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1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18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Line 19"/>
          <p:cNvSpPr/>
          <p:nvPr/>
        </p:nvSpPr>
        <p:spPr>
          <a:xfrm>
            <a:off x="285840" y="264960"/>
            <a:ext cx="116665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4" name="Picture 20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  <p:sp>
        <p:nvSpPr>
          <p:cNvPr id="745" name="Rectangle 21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2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Line 23"/>
          <p:cNvSpPr/>
          <p:nvPr/>
        </p:nvSpPr>
        <p:spPr>
          <a:xfrm>
            <a:off x="3230640" y="2038320"/>
            <a:ext cx="14040" cy="804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Line 24"/>
          <p:cNvSpPr/>
          <p:nvPr/>
        </p:nvSpPr>
        <p:spPr>
          <a:xfrm>
            <a:off x="2779560" y="2567160"/>
            <a:ext cx="290520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 Box 25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26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7"/>
          <p:cNvSpPr/>
          <p:nvPr/>
        </p:nvSpPr>
        <p:spPr>
          <a:xfrm>
            <a:off x="6234120" y="3279600"/>
            <a:ext cx="3317760" cy="9622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28"/>
          <p:cNvSpPr/>
          <p:nvPr/>
        </p:nvSpPr>
        <p:spPr>
          <a:xfrm>
            <a:off x="7298280" y="3363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Line 29"/>
          <p:cNvSpPr/>
          <p:nvPr/>
        </p:nvSpPr>
        <p:spPr>
          <a:xfrm>
            <a:off x="6942240" y="3336840"/>
            <a:ext cx="15840" cy="80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Line 30"/>
          <p:cNvSpPr/>
          <p:nvPr/>
        </p:nvSpPr>
        <p:spPr>
          <a:xfrm>
            <a:off x="6492960" y="3790800"/>
            <a:ext cx="2905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31"/>
          <p:cNvSpPr/>
          <p:nvPr/>
        </p:nvSpPr>
        <p:spPr>
          <a:xfrm>
            <a:off x="6910560" y="3738600"/>
            <a:ext cx="223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32"/>
          <p:cNvSpPr/>
          <p:nvPr/>
        </p:nvSpPr>
        <p:spPr>
          <a:xfrm>
            <a:off x="6452640" y="3251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8T04:48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