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A35-2617-4191-9A67-672A35D0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6E8-CBF4-42FC-96D2-245C6776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0F5-6F08-4ED2-80D1-5AF6D11E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02F-516F-4CC5-A522-29BE220C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9591-097D-4B96-9DEB-C0F6076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2F4E-A5C9-4F00-8484-7C94F61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AD41-0D6B-4CB6-B845-8BB08C1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B762-01C5-4E13-B6C8-E1F44A88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41BB-CC16-461C-A0B9-DF54F412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181-E287-4D90-988A-E2EC97B0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DB30-F481-4C47-A789-D430CAC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E24-0A25-43B5-AEA8-DEBBE08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4844-AE89-4DDE-84DC-FDAF107E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F9F3-B130-4C36-84A5-9E6FE83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C99-A2F4-4764-AB9A-F126D16D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8222-79DC-4D9C-A3D4-C641122B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C69-C2D0-4DDA-88C3-FF1CA645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3115-BFB6-4659-A3FA-9F6A83A1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EB43-37F1-4A7C-AA6E-AD6D3CE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6825-0EF8-498D-8A01-29D61D02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F581-06D2-48ED-866C-1771C7FD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9899-97B9-4E01-B08B-6D7DD9A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647-38F3-4303-BA76-D072E052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2C6D-6ABA-40D6-8A75-A7418DFE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C527-10CF-436A-B2D4-B301549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0247-4E0A-4E91-9A5F-791C08C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316A-9164-424E-AAED-752F0C4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1F54-D000-48E9-BFDC-03C6135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18D9-5701-4398-BCC2-B65621A8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96A4-36B4-4AA5-8970-4A698FFE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110-2420-4E55-8517-D640C3C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42C-AA59-4006-BC08-9F315C7D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1B0-5F32-4C9E-A6FA-5BAF2F84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F53-6037-4414-93A9-95C513E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14F-50AA-48F7-9356-AA22D2B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6DC-5166-4F81-BBD9-22A8E8E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A2F-D793-40B8-984A-BE12A1AC3F9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C:\Users\jiabin\Desktop\图片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iabin\Desktop\图片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B66E-F62F-41E0-A4FE-5EA3EA6E8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661-9E65-4710-9DEA-D029BB36F4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B06-668B-4D5E-B2F0-CDC937A96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4" descr="C:\Users\jiabin\Desktop\未标题-2.png"/>
          <p:cNvPicPr/>
          <p:nvPr/>
        </p:nvPicPr>
        <p:blipFill>
          <a:blip r:embed="rId1"/>
          <a:stretch/>
        </p:blipFill>
        <p:spPr>
          <a:xfrm>
            <a:off x="-49320" y="1197000"/>
            <a:ext cx="9229680" cy="25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7000"/>
              </a:srgbClr>
            </a:outerShdw>
          </a:effectLst>
        </p:spPr>
      </p:pic>
      <p:sp>
        <p:nvSpPr>
          <p:cNvPr id="126" name="TextBox 1"/>
          <p:cNvSpPr/>
          <p:nvPr/>
        </p:nvSpPr>
        <p:spPr>
          <a:xfrm>
            <a:off x="7374960" y="38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题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8123400" y="424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讲课人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264680" y="121284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级标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6154560" y="3141720"/>
            <a:ext cx="2982960" cy="3208320"/>
            <a:chOff x="6154560" y="3141720"/>
            <a:chExt cx="2982960" cy="3208320"/>
          </a:xfrm>
        </p:grpSpPr>
        <p:sp>
          <p:nvSpPr>
            <p:cNvPr id="130" name="Straight Connector 7"/>
            <p:cNvSpPr/>
            <p:nvPr/>
          </p:nvSpPr>
          <p:spPr>
            <a:xfrm flipH="1">
              <a:off x="8224560" y="3141720"/>
              <a:ext cx="912960" cy="912600"/>
            </a:xfrm>
            <a:prstGeom prst="line">
              <a:avLst/>
            </a:prstGeom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8"/>
            <p:cNvSpPr/>
            <p:nvPr/>
          </p:nvSpPr>
          <p:spPr>
            <a:xfrm flipH="1">
              <a:off x="6154560" y="3368520"/>
              <a:ext cx="2982960" cy="2981520"/>
            </a:xfrm>
            <a:prstGeom prst="line">
              <a:avLst/>
            </a:prstGeom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9"/>
            <p:cNvSpPr/>
            <p:nvPr/>
          </p:nvSpPr>
          <p:spPr>
            <a:xfrm flipH="1">
              <a:off x="7240320" y="3463200"/>
              <a:ext cx="1897200" cy="1896120"/>
            </a:xfrm>
            <a:prstGeom prst="line">
              <a:avLst/>
            </a:prstGeom>
            <a:ln w="93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10"/>
            <p:cNvSpPr/>
            <p:nvPr/>
          </p:nvSpPr>
          <p:spPr>
            <a:xfrm flipH="1">
              <a:off x="7390800" y="3309120"/>
              <a:ext cx="1746360" cy="1745280"/>
            </a:xfrm>
            <a:prstGeom prst="line">
              <a:avLst/>
            </a:prstGeom>
            <a:ln w="2844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11"/>
            <p:cNvSpPr/>
            <p:nvPr/>
          </p:nvSpPr>
          <p:spPr>
            <a:xfrm flipH="1">
              <a:off x="7866720" y="3861000"/>
              <a:ext cx="1270440" cy="1269720"/>
            </a:xfrm>
            <a:prstGeom prst="line">
              <a:avLst/>
            </a:prstGeom>
            <a:ln w="2844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684360" y="1968120"/>
            <a:ext cx="2660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22226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268"/>
                </a:solidFill>
                <a:latin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22226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268"/>
                </a:solidFill>
                <a:latin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22226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268"/>
                </a:solidFill>
                <a:latin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222268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22268"/>
                </a:solidFill>
                <a:latin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2700360" y="1916280"/>
            <a:ext cx="525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内容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/>
          <p:cNvSpPr/>
          <p:nvPr/>
        </p:nvSpPr>
        <p:spPr>
          <a:xfrm rot="19416600">
            <a:off x="-1647360" y="603360"/>
            <a:ext cx="5543280" cy="503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290520" y="166680"/>
            <a:ext cx="811080" cy="755640"/>
          </a:xfrm>
          <a:prstGeom prst="rect">
            <a:avLst/>
          </a:prstGeom>
          <a:noFill/>
          <a:ln w="12600">
            <a:solidFill>
              <a:srgbClr val="89a4a7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826920" y="638280"/>
            <a:ext cx="546120" cy="538200"/>
          </a:xfrm>
          <a:prstGeom prst="rect">
            <a:avLst/>
          </a:prstGeom>
          <a:noFill/>
          <a:ln w="12600">
            <a:solidFill>
              <a:srgbClr val="89a4a7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2193840" y="1700280"/>
            <a:ext cx="475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幼圆"/>
                <a:ea typeface="幼圆"/>
              </a:rPr>
              <a:t>内容填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-34920" y="5494320"/>
            <a:ext cx="9215280" cy="814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3492360" y="2492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9194d"/>
                </a:solidFill>
                <a:latin typeface="Arial"/>
                <a:ea typeface="宋体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7302960" y="3908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9194d"/>
                </a:solidFill>
                <a:latin typeface="微软雅黑"/>
                <a:ea typeface="微软雅黑"/>
              </a:rPr>
              <a:t>作者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51:46Z</dcterms:modified>
  <cp:revision>1</cp:revision>
  <dc:subject/>
  <dc:title>PowerPoint 演示文稿</dc:title>
</cp:coreProperties>
</file>