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234B-8460-4D9A-BB52-35B5032B5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B3CA-0FC1-4757-82D3-51142D917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42A253-7543-4389-81DF-1CB863C55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794735-7A57-4C3A-970E-D733FB67A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51B1F5-3F51-4F7A-97BD-5B865E0CB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6E962A-E75F-47EF-9DF4-2FCE8CA86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4A1741-8A69-4692-9B6D-5C9AC8D6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61CE61-E5CF-473E-9AC7-F85F7315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BE82D7-4B88-4FD3-9BBE-BA304B4AC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DEBD36-D454-4CF5-8C45-7B88B8BFB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912B96-E8DD-4552-A618-B5B8AD37D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D4B491-ACA6-4CFC-AED7-89E6EA394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DA2B-A68A-46EB-AB06-7A869CD6B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46A1C0-253A-465C-8EBD-4487C6ACC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A1BFC9-8991-4D1A-B377-6DF915E42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17C870-3882-4A9A-9CBA-866C92222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9698CE-AA27-43C8-A84B-7F806285C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01DDB4-5B55-4FB2-B98F-8BD138DA0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C9ECF5-7190-4FA2-B141-46A03C9C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0A2112-DF16-4697-B213-0BC7E220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04F899-6BCC-438D-A2B3-4BF03FA55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807DCD-4A21-4159-9C86-5B13D7E61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4DEC54-2353-4003-85D2-EFF59F497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07C3-FBCF-46D2-9BC7-D0B06FBDE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3973E6-522F-40A8-AA66-16FC15785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60D969-928C-48E5-82E9-426FB163F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BD5251-9AB3-490B-9CF0-E8820C9BC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E9639F-22E1-43A9-88E1-0282B4845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BA283D-D0BD-4BDB-B244-A92206D3B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CFF82C-AB24-43B0-AD8C-D14CA9531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16561B-E01B-44AD-B7D6-968076788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CCC171-23FF-484B-A279-48023740D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A8BD76-3C08-42C8-A689-6D536F78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4377A0-21C3-4B46-B5D7-1AC80256F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9AF8E-D3D1-4070-84C5-5F9E3F697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8EA530-3357-4A01-A27A-E0AD8AF01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71B532-7CEE-45EC-A008-4B7CA97B0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6700E2-714B-416D-B42B-F0AD1B5E3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910673-CCE8-4145-BDE9-D0286EC2E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A5F95E-52AE-4547-9119-C918F6F14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5FF715-6A57-4896-8985-E27E16DD8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727EAE-2345-4E09-A2B2-F77236973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B04519-9BF0-41A8-8C4B-42C2EDD56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371C46-A6AE-44B0-966F-3B0843217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A78528-0810-493F-A585-2ADEC270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64583-2995-4481-8DFB-83877E7B6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C4B31C-8660-4055-968C-918598B05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B732B2-A6E9-4363-9440-AD8D2586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A2CB1C-F3EE-4E75-8F41-46E2C0312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87356B-067A-452C-9E23-FD71CEA25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7C863E-C832-496B-A2B0-7E62A0AB1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A0CB55-8B43-46A0-AF0C-2E8F20197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BFA4A7-B26F-44C3-85E3-7E59098BB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9479EA-F8B0-4DA2-A595-4AF01A5E1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B5FD39-6C2E-4AA7-A508-EFAFB02CA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D04142-125D-4146-BD8C-029A7E69C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33C35-A8A0-4AC1-B522-034E4F19A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083A55-862A-4A75-B11D-A8647BDF8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EF32EF-3AF2-46D5-A347-63678D70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6280B8-BD21-4B1E-BBFD-4121872CB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091454-79DE-4081-8F84-F19B83BB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24EE9F-9085-461A-9706-FB47981AD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D013DA-81A5-4039-AD05-8B37186A6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2C645A-E364-4F36-AD58-27782BDE3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EE111-16FA-4A6C-B10E-EDC3AF42B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E782B-E8BF-4024-AC03-94DB9D5FE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B0283-0DAD-4A0E-811A-0C9DD36E3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2374A-4CD0-476C-AF05-F7C7A01F9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DC59-63BF-4A14-AC90-2FC6B3E52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3FC5C-9177-42CB-82C5-0C7423C73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66620-6B35-4F45-A273-D54E513CA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D4F84-97EF-4FB0-B08B-36959E6BD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F5CF0-5DE0-402E-82D8-407F7C264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314E8-B3E9-4796-B5FA-BCE63FA25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C9777-4B87-4984-9B07-11672F8E8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6089B-E75E-4E70-9DBB-55622A170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7C62C-665E-4D01-A7DD-8177226AB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EC8C5-47EB-48D3-BAB9-66415978C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47E8A-3D8E-4EE3-9112-1C585A707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8F2A-586D-4F52-8FD6-E35B96209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1B425-17FB-4DC6-B8AA-38DAEF2D6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E0A7F-4E8C-4476-8DBC-2FFB1013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784AE-9422-480C-AB47-074BAE6BE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4018F-D446-4DE1-A676-FF962126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40D68-28AD-4213-84D1-786E23457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26C94-850D-4FAE-9443-52878564B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E0317-8FBC-4700-BB7E-C369FD1CF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04C40-784A-4233-B358-E2EFD28A8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B0B8C-D70C-4E44-B85C-FDCB37832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BBB70-BF35-4094-A1EA-B18E956A8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4214-BF22-4220-9E88-4AEBE49D4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55FF1-3B4D-47A3-8E1D-97B01B370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23883-398C-4E1D-BEDD-B76BF2DCF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6CC2E-FE78-4143-A483-A5036B6AF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EB217-8D52-456B-BD86-093AB2787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D6C57-D0BE-416C-8CB0-8726BC61A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47247-B899-4BE2-9CCD-B38414B4A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DF928-C047-45BF-B461-45437E7CD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65B4C-9DC8-4291-BB16-B8FEEC6C4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A09EA-69FA-4B11-A92D-815FB9206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18AD8D-E9AF-4280-9102-B465EF877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B264-6557-45FC-8E0D-F0F1273F7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10E2F-E98B-4767-A44D-56D88E199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097385-976E-456B-8C34-3FFD728F6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FF92C-A798-4A45-8A5E-7D54D2897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887EF5-F138-471A-9F5C-7508633F3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B0C73B-08F3-4C13-9A7B-1983539FD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609A65-1E82-43DA-ADAC-98343B27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8FAD86-546C-4257-84EB-13FCFB590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83ECC-6129-4F96-89FA-5993CB092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72178-4E05-4E61-8D54-4A20E1458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9ECB6-B09E-4B42-97AE-78BD5BC1C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7BBC-A757-49E1-88F1-36AA50CAE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0134E9-2FF6-4841-93A7-BB6C1BE5C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642FF-87A6-4AB9-A033-588E548FD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4BA1C7-C604-4265-8619-70EA525F0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D9E2DA-0BD2-481D-A7CD-79854C52B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4EE80F-C584-4724-981F-67E5048A8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F04369-00A5-48F6-902A-52FFB8C8C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C79AF7-F45A-4781-B9FF-8A1A6B64A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69DCD-2CCB-4CA2-B2C7-CC0D372A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B4AB5F-DC6D-48EF-B9E5-FAEC339E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D1856-DD63-41C8-BC89-03A1ECF6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5F07-0E12-4016-A458-35C22B346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2AF26E-5843-4799-A1C8-9F72BE4A2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8D70A6-A762-4A82-9EF0-53F9D0278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3DA03C-E81B-45F7-A8C1-C48FDA987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60AAB4-2470-4B12-AD26-86810F70C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BA510B-01AB-4F90-93D5-044432417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517BBB-F619-403D-972D-500C2B9FC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4DDDB9-F81D-49E6-91CA-17E7C1C4E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10C05A-9370-457F-AC1A-4EE04530F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E7D092-ADB4-4755-A2E0-DFE835789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947D48-CF12-40DB-B988-0C5C01F0C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727C-C4ED-4549-81D9-867CC758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19138B-B47C-42D3-A007-1584460C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2CD31B-357B-47A4-9BD2-AB38DD5C7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C15B62-38F5-45BB-B366-49CF1FEF6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5BE389-E979-4A21-8AED-E40A93B4E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A3C466-C6C8-41BC-8D8D-0F76E665E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FF04D5-9C5D-4D90-942F-7AE6F14FC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545B57-3012-444D-BDAC-CAEF6B9D1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06CFA9-69C4-44CC-9C4E-A6AE9EE2F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0FFBCC-4F38-44ED-9A8C-0272DC34F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4DAE3A-A3C1-440C-B4A4-F268ECF95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F9DF-24FF-4BF1-BFA0-025C7097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AB031F-E423-4B15-818B-0EA43E992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96728A-9EBE-4C35-8F81-4E8A86DA4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FC638E-B0FB-4FDB-8044-008AAC55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76666D-7197-4EF8-B836-594D6EED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FEB4AD-FC16-4423-8606-B26418267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4E08A2-E708-4E7D-83B4-E3427E9AA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2C17D0-E726-4F3E-8D40-C816AAAF6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0B0724-FA75-42FD-8EF4-0DBCAF6E5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147919-880C-4ADC-BEF6-CB104BFFF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2840FA-27A7-4AA8-848F-9D64A2370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01158-0D6C-43E9-BDC9-A3B9B369A63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B6A82-81B1-4CA7-A7A4-363EC3AC3B2C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DE299-0A2C-4923-8AEF-8EB8EA4F550F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7C076-B30D-48CC-B509-094CB1A023B5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A1363-1974-48FF-8C28-48FF3A852552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6BCE8-3FB6-4511-8C60-12B65EC0E58B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972ED-548B-441E-A11B-8B803D4D20E0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8EB32-E619-4E97-A3C4-4FC2BF4A679C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9BB22-6BBE-40F2-B589-4956723E70BB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B85FB-1ABF-49FB-AA6D-ADAEACC4E88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84319-84F0-4E03-8697-F13A0D2ACA5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DC006-E328-4D77-9E21-DE8F341BDB20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132DB-8365-4D80-BC64-904346A1954B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3CE21-4E46-4A22-B3B8-3A85B1AA1EA9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1AC0F-6020-4317-B6FF-EE20D819BACA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62F60-2BF8-4CE1-A618-9A7F3D098BD6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15C82-24FB-46DE-B884-1E61265F51C1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DF944-2CB4-486A-9DF5-C6BB5E0B2D69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A47FA-22DF-45EF-95E3-DF3D18F71658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C73B4-E915-4227-8E0E-97CC4F356BBB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A906B-F8A1-4597-8B26-849753A54E2A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0B476-2C35-43E6-B49E-8432FA380677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FDF98-007E-4FA0-B509-2C7C03A93511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F1503-FFF6-470B-A9F5-6FB0B6FF7736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855A9-B69E-4868-B1EB-63B38F6B3C06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未标2"/>
          <p:cNvPicPr/>
          <p:nvPr/>
        </p:nvPicPr>
        <p:blipFill>
          <a:blip r:embed="rId1"/>
          <a:stretch/>
        </p:blipFill>
        <p:spPr>
          <a:xfrm>
            <a:off x="0" y="1440"/>
            <a:ext cx="12192120" cy="684396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3"/>
          <p:cNvSpPr/>
          <p:nvPr/>
        </p:nvSpPr>
        <p:spPr>
          <a:xfrm>
            <a:off x="1828800" y="2765520"/>
            <a:ext cx="6016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Calibri"/>
                <a:ea typeface="黑体"/>
              </a:rPr>
              <a:t>设计调研报告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2" descr="C:\Users\Administrator\Desktop\mb\未标2.jpg未标2"/>
          <p:cNvPicPr/>
          <p:nvPr/>
        </p:nvPicPr>
        <p:blipFill>
          <a:blip r:embed="rId1"/>
          <a:stretch/>
        </p:blipFill>
        <p:spPr>
          <a:xfrm>
            <a:off x="0" y="-22320"/>
            <a:ext cx="12165120" cy="6878880"/>
          </a:xfrm>
          <a:prstGeom prst="rect">
            <a:avLst/>
          </a:prstGeom>
          <a:ln w="0">
            <a:noFill/>
          </a:ln>
        </p:spPr>
      </p:pic>
      <p:sp>
        <p:nvSpPr>
          <p:cNvPr id="536" name="Text Box 3"/>
          <p:cNvSpPr/>
          <p:nvPr/>
        </p:nvSpPr>
        <p:spPr>
          <a:xfrm>
            <a:off x="5008680" y="255600"/>
            <a:ext cx="314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调研流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Text Box 4"/>
          <p:cNvSpPr/>
          <p:nvPr/>
        </p:nvSpPr>
        <p:spPr>
          <a:xfrm>
            <a:off x="4003560" y="1495440"/>
            <a:ext cx="4992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Text Box 5"/>
          <p:cNvSpPr/>
          <p:nvPr/>
        </p:nvSpPr>
        <p:spPr>
          <a:xfrm>
            <a:off x="4991040" y="1355760"/>
            <a:ext cx="4270320" cy="28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制定计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分配工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市场调研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人群调研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模拟表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9" name="Object 6"/>
              <p:cNvSpPr txBox="1"/>
              <p:nvPr/>
            </p:nvSpPr>
            <p:spPr>
              <a:xfrm>
                <a:off x="563868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过渡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1" name="Picture 3" descr="未-2"/>
          <p:cNvPicPr/>
          <p:nvPr/>
        </p:nvPicPr>
        <p:blipFill>
          <a:blip r:embed="rId1"/>
          <a:stretch/>
        </p:blipFill>
        <p:spPr>
          <a:xfrm>
            <a:off x="-6480" y="14400"/>
            <a:ext cx="12184200" cy="6854760"/>
          </a:xfrm>
          <a:prstGeom prst="rect">
            <a:avLst/>
          </a:prstGeom>
          <a:ln w="0">
            <a:noFill/>
          </a:ln>
        </p:spPr>
      </p:pic>
      <p:sp>
        <p:nvSpPr>
          <p:cNvPr id="542" name="Text Box 4"/>
          <p:cNvSpPr/>
          <p:nvPr/>
        </p:nvSpPr>
        <p:spPr>
          <a:xfrm>
            <a:off x="1104840" y="14400"/>
            <a:ext cx="558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黑体"/>
              </a:rPr>
              <a:t>市场调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Text Box 5"/>
          <p:cNvSpPr/>
          <p:nvPr/>
        </p:nvSpPr>
        <p:spPr>
          <a:xfrm>
            <a:off x="1066680" y="1603440"/>
            <a:ext cx="2449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4" name="Picture 6" descr="未标s题-2"/>
          <p:cNvPicPr/>
          <p:nvPr/>
        </p:nvPicPr>
        <p:blipFill>
          <a:blip r:embed="rId2"/>
          <a:stretch/>
        </p:blipFill>
        <p:spPr>
          <a:xfrm>
            <a:off x="584280" y="1724040"/>
            <a:ext cx="3375000" cy="189864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7" descr="未标s题-2"/>
          <p:cNvPicPr/>
          <p:nvPr/>
        </p:nvPicPr>
        <p:blipFill>
          <a:blip r:embed="rId3"/>
          <a:stretch/>
        </p:blipFill>
        <p:spPr>
          <a:xfrm>
            <a:off x="4113360" y="1698480"/>
            <a:ext cx="3373200" cy="189864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8" descr="未标s题-2"/>
          <p:cNvPicPr/>
          <p:nvPr/>
        </p:nvPicPr>
        <p:blipFill>
          <a:blip r:embed="rId4"/>
          <a:stretch/>
        </p:blipFill>
        <p:spPr>
          <a:xfrm>
            <a:off x="7740720" y="1698480"/>
            <a:ext cx="3375000" cy="1898640"/>
          </a:xfrm>
          <a:prstGeom prst="rect">
            <a:avLst/>
          </a:prstGeom>
          <a:ln w="0">
            <a:noFill/>
          </a:ln>
        </p:spPr>
      </p:pic>
      <p:sp>
        <p:nvSpPr>
          <p:cNvPr id="547" name="Text Box 9"/>
          <p:cNvSpPr/>
          <p:nvPr/>
        </p:nvSpPr>
        <p:spPr>
          <a:xfrm>
            <a:off x="1392120" y="3963960"/>
            <a:ext cx="229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part.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Text Box 10"/>
          <p:cNvSpPr/>
          <p:nvPr/>
        </p:nvSpPr>
        <p:spPr>
          <a:xfrm>
            <a:off x="4184640" y="3932280"/>
            <a:ext cx="214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part.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Text Box 11"/>
          <p:cNvSpPr/>
          <p:nvPr/>
        </p:nvSpPr>
        <p:spPr>
          <a:xfrm>
            <a:off x="7048440" y="3943440"/>
            <a:ext cx="217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part.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内容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1" name="Picture 3" descr="标题-2"/>
          <p:cNvPicPr/>
          <p:nvPr/>
        </p:nvPicPr>
        <p:blipFill>
          <a:blip r:embed="rId1"/>
          <a:stretch/>
        </p:blipFill>
        <p:spPr>
          <a:xfrm>
            <a:off x="1440" y="-1440"/>
            <a:ext cx="1219068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内容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3" name="Picture 3" descr="标题-2"/>
          <p:cNvPicPr/>
          <p:nvPr/>
        </p:nvPicPr>
        <p:blipFill>
          <a:blip r:embed="rId1"/>
          <a:stretch/>
        </p:blipFill>
        <p:spPr>
          <a:xfrm>
            <a:off x="1440" y="-1440"/>
            <a:ext cx="1219068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自定义页（可选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5" name="Picture 3" descr="题-2"/>
          <p:cNvPicPr/>
          <p:nvPr/>
        </p:nvPicPr>
        <p:blipFill>
          <a:blip r:embed="rId1"/>
          <a:stretch/>
        </p:blipFill>
        <p:spPr>
          <a:xfrm>
            <a:off x="3240" y="6480"/>
            <a:ext cx="12163320" cy="6851520"/>
          </a:xfrm>
          <a:prstGeom prst="rect">
            <a:avLst/>
          </a:prstGeom>
          <a:ln w="0">
            <a:noFill/>
          </a:ln>
        </p:spPr>
      </p:pic>
      <p:sp>
        <p:nvSpPr>
          <p:cNvPr id="556" name="Text Box 4"/>
          <p:cNvSpPr/>
          <p:nvPr/>
        </p:nvSpPr>
        <p:spPr>
          <a:xfrm>
            <a:off x="5452920" y="2516040"/>
            <a:ext cx="40658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THANK 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" name="Group 2"/>
          <p:cNvGrpSpPr/>
          <p:nvPr/>
        </p:nvGrpSpPr>
        <p:grpSpPr>
          <a:xfrm>
            <a:off x="1523880" y="0"/>
            <a:ext cx="8466120" cy="6858000"/>
            <a:chOff x="1523880" y="0"/>
            <a:chExt cx="8466120" cy="6858000"/>
          </a:xfrm>
        </p:grpSpPr>
        <p:sp>
          <p:nvSpPr>
            <p:cNvPr id="558" name="矩形 4"/>
            <p:cNvSpPr/>
            <p:nvPr/>
          </p:nvSpPr>
          <p:spPr>
            <a:xfrm>
              <a:off x="214092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5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52388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0" name="TextBox 7"/>
            <p:cNvSpPr/>
            <p:nvPr/>
          </p:nvSpPr>
          <p:spPr>
            <a:xfrm rot="20926800">
              <a:off x="344484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zuazua W</dc:creator>
  <dc:description/>
  <cp:keywords/>
  <dc:language>en-US</dc:language>
  <cp:lastModifiedBy>a</cp:lastModifiedBy>
  <dcterms:modified xsi:type="dcterms:W3CDTF">2014-07-17T06:05:08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