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68E-8761-4B84-9FAB-6BA56FD5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36C-E384-4520-8023-C7619AF6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3A4-B08F-4771-B68E-0AC5B8D5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051-0A74-4663-AD82-7C4A5E50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0D6-F262-4CB2-B7FC-819A8900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6951-A3DC-40F4-A52C-C60187A6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94BA-2BD3-4DD9-88D3-2F1C3E5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0DBB-1203-4B61-8692-C288011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7B90-7E40-4358-BE9B-B1C39097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A717-262E-4224-8B72-B0126F72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E30D-35AA-4150-85E2-EF4F6FE5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975-ED35-4FAF-AF4F-C0267BB6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BC67-668D-4210-B629-DAD4BFE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A402-CDCF-473B-98FD-4C2F3FA1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6E5-2230-4CCB-B98C-D3E21A7A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D1B4-34F0-41DF-B04E-384B40C9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B2E6-7170-480B-9253-C733F874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6B7-D3A3-4B09-BD69-D9628F4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3D8-6C09-427B-9F71-C0A75D8D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DA4-A4B7-4215-B924-DBBB62CC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EFC-EA80-4D7B-A649-F9AD4318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D72-F182-488E-9E4C-25DE5A71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660-7CA1-41C1-8759-92281196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C7F-9158-4C87-B726-B6E3C1CB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54A3-99BC-49E7-8EF6-1111D8705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5145-7D27-45D0-9E65-AB994AA841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E71E-9104-42CB-80A0-8B0E955982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08:44:12Z</dcterms:created>
  <dc:creator>hp</dc:creator>
  <dc:description/>
  <cp:keywords/>
  <dc:language>en-US</dc:language>
  <cp:lastModifiedBy>a</cp:lastModifiedBy>
  <dcterms:modified xsi:type="dcterms:W3CDTF">2014-08-13T02:12:5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