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8CC-2EDD-4B72-9F81-F38953FD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267-4642-4641-8812-9F1BE09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90969-BE14-47D1-B79B-B982DAD2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9A389-EF04-456E-A4C3-A93D2917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4A003-F9C2-4D67-8308-F9C0543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16067-8BC7-49B0-870D-16EBC11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1423A-CAF5-42EA-A18C-C3F52F6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14D78-0FC1-41D9-B3F9-1533C7A0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BDEF0-89F9-4571-8A3C-CCD3D68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919F1-18B2-40D3-A505-7255F633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6BA88-8900-4F13-8C99-F42F2B8F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7E997-7509-45D0-A8C2-1B5D5091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D69-D758-4C0A-A221-AF662525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45A82-2BEE-41D2-B581-D8F632D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16BDE-8FAD-48C2-80B3-50E3F8B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A344-22AF-47A4-BDCC-ABD42C8E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D32C7-2526-44D9-ACA9-BA14359C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85F9F-8230-47C8-BEBB-C6105D90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1E56C-C447-442A-B9C2-0A52D4F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4BE3B-96A5-4634-9C24-3ED3145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7782A-B854-42A4-B413-2BD5D0D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A1D07-28B5-4AE0-8807-01ED949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FC8B2-E009-4A78-93AB-8A558D45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16C-E284-4498-8B88-34D16BD5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C057F-16C2-4FDA-895A-22A03AA1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60DB4-5D1C-497C-978C-6FA2BFE5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46E3E-0215-4D40-94E3-70CB3110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F6B39-ACFB-4B0D-A44C-1608FED2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D6FD0-D75A-451B-B3EC-E2B0C21F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3BBCA-4487-427C-8766-154BA2E7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110E-EC09-467B-8EB4-FF56FBB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91437-1DEB-4279-B57A-025F3BB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43A2F-5A3B-4BA1-9B24-40359E0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45DA-2C45-47F8-8916-1E9E8EFD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99A3-7A12-4528-9BF7-9D6DE986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0ECE8-69EB-4963-8D71-633E52A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5492-C726-46E4-A45E-D3C53466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E69B0-D8D4-4880-B68F-D0101412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775CD-9003-41EB-8FB8-4AA38ECC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47BFB-DCC8-45B9-BA89-0C11866F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DCFC0-B784-4739-8F25-B42D94BA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F54C-1A7C-40C9-8327-2266823E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7AC6-B966-4BC8-8DCC-22365746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45F8D-2D19-4C87-A48D-3EE52F0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4E9A9-EB45-41A7-A3F2-B170714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567-89AA-4938-A505-B205E43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C3B96-2A27-4600-8C81-AF46394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244E5-8BE5-47FD-BA24-4FC2AFEB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C26DE-A48E-4C65-B967-C2406C4B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84EBE-817E-426A-9877-16BED80E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42BE6-F3FE-4B51-9E1F-2CE00679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2C37D-F9F7-4A12-B820-98B37028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0E079-5CDB-40D1-B8A3-21179C8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85AED-1C99-400E-B483-12FD3C6A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1FCC9-3A8D-4F4C-A9B7-C751070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CF557-0B58-4F6B-8E92-1F56FDC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7CF9-527F-4556-AB84-7703B180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BFDBB-6FD5-4470-A59F-F137628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45A09-DCF8-40D4-9C15-8F245D2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24BE3-94FC-464C-AAAB-786E602D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C3A82-FA63-4E21-8366-B2F7E1B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075A5-E26B-4AE5-ABAF-C553331D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EEB52-D364-4497-9AC3-674660C4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FFB80-34CB-45B6-89A9-1DFABFE2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B5588-BD0A-45B0-9FF3-A1F4D67E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23683-5CC7-437D-84BB-BC14639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8D0AE-1F1C-4E3B-945F-C2D1195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62E4-BF79-4DC7-B77A-DC948633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400F0-C30C-44F1-9B88-8C8427AD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A3161-D9C6-4B08-B5D6-EA353C4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B012E-3669-42F7-91DE-3D80413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37CD7-E197-4FB3-BBAC-0D8A3A6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69B3-3588-4D1C-B3E2-3A4DCF7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4A4A3-0D65-4288-A0C9-515EC07D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67BD8-23C6-49F5-A310-D48A3F4A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2CB53-46D2-47B2-B658-220E5CE7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9C4B7-9734-453B-922B-075D7339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682F-A3AC-4F45-B4B0-25DA6C9A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F4A7-AEB5-4D2C-B34D-F53208D2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EF0-4B57-48E9-9D3D-B325ABA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DA1-D71D-4C4E-9D7C-3AEE9418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E218-CB48-4183-B470-10FABBCF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A949-65D1-43DB-9E96-A8E77DC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E5A6-6F78-42F9-9AAE-B8C87B62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A5C3-4DA0-4B9D-95CA-A22EFAD9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CEDE-0F9A-4C96-8772-80F0AB0F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093C2-A002-44BA-A195-7472E08C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B5A2-1990-4089-9D08-DF50258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8D7B-90F0-4296-8F5B-A9C7D6BA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19CB-C5D7-4807-9667-6B9C0D0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FDA2-4F82-47EE-883C-75BC962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099-6963-4750-BC92-3AEFC724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6CA9-09FF-4913-BC22-6638C715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4989-56AC-4F6A-8404-49632448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74EF-1228-4A21-8ACD-71FF638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0530-D3B3-4F02-B4D2-215BFCC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8344-8620-487D-B071-DAF9F3D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C8DC-C283-4BDD-B04E-53E5B7CE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AEA3-BADB-47C3-A638-AC27D90D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A662-FB63-464D-8AE7-11000292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DD55-D3F7-4EC6-B79B-252889AC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C014-A901-4611-BBF2-CC161625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454-8EC3-4EE2-8E21-16A19A3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77D4-4E78-4D71-ACCC-61C6ED3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F006-EF7E-4F47-BBDD-9AE7CEE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3690-162A-475E-83A6-EDBCC82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456D-E0AD-48EA-8C7B-03B43C8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8C13-C843-4F54-B76B-F234077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7BAB-EBA6-4278-B1EF-8EF0733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897C-B879-4B01-92F2-729D62E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0CE0-F4DB-4F1F-9F02-049F03E5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3B1C-F827-4BFF-A0B0-952A3CFE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4A42-AA9F-4CE3-A890-9A91F6D5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720-E192-4736-8CCF-C17CE19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1B10-24F1-4F7B-947A-064158EB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50F6-FEC6-4880-AB3C-A119269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C17F-5D52-4FD5-90B7-0DAB506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47B4-EF9E-44AB-A19A-B49EF83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E312D-040B-4A05-8F9B-46F539E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226C5-B0F2-46F2-AF27-81AE0E7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1EEEE-A383-4190-A46D-ECE4A2D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2A00-31FB-4C6F-95E7-8FE09B3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918D-CB95-4909-A6C6-C7AD6A6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A383-2861-405E-8299-6B887972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8BD-95E6-4D48-AEE5-B0ABAA3F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B73A-0B7F-4AC4-BDDE-C9EBA50D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2992-5BB3-4152-ACED-9AC3DB13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F272-86CD-4059-9346-75E091D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7D91-49EF-45DA-B2AA-CEB7E5B4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8D0FA-714F-40A2-ADEA-1F28DC80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2651-7966-4F0C-817C-5B3CC2DA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C49C-C2B2-422A-9B0F-ADE6E4E5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2A10-EED1-425F-970C-156735E2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13FC-96DE-4858-BC14-97533F9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8BE07-DF93-4E64-B000-680735B8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560-0B45-4F72-96F4-FAD33F2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B4F3-250E-4939-A340-0C52351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9BB9-C84D-4CFF-9638-FBE3BEF0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FECC-D835-4C0F-AE9B-737D06C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6208-EA3C-4CF0-BB3E-A900784A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AE9AC-D342-47A2-AF0E-DAE9F5F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3B54-7E49-4C44-B66A-EB90441F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B1CAB-2113-491A-8608-98E5D1A5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714DA-5A55-47C3-AF28-58A1687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26520-D214-406D-B39B-3E322EF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FD0FF-20A9-4647-B3C8-7626859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31A-127F-4BE7-87A2-B6E6844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63E9-5B91-42B0-8F5E-86F5048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9D1C-C361-4C28-ACF0-2FF6EDC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F41A-066C-43BA-8998-FAC76246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C9773-5ED4-4371-AFB8-CF5791F4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54DF7-0A3D-45E9-B128-C73ACB59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10048-4702-4C3D-B49F-401C96CD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FB1E-7649-4C79-953B-A14275C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7188-8B9B-4486-841A-CDD8390B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BDC38-5E1F-47EA-B869-7CC304DF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2F11-8F02-4A9C-916D-915CA0B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AAE-B0D9-44BD-8BE6-15B12A8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2AAA3-6260-4179-9690-7C43BC27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163F1-7405-4BA7-962F-F852666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CFA9B-3C02-4100-9BB8-6BF5C75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E49C1-76DB-4AED-B46A-CED2A55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DC35-B826-4FBE-8054-A2196AA0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F20D1-EDE8-44C4-8A4F-C8BC724E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0E408-81EA-4749-84CF-91A91C88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45AF-0B4A-428C-833A-EF88B315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4B62-5C22-4B9E-8B25-2749C5C5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E370-D3D7-4782-95EA-35803A3C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0E7A-1317-4C70-B358-A60BFFA32DF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5836-EFA4-477A-A4EA-B60CCA5F23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2C0-84C0-4E14-8924-3C63C54368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604E-01BA-4F00-AB0F-2FCDF3C193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7296-4E55-45B7-8A32-B97C18A6CB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7506-7B1D-4F5D-8190-C294692026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608-AE94-417A-8C38-5E04AFE0B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893-521C-4C5E-8B7F-50BDCA7D71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C9C3-E7E4-43B1-8D21-EF82FA709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7053-827A-4637-A719-1B0B7A3C5E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EB9F-C6D1-46AB-A726-FCB034153C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2428-5290-4628-8AC3-33C0AF193C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FA0-AE58-4DB6-AF6D-F672CE88A4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D83-2F73-4A19-8BA3-08C34CE4FB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5A4-69E6-4086-99B1-0152F67B0F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AF9-5599-4017-B6E1-0529FC68FF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1D8-B518-47A5-A92D-163E4B8F57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30E4-6ACD-45DC-A290-27ED4FAA7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104-883F-44E0-B3DA-0E65E7F865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B43-805C-4CD2-B621-95DEB7E0F5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5A94-6730-41BB-80AA-93FEB0CF30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92A1-A361-45A6-A503-E5FE77734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BA0-19F9-45A9-942D-C83D9CC1D4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2BD1-110F-41EC-9481-1345266BFF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32D-2875-43BD-8CF2-34BC0E7351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CFC-DBA5-4B97-BBBE-543BB7B72D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3179880" y="4221000"/>
            <a:ext cx="2852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Object 3"/>
          <p:cNvGraphicFramePr/>
          <p:nvPr/>
        </p:nvGraphicFramePr>
        <p:xfrm>
          <a:off x="3708360" y="1819440"/>
          <a:ext cx="407196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819440"/>
                    <a:ext cx="407196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1T07:03:25Z</dcterms:modified>
  <cp:revision>1</cp:revision>
  <dc:subject/>
  <dc:title>PowerPoint 演示文稿</dc:title>
</cp:coreProperties>
</file>