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F25C-6CBA-4AC2-9A3E-44298069B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264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5DA-F3FC-4EB9-92F9-44EF1B3D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C540-0A2A-4454-AE26-EA4EB4C61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08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08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264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264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2640"/>
            <a:ext cx="264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8C1D-5345-4CE8-82B1-9330DFD3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08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45D9-C3A2-4B88-87B0-2CA6AA89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8324-FE92-4DD5-8D22-281CFC1C9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D963-89B4-468E-ACB3-46C01524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0142-B985-4972-A2E6-21FA8C4F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491-766C-4E68-A2E1-2620B13E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C283-A9F5-4B77-ACB0-CCA98ADF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264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10B0-F4B0-4B62-A0D1-31DA0035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080"/>
            <a:ext cx="40158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2640"/>
            <a:ext cx="8229600" cy="17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9B2F-3B8B-44CC-ABB5-C9469A00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080"/>
            <a:ext cx="8229600" cy="37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236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2360"/>
            <a:ext cx="289584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2360"/>
            <a:ext cx="213372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AA2A-386E-4884-BC3A-483C23DBF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52photoshop.cn/pic26170.html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0" descr="EV019-01"/>
          <p:cNvPicPr/>
          <p:nvPr/>
        </p:nvPicPr>
        <p:blipFill>
          <a:blip r:embed="rId1"/>
          <a:stretch/>
        </p:blipFill>
        <p:spPr>
          <a:xfrm>
            <a:off x="-1508040" y="-2711520"/>
            <a:ext cx="12161880" cy="110268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1" descr="EV0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1355760" y="-1347840"/>
            <a:ext cx="11856960" cy="84139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-573120" y="0"/>
            <a:ext cx="10293120" cy="6795720"/>
            <a:chOff x="-573120" y="0"/>
            <a:chExt cx="10293120" cy="6795720"/>
          </a:xfrm>
        </p:grpSpPr>
        <p:pic>
          <p:nvPicPr>
            <p:cNvPr id="44" name="Picture 23" descr="梦幻世界大图 点击还原"/>
            <p:cNvPicPr/>
            <p:nvPr/>
          </p:nvPicPr>
          <p:blipFill>
            <a:blip r:embed="rId4"/>
            <a:stretch/>
          </p:blipFill>
          <p:spPr>
            <a:xfrm>
              <a:off x="-573120" y="0"/>
              <a:ext cx="10293120" cy="676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24" descr="梦幻世界大图 点击还原"/>
            <p:cNvPicPr/>
            <p:nvPr/>
          </p:nvPicPr>
          <p:blipFill>
            <a:blip r:embed="rId5"/>
            <a:srcRect l="0" t="5778" r="66136" b="88150"/>
            <a:stretch/>
          </p:blipFill>
          <p:spPr>
            <a:xfrm>
              <a:off x="-557280" y="133560"/>
              <a:ext cx="378360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25" descr="梦幻世界大图 点击还原"/>
            <p:cNvPicPr/>
            <p:nvPr/>
          </p:nvPicPr>
          <p:blipFill>
            <a:blip r:embed="rId6"/>
            <a:srcRect l="34167" t="80247" r="63289" b="0"/>
            <a:stretch/>
          </p:blipFill>
          <p:spPr>
            <a:xfrm>
              <a:off x="3077280" y="5458680"/>
              <a:ext cx="2883960" cy="133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" name=""/>
          <p:cNvGrpSpPr/>
          <p:nvPr/>
        </p:nvGrpSpPr>
        <p:grpSpPr>
          <a:xfrm>
            <a:off x="2506680" y="1155600"/>
            <a:ext cx="712800" cy="349200"/>
            <a:chOff x="2506680" y="1155600"/>
            <a:chExt cx="712800" cy="349200"/>
          </a:xfrm>
        </p:grpSpPr>
        <p:sp>
          <p:nvSpPr>
            <p:cNvPr id="48" name="Oval 32"/>
            <p:cNvSpPr/>
            <p:nvPr/>
          </p:nvSpPr>
          <p:spPr>
            <a:xfrm>
              <a:off x="2905200" y="1155600"/>
              <a:ext cx="314280" cy="34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WordArt 33"/>
            <p:cNvSpPr txBox="1"/>
            <p:nvPr/>
          </p:nvSpPr>
          <p:spPr>
            <a:xfrm>
              <a:off x="2506680" y="1244520"/>
              <a:ext cx="395280" cy="15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Left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Franklin Gothic Medium"/>
                </a:rPr>
                <a:t>GLOBAL</a:t>
              </a:r>
              <a:endParaRPr b="0" lang="en-US" sz="1800" spc="-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Franklin Gothic Medium"/>
                <a:ea typeface="Franklin Gothic Medium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5884920" y="1028880"/>
            <a:ext cx="712800" cy="349200"/>
            <a:chOff x="5884920" y="1028880"/>
            <a:chExt cx="712800" cy="349200"/>
          </a:xfrm>
        </p:grpSpPr>
        <p:sp>
          <p:nvSpPr>
            <p:cNvPr id="51" name="Oval 35"/>
            <p:cNvSpPr/>
            <p:nvPr/>
          </p:nvSpPr>
          <p:spPr>
            <a:xfrm>
              <a:off x="6283440" y="1028880"/>
              <a:ext cx="314280" cy="34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WordArt 36"/>
            <p:cNvSpPr txBox="1"/>
            <p:nvPr/>
          </p:nvSpPr>
          <p:spPr>
            <a:xfrm>
              <a:off x="5884920" y="1117800"/>
              <a:ext cx="395280" cy="15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Left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Franklin Gothic Medium"/>
                </a:rPr>
                <a:t>BUSINESS</a:t>
              </a:r>
              <a:endParaRPr b="0" lang="en-US" sz="1800" spc="-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Franklin Gothic Medium"/>
                <a:ea typeface="Franklin Gothic Medium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5846760" y="4152960"/>
            <a:ext cx="712800" cy="349200"/>
            <a:chOff x="5846760" y="4152960"/>
            <a:chExt cx="712800" cy="349200"/>
          </a:xfrm>
        </p:grpSpPr>
        <p:sp>
          <p:nvSpPr>
            <p:cNvPr id="54" name="Oval 38"/>
            <p:cNvSpPr/>
            <p:nvPr/>
          </p:nvSpPr>
          <p:spPr>
            <a:xfrm>
              <a:off x="6245280" y="4152960"/>
              <a:ext cx="314280" cy="349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WordArt 39"/>
            <p:cNvSpPr txBox="1"/>
            <p:nvPr/>
          </p:nvSpPr>
          <p:spPr>
            <a:xfrm>
              <a:off x="5846760" y="4241880"/>
              <a:ext cx="395280" cy="150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Left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ffffff">
                      <a:alpha val="80000"/>
                    </a:srgbClr>
                  </a:solidFill>
                  <a:latin typeface="Franklin Gothic Medium"/>
                </a:rPr>
                <a:t>SUCCESS</a:t>
              </a:r>
              <a:endParaRPr b="0" lang="en-US" sz="1800" spc="-1" strike="noStrike">
                <a:ln w="0">
                  <a:noFill/>
                </a:ln>
                <a:solidFill>
                  <a:srgbClr val="ffffff">
                    <a:alpha val="80000"/>
                  </a:srgbClr>
                </a:solidFill>
                <a:latin typeface="Franklin Gothic Medium"/>
                <a:ea typeface="Franklin Gothic Medium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1362600" y="753732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7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20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21599879">
                                      <p:cBhvr>
                                        <p:cTn id="8" dur="120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6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500" autoRev="1" fill="hold"/>
                                        <p:tgtEl>
                                          <p:spTgt spid="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indefinite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972 -0.02028 C 0.40295 0.095 0.41771 0.31472 0.34445 0.46416 C 0.27014 0.61222 0.13368 0.63666 0.04184 0.52 C -0.05104 0.40194 -0.06614 0.18555 0.00781 0.03639 C 0.08212 -0.11306 0.21684 -0.14195 0.30972 -0.02028 Z">
                                      <p:cBhvr>
                                        <p:cTn id="19" dur="3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695 0.53694 C -0.14809 0.65638 -0.28507 0.63083 -0.36042 0.48277 C -0.43386 0.33416 -0.41841 0.11666 -0.32709 -0.00167 C -0.23421 -0.12056 -0.09879 -0.09584 -0.02448 0.05194 C 0.05017 0.20111 0.03767 0.41861 -0.05695 0.53694 Z">
                                      <p:cBhvr>
                                        <p:cTn id="21" dur="35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333 -0.41472 C -0.33681 -0.58833 -0.20851 -0.66722 -0.09913 -0.5925 C 0.0092 -0.51444 0.05851 -0.31 0.01215 -0.13805 C -0.03594 0.03611 -0.16285 0.11472 -0.2717 0.03861 C -0.38073 -0.03833 -0.43281 -0.24 -0.38333 -0.41472 Z">
                                      <p:cBhvr>
                                        <p:cTn id="23" dur="3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0"/>
            <a:ext cx="8466120" cy="5713200"/>
            <a:chOff x="0" y="0"/>
            <a:chExt cx="8466120" cy="5713200"/>
          </a:xfrm>
        </p:grpSpPr>
        <p:sp>
          <p:nvSpPr>
            <p:cNvPr id="5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428120"/>
              <a:ext cx="8466120" cy="42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Box 7"/>
            <p:cNvSpPr/>
            <p:nvPr/>
          </p:nvSpPr>
          <p:spPr>
            <a:xfrm rot="20926800">
              <a:off x="1938240" y="297396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02:31:22Z</dcterms:created>
  <dc:creator>huangfugang</dc:creator>
  <dc:description/>
  <dc:language>en-US</dc:language>
  <cp:lastModifiedBy>User</cp:lastModifiedBy>
  <cp:lastPrinted>1899-12-30T00:00:00Z</cp:lastPrinted>
  <dcterms:modified xsi:type="dcterms:W3CDTF">2014-05-15T07:27:08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