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FCA-A864-483B-BCE9-4189C79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A0D-F225-435D-8276-ECF1005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C4F-0FFB-408C-B1B8-CBB346C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600-C095-4A24-B5C0-9C62400B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E83-B8E2-45F1-9A8F-5F8D1AB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67E-862B-4A0B-B50F-35A77CB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808-5379-4BBE-A760-A71C956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A36-B68C-46CB-B5DC-76341F3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505-36D8-4751-8C09-B20E1E8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708-0742-4B4C-A25A-82FA034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56C-E65A-4048-9233-F69003D2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1FB-6F0E-4AB3-8D76-6E110C08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9A5F-56FF-451C-A8C4-5044879D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8449-A620-4685-9A8D-CDE4865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1FCC-8BCB-439C-9A77-4CEE2CE0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8C5B-12E5-42F8-BB41-C4A3485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0501-BBB3-4A8A-BBAB-448B51E7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AEE3-EDC0-449A-9A14-37F65957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3E2-F590-4034-8DC3-B8D0DB5E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5986-65D8-4572-BFCA-7BEDC5E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0A87-919A-474F-BFA1-E85E779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53A-332C-4158-AE4D-53C3FAD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B0C3-A7C3-4D37-8C8E-90ADF8F4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B0A8-EC19-410F-9235-51C3F220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028-1E0C-4B82-BE04-BF87B4B8B4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73DE-73E2-4ECE-B57B-7AB5909AA70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0AB1-0465-4A50-BD50-79C425730E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81280" y="990360"/>
            <a:ext cx="419112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Eras Bold ITC"/>
                <a:ea typeface="宋体"/>
              </a:rPr>
              <a:t>AMERICA 911</a:t>
            </a:r>
            <a:br>
              <a:rPr sz="3400"/>
            </a:br>
            <a:r>
              <a:rPr b="0" lang="en-US" sz="3400" spc="-1" strike="noStrike">
                <a:solidFill>
                  <a:srgbClr val="003399"/>
                </a:solidFill>
                <a:latin typeface="Eras Bold ITC"/>
                <a:ea typeface="宋体"/>
              </a:rPr>
              <a:t>TRIBUT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7760" y="20574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Eras Medium ITC"/>
                <a:ea typeface="宋体"/>
              </a:rPr>
              <a:t>CLICK TO ADD 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CLICK HERE TO ADD TOPIC TEX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  <a:ea typeface="宋体"/>
              </a:rPr>
              <a:t>CLICK HERE TO ADD MOR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Arial Black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410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3" descr="america_9_11_tribute_prt"/>
          <p:cNvPicPr/>
          <p:nvPr/>
        </p:nvPicPr>
        <p:blipFill>
          <a:blip r:embed="rId1"/>
          <a:stretch/>
        </p:blipFill>
        <p:spPr>
          <a:xfrm>
            <a:off x="9907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america_9_11_tribute_qx"/>
          <p:cNvPicPr/>
          <p:nvPr/>
        </p:nvPicPr>
        <p:blipFill>
          <a:blip r:embed="rId2"/>
          <a:stretch/>
        </p:blipFill>
        <p:spPr>
          <a:xfrm>
            <a:off x="335268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america_9_11_tribute_sld"/>
          <p:cNvPicPr/>
          <p:nvPr/>
        </p:nvPicPr>
        <p:blipFill>
          <a:blip r:embed="rId3"/>
          <a:stretch/>
        </p:blipFill>
        <p:spPr>
          <a:xfrm>
            <a:off x="99072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merica_9_11_tribute_trs"/>
          <p:cNvPicPr/>
          <p:nvPr/>
        </p:nvPicPr>
        <p:blipFill>
          <a:blip r:embed="rId4"/>
          <a:stretch/>
        </p:blipFill>
        <p:spPr>
          <a:xfrm>
            <a:off x="335268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7:10:43Z</dcterms:created>
  <dc:creator>eclipse</dc:creator>
  <dc:description/>
  <cp:keywords/>
  <dc:language>en-US</dc:language>
  <cp:lastModifiedBy>a</cp:lastModifiedBy>
  <dcterms:modified xsi:type="dcterms:W3CDTF">2014-07-30T05:03:50Z</dcterms:modified>
  <cp:revision>2</cp:revision>
  <dc:subject/>
  <dc:title>AMERICA 911 TRIBU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