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646-85E3-48A9-8871-CF7C5877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37D-563E-474A-A8F4-172BFE51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9DF-32DF-4826-8BE9-367CEA17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F60-C43C-4D20-AC86-2EBF00AF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DDBC-ADA6-4625-A71A-A379782F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A88-987D-456D-BBB7-98F4B666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8047-6C8D-473B-B514-8C234375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6584-B850-483B-BA55-527D528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47E9-BEF4-444A-859D-AB3BE339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FE0D-B6FB-4D3A-9BC0-9FCA8DC2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B4C8-8A10-4F85-9F46-649962A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F77-7B0C-4D37-BE85-81A1746F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F595-753D-4186-B487-3CF96E1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FBF7-D50E-496F-9629-3C8A892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3339-E7B3-4DAF-BB37-9B892DEC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04CA-D68D-4F2D-B214-69670A59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D2AC-8961-44F4-8498-E54022FC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145-A008-4D40-A8F1-9CDF0C28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674-A817-45CB-8A89-BD4B230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781-C986-4526-A02F-43AC47D3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DAB-090E-43B7-B926-B0650ECA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926-A11B-4388-B1C0-3E4CC184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A13-645F-4F91-B6E8-071FDC0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DE3-59FA-48AE-9A9B-F282609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A13A-24CC-45B6-8590-5E65AF21753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7CF-3D35-4126-9119-D08CA7288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摩天写字楼商务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7160760" y="63244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3:58:01Z</dcterms:created>
  <dc:creator/>
  <dc:description/>
  <dc:language>en-US</dc:language>
  <cp:lastModifiedBy>echo</cp:lastModifiedBy>
  <dcterms:modified xsi:type="dcterms:W3CDTF">2015-01-08T12:35:13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322052</vt:lpwstr>
  </property>
</Properties>
</file>