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4F91-B228-441E-9011-86AFF7B9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E027-0A42-4149-997D-D2C9464F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DD42-F061-4C62-A8B9-4C4C73AE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7862-1EC3-4004-88FD-19848659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29DF-D98B-4FDB-BBCD-E3665A47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9CF1-EBAA-4389-81B1-97F11792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E1A6-427C-4098-A552-C82C98C8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7F1D-9E36-4AD1-8217-F01151AE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A704-2CE9-4C7C-88D6-4D2BB6D5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B2C5-8CA6-4506-B9A7-EB52ABC8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340A-151D-4928-B3AC-372F524F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32DB-B2F9-4417-A907-7581D892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E06C-610B-4FF7-AC1A-426E8683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C7AF-F484-4BBA-B104-100E99F8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8DFB-229C-4143-AEE5-040E2458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92EC-DFE3-4F1C-B8C9-E495EFA1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5117-4251-44B0-9E02-5B124A08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147FF-9A22-46A1-8654-90508415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1F912-CB53-4A06-ADFD-45CC26D6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D344F-6571-4CDB-AADF-7AB07CA6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D3105-D476-402E-BB66-1B7469B3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1AE59-7BCB-49D1-B75F-1D1F5E64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D237-B448-4514-8E95-41734F89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ABCCD-420F-4DB3-A5F3-2E55AECF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A6D02-ECA3-41A7-A558-F1E0CDCE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4D6D1-B263-4FB4-B442-3B116EDA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29E1E-FA23-4A6A-B838-DC2C965F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CD713-E5AB-4EB6-8C7E-61245C1A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73510-6F5C-4B1C-9FAF-EE0C0209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30800-6E81-4AE6-A48B-7383C46E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B0F1-77A9-4738-A650-95E21AF1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C70-AEA0-4DFB-B27F-0859397F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ED72-0113-4934-A6E5-AEE93AB1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10A2-7F17-4724-9B49-CF61B340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8B9A-8A23-45D1-9FA3-0649B21C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D014-3719-4E51-BBAA-2D12745A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26F4-43C6-4099-BABB-1CDA259ACB46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3960-91D4-45F3-9D24-CA6594267F6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043E-0FFA-48A2-93EF-5D23CC7F0F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5794-1127-48F4-AA8B-5EEAD6E2FC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1"/>
          <p:cNvPicPr/>
          <p:nvPr/>
        </p:nvPicPr>
        <p:blipFill>
          <a:blip r:embed="rId1"/>
          <a:stretch/>
        </p:blipFill>
        <p:spPr>
          <a:xfrm>
            <a:off x="-249120" y="-22320"/>
            <a:ext cx="937404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2"/>
          <p:cNvPicPr/>
          <p:nvPr/>
        </p:nvPicPr>
        <p:blipFill>
          <a:blip r:embed="rId1"/>
          <a:stretch/>
        </p:blipFill>
        <p:spPr>
          <a:xfrm>
            <a:off x="71280" y="44280"/>
            <a:ext cx="9001440" cy="6480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1239840" y="936720"/>
            <a:ext cx="11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203640" y="1844640"/>
            <a:ext cx="259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●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墨的历史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●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墨文化的发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●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功效和用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●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价值和历史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4"/>
          <p:cNvPicPr/>
          <p:nvPr/>
        </p:nvPicPr>
        <p:blipFill>
          <a:blip r:embed="rId1"/>
          <a:stretch/>
        </p:blipFill>
        <p:spPr>
          <a:xfrm>
            <a:off x="15840" y="44280"/>
            <a:ext cx="9072720" cy="68328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3132000" y="19177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墨的历史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2"/>
          <p:cNvPicPr/>
          <p:nvPr/>
        </p:nvPicPr>
        <p:blipFill>
          <a:blip r:embed="rId1"/>
          <a:stretch/>
        </p:blipFill>
        <p:spPr>
          <a:xfrm>
            <a:off x="15840" y="44280"/>
            <a:ext cx="9183600" cy="66135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15840" y="6381720"/>
            <a:ext cx="9183600" cy="4762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705040" y="765000"/>
            <a:ext cx="55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國墨文化伴隨著中國幾千年思想文化的發展而發展，它對人類文化藝術的保存和綿延起到了至關重要的作用。墨是文房用具，既有集書畫、鐫刻、造型藝術為一體的外觀，又有百年如石，一點如漆，直書直畫的功能，因而備受人們的喜愛。墨從本質上來說是一種文化的象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中國人的理念中，墨是文人情結的體現。以墨言志，以墨抒情，以墨詠懷，墨詮釋著文人氣息和高雅情趣。中國墨文化博大精深，多姿多采。王毅先生藏墨多年，並有志於墨學的研究，他的《中國墨文化大觀》一書較為全面地介紹了中國墨文化的發展脈絡、藝術品位、文化內涵、審美情趣，具有較高的欣賞價值。是一本集知識性、實用性、操作性，圖文並茂、言之有物、雅俗共賞的墨學普及讀物，相信它的出版一定能有助於人們對中國墨文化的深入了解，並進而被這朵藝苑奇葩所深深吸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3"/>
          <p:cNvPicPr/>
          <p:nvPr/>
        </p:nvPicPr>
        <p:blipFill>
          <a:blip r:embed="rId1"/>
          <a:stretch/>
        </p:blipFill>
        <p:spPr>
          <a:xfrm>
            <a:off x="73080" y="44280"/>
            <a:ext cx="9107280" cy="6840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3564000" y="2349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粗黑体"/>
              </a:rPr>
              <a:t>谢  谢  欣  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30T05:04:33Z</dcterms:modified>
  <cp:revision>1</cp:revision>
  <dc:subject/>
  <dc:title>PowerPoint 演示文稿</dc:title>
</cp:coreProperties>
</file>