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F6C5-DFB7-4622-A863-2D4AF895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2BB-F127-43FF-A64E-1F2A8C9A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C4A-6EB0-4427-A39A-89E68B0C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506-1902-49EE-A149-87CE655F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3B4D-8C91-419F-9B5A-0C3D9E69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CA38-8995-4F01-BB47-D14BA8BD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D5CB-A7AD-4C04-B28C-1EF4E8C8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F1C9-040B-4C58-8E93-CBBC7399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FC2C-1B22-4AA1-A47A-887BE65A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7F64-90CF-4646-BE1D-5BCDF0C7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157D-3474-4661-BDD8-C509310F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3A9-76D1-45A8-A9AE-D10C98EA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8AF6-4BD2-41BE-BF21-BE722061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F810-45C5-40DB-84EB-F2F91B60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9082-50EF-492B-BA59-9D90F2B8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5CB8-C2F1-4774-BB9C-68CDA489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7409-BE86-4B50-A78A-1E5619D9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BE624-62FF-40A6-93A3-0BA8D780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AFACC-2CB1-467C-A059-55FF00B1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3DEBC-3762-4F20-9FCD-F6D5AEBA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A628A-9F97-4DB6-AB18-3AA6BD05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99335-2558-4724-8418-6575BB28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B420-F333-4CDC-8D31-E16C2CEA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5C638-C25C-4771-848B-51978379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2CBA1-FC9C-4FEF-AFEF-E710F2AE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7F9A0-3DF6-43C4-A9FB-9EEF2C71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E4083-8FEC-40AE-BFA0-A568A2CA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069B2-3B4C-466F-A847-C15A5736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41A3A-D546-4D17-95A6-6242DCDF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D0D3E-C2D6-40F0-BC0E-8C8EC8B9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FB357-40F6-4542-96F4-C32065BC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C1459-E3DB-4219-8C7A-C11372F0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70A12-DB6A-4D45-A4F3-16509DCB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75A0-8556-4445-8A88-D5F952EF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21BC9-AB20-4B0B-BBB3-72A8C59F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76A9A-8C3C-4788-843E-889FB27F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D765A-2B58-4873-9993-12E4CA2C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CB9D9-7C3F-48F9-8C70-414E8223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8DF30-D240-4D84-9A93-1425C1B9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DA53B-7FB8-4992-B791-1C44F470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9E12E-3D63-4806-9B71-22D56F84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6F6B3-699F-48CD-86E7-59F16975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6CC78-70EC-4A3F-8992-659B568F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2B9-4E78-4C68-A0AA-E928D861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4E7-B3D4-49A4-92AC-2CB7F4B7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8D7-1FE7-48AC-AC9C-54647FC9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DC3-026F-48BC-8C2F-51708E62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07D-86E5-484A-897D-F3765BEB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79BB-AE4D-44E7-9F2A-1E65CDD80F7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128572726331400deuwhziz[1]"/>
          <p:cNvPicPr/>
          <p:nvPr/>
        </p:nvPicPr>
        <p:blipFill>
          <a:blip r:embed="rId2"/>
          <a:stretch/>
        </p:blipFill>
        <p:spPr>
          <a:xfrm>
            <a:off x="0" y="-90360"/>
            <a:ext cx="9144000" cy="6976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</p:pic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A961-D2EF-4090-A036-925DE50557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644F-85E2-45D4-9EF7-A8B07088604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7F29-F3D4-4AA2-AEBD-E0126F4112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bizhi-1211-76602[1]"/>
          <p:cNvPicPr/>
          <p:nvPr/>
        </p:nvPicPr>
        <p:blipFill>
          <a:blip r:embed="rId2"/>
          <a:stretch/>
        </p:blipFill>
        <p:spPr>
          <a:xfrm>
            <a:off x="-28440" y="0"/>
            <a:ext cx="17348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4312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743120" y="1600200"/>
            <a:ext cx="722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0F67-BFBB-40F0-B91A-9A0825B1F87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4F87-70B3-49B4-AACD-22250DA488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bizhi-1211-76602[1]"/>
          <p:cNvPicPr/>
          <p:nvPr/>
        </p:nvPicPr>
        <p:blipFill>
          <a:blip r:embed="rId2"/>
          <a:stretch/>
        </p:blipFill>
        <p:spPr>
          <a:xfrm>
            <a:off x="0" y="0"/>
            <a:ext cx="1743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10AD-5B8E-40E7-AD52-C9FDADB9217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951C-E715-4F55-AF9D-2A2FA20ED8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欧洲小镇风景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43120" y="27432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43120" y="1600200"/>
            <a:ext cx="722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920" y="6453360"/>
            <a:ext cx="151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分享者</a:t>
            </a: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叶菲</dc:creator>
  <dc:description/>
  <dc:language>en-US</dc:language>
  <cp:lastModifiedBy>a</cp:lastModifiedBy>
  <dcterms:modified xsi:type="dcterms:W3CDTF">2015-01-14T09:56:23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