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87F-6A7B-4AD7-95CC-34D3FF07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A0D-06E3-4AC6-ACA1-55F0BF93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70AFF-4E27-405E-9592-2A32E4FC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ECF2A-507C-44B4-A6F4-3E2919E5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CCFCE-42E2-42F5-90A6-FD4EFAC4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03E51-9138-4EEB-82F8-446E6FFA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B2AB2-EB4E-4E69-975D-C21132E1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641E6-60C6-4F81-9F54-46B4ED6A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FBC24-FA80-49DE-B161-4CD70054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29385-E726-4B5A-B07F-7E2236B0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3ACD0-2F31-481E-8271-36D9F911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8D57E-73CC-483A-8812-3A73A5B8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4A7-7F1B-4E32-AA7F-49ED51A3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48F11-389F-476D-8231-D6C1D0E1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D8920-72EE-4D94-8A5E-EF6F8548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B42CF-1BC3-46C0-80BC-15E91402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00512-A4BA-4B22-BC47-77025D5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C1678-A589-4492-844D-7D26D137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98337-6D8C-4E25-8241-C2C7CF7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66CBD-A459-4E21-8DEC-9F00A064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7A00A-E036-430D-AB43-8FDC1E51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442C6-A24E-4D14-A45D-A04D3C84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BFEE0-2ADF-4B7D-B956-46C97EDE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D89-9052-406D-AD92-994AC913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D4172-B5B6-4D62-84AD-6F63EF44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421B9-34ED-4319-8544-A29B339D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AA25A-4C7E-4593-AAF0-AF0F2FC2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60938-E51B-45D4-9FA1-6228CF24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B63A5-0367-4D0F-852A-81AAA83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2FECC-84CA-4C26-9873-D33460C5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69286-0520-442D-B175-038A1CF1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6EBAD-80E4-45D8-BD5B-1C5B04AC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5829B-C327-4577-9EBF-1939C4DA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73A53-17FF-4F31-910F-2614FFB4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AC3C-851D-4A87-9C3B-8C2DEBD4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10968-DC09-4A33-9AB5-54E4E50E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CFD08-4373-4D02-9CC0-464D858D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ED2A0-1F40-4DA8-9828-AAB96790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17497-623F-4A05-8F8A-A7CF0BE2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F6415-DB63-4C3C-ADFE-E5A14CCD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05251-08F8-424C-8DC3-502FBB4C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0A65A-FD80-443D-8C7F-FC0677FE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010A3-331E-4238-A4AB-AF89CD91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91027-1A4C-4C19-8D3A-F983D480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3743F-1476-4A7C-97D5-C18736C9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191B-C665-4533-9907-CB28BA59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C3BF9-E9C0-40F7-9C39-562B369A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B6834-C2C0-492E-B390-B27D7454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C7304-5A08-4CBF-BCA6-6A5BCA5E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08FD0-3646-4F8D-B590-1105968A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38E5F-CFA5-45AA-9822-F459ECE9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7A761-9FAA-4463-B618-AC854986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FEB9E-FC29-404B-8A07-A49FD07B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F5AC7-93AC-46C0-A2DA-B9A25453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3CB5D-D9D5-49B9-80CB-5AADF5E0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DDD3B-16D5-4430-8A0F-7332BEF9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5D29-E698-45E1-8790-BD7681B2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85034-6E05-4A1A-930E-201E9CB2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5DC7B-FAA3-4ABC-AC6A-AF14CCE4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50259-0B23-4FFD-A439-0EFC49F2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7C1D1-0F12-4BC4-8E6D-3BF8593B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5065E-0D47-4688-84C6-9FDEB019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C1903-CE98-433C-87FE-E6B73970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03E36-2897-468E-895C-E8730916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BA87-4391-4EFA-AA0A-F79503F8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2278-F907-4DEC-8E74-01094015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292B-6DFC-438A-949F-5879B3F8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6F0D-C874-41D5-AFE3-4406DCBE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3F1-501E-4EDD-9C83-CC7EAF74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138E-705D-47E6-B614-0AD3625E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C2D3-7DAB-4FC2-80D1-9946DC1A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2413-6FAE-4557-8F89-5319652D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CD69-0450-4236-883A-36EF03C4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78F4-E10F-4C7D-B752-3326EF9F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F689F-1D39-4477-9DCC-8FCDDCBC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E8DA-50EE-4084-B023-837D5628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2EB6B-DECB-4ECE-BEA0-3337E6FC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05C4-76FE-4565-BEC1-AD50320F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0F49-988F-43BB-B7D2-748C2A22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6A7-9C8A-4009-9A35-1E8BECDD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E071-9A48-4202-AADC-6A3E8E09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2C95-107B-438D-8F17-B7106C5A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68AE-D717-458A-894D-F9CDC18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4772-7058-4039-BEEA-C952DEA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8AAC-9F5D-4366-B37A-F2E52F66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967A-D3B0-40A7-853B-FE00BC34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F3E5-02D4-4F1D-AD0C-4B4BB63F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E1ECC-3C81-4D03-919A-A7035DC2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913D-0D6F-4322-8CC4-09145AC4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ADAA-4BB9-4360-AAF7-C4C6536F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108-F78C-476C-9978-CEC74CB3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D4F9-D253-493F-BADA-37E57BFC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4669-8223-4452-A34F-F934250A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D5D1F-082E-489E-B0DC-DB5F3FF3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32EC9-649C-4708-B6FE-14A7DE38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8A0A2-A987-4193-99DB-58A31654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D2FE-E2D2-4208-A92D-8E75FC36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95C7C-290F-4301-951C-D44BBFBE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CD4A-508F-41FD-8CAC-F451D211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0ED7-B9CF-4B0A-844F-EA2177FF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193D5-EA4F-449B-9156-0FB897B7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688-3544-4FE9-A07C-88519891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7E1E5-5338-4A31-B0EC-C724DE8B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1F000-2C11-4882-BF9F-F02100DC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BCBBE-D81A-4A87-BC6C-E198F86E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19860-985B-477A-B8A5-596F02EC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1A042-F5BB-4A9B-A0A3-19921545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CFC7-4C46-4768-BD9E-58609742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85D85-984D-4DEA-8108-455E0594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7CC77-47D1-4A9D-975F-ACF3F358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ED957-9ABF-4C75-BCE6-BCEA321C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06DC0-EE22-4090-857C-585D4DEB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94A-DE02-47D8-8E5C-2D284DD5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0B1F7-17BA-4DE4-B396-D7B116B9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4071B-1CB9-4AC8-B711-934E4CF5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77D3D-8F3D-441C-B321-5E14B2ED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C5FD8-07B2-4985-9CBA-D02F5B7A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11144-D698-433C-B38E-553A5672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BD390-F1D6-466D-9577-0E3EAC82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1BB9-5210-4208-9957-83D8B279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1AB16-1C29-40F3-8FAE-104A664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6EE01-A9A1-40D5-B529-95000DA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B16F8-267D-48A7-AF1E-7141CA3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7CB-05BC-4908-9368-03008EF6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6C3E4-7FF3-44BE-90D7-23457D49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27F03-B9BD-46A2-B573-71AC31BA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CE9A0-81B1-4FB3-83FA-D228C96A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12782-0311-45B4-958A-A0FCE3C6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14A75-DB89-433A-8528-A1C2110D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2F693-BA52-49C1-8FEC-043F882A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A537A-8199-40FB-99CF-D1043A1D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35704-5A18-4CD7-9CAC-EDC14A24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9FFE7-1D30-4B4D-82A9-BDC71FA1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C3EEF-E754-4048-B005-34F1499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3D6-AAA9-4929-AFAD-588E128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FC99C-7599-48AD-8E14-8CF4979F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68632-8FC3-4CFF-92E1-EB710A34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2E5F7-ED52-4926-B16C-D7517CB7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DFA19-E3ED-4886-92D3-F1AAB34D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7DFD5-0EA6-452C-8055-08068A45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4CF26-4D35-46E0-8AEE-4AE70782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B6FEA-9098-4F44-942A-C07AA3C7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39361-6AD9-49EB-BFBB-68574A9A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47171-656C-4423-9D55-C8531A52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EA582-AE89-4A59-A1DC-35ACB9EC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545-499E-4530-A355-46E6DE96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1FF47-D313-4BC0-9D19-99FF550C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94B82-0C5F-480D-B254-60D0DA6B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9FA7F-A930-4ACE-AE80-CD9A2E4B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449A4-491B-43CC-9D37-CDF70850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F0203-47A2-41D2-B8C6-6144126A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4F02A-AA4B-4A0A-A44F-0E19309D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4C7F2-FCCD-4DCE-BC3A-C48EBF64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C4A51-6A6F-4CF8-9E0A-2AF4B8C3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29FE2-2525-46D5-9BE1-B46AD532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00479-BE36-49A3-9D12-12A5D075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382E-A900-45D1-9F83-A5B628D69D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FB94-6213-48E9-9227-5200DF1230D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E960-7298-4777-9B0D-0E8EDDF0AFB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4764-749A-4F14-A408-379ABD04D08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F71E-03FE-4726-AB89-545495E8A60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019F-0805-497A-9E44-BDF15358F69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5C6C-8A0D-47F7-8119-2DF5B13A88A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3FDE-FCC7-4573-B403-AB80412AA11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C58B-BE3A-4FBB-ADE8-207E9313B11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E249-2833-4177-89F9-8ADB40C2D9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022A-D032-456B-B73C-7F723064A4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6318-3DEC-4AB6-A0D9-56F2C5C3FEF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47D4-F713-45BF-A2EE-D1756EBCDCA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39DA-A790-4283-B5C8-A928CAC388E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1CE4-11F9-4C67-B109-91AE0E273C0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07E2-B200-49DE-8921-A1E05B847E7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8547-635C-49A3-B0E5-EA4EC54817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589E-9D80-4223-9D81-96B3BC1F9E7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86B9-458E-4943-8B89-4CEA009D56F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B5D5-1DF2-419E-A600-44762794224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C812-A6B0-42AB-8351-ABE02C38BD4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F948-BA65-4290-B6EF-6C64E3B0EB1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A11B-2913-4F05-B351-A0C5F73AA09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65EA-05BD-4F80-9723-BF3EF03C14E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7773-665E-485F-A732-132DA111E0A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hyperlink" Target="http://baike.baidu.com/view/258199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4" descr="车马-01.png"/>
          <p:cNvPicPr/>
          <p:nvPr/>
        </p:nvPicPr>
        <p:blipFill>
          <a:blip r:embed="rId1"/>
          <a:stretch/>
        </p:blipFill>
        <p:spPr>
          <a:xfrm>
            <a:off x="155520" y="4610160"/>
            <a:ext cx="3048120" cy="217332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2" descr="底纹-01.png"/>
          <p:cNvPicPr/>
          <p:nvPr/>
        </p:nvPicPr>
        <p:blipFill>
          <a:blip r:embed="rId2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5" descr="花格-01.png"/>
          <p:cNvPicPr/>
          <p:nvPr/>
        </p:nvPicPr>
        <p:blipFill>
          <a:blip r:embed="rId3"/>
          <a:stretch/>
        </p:blipFill>
        <p:spPr>
          <a:xfrm>
            <a:off x="2840040" y="2436840"/>
            <a:ext cx="6529320" cy="14716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6"/>
          <p:cNvSpPr/>
          <p:nvPr/>
        </p:nvSpPr>
        <p:spPr>
          <a:xfrm>
            <a:off x="4400640" y="2368440"/>
            <a:ext cx="34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6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汉代画像石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5" descr="车马mulu-01.png"/>
          <p:cNvPicPr/>
          <p:nvPr/>
        </p:nvPicPr>
        <p:blipFill>
          <a:blip r:embed="rId1"/>
          <a:stretch/>
        </p:blipFill>
        <p:spPr>
          <a:xfrm>
            <a:off x="0" y="2109960"/>
            <a:ext cx="7467480" cy="47480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6" descr="ge-01.png"/>
          <p:cNvPicPr/>
          <p:nvPr/>
        </p:nvPicPr>
        <p:blipFill>
          <a:blip r:embed="rId2"/>
          <a:stretch/>
        </p:blipFill>
        <p:spPr>
          <a:xfrm>
            <a:off x="6237360" y="936720"/>
            <a:ext cx="1436760" cy="22222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7" descr="底纹-01.png"/>
          <p:cNvPicPr/>
          <p:nvPr/>
        </p:nvPicPr>
        <p:blipFill>
          <a:blip r:embed="rId3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Box 8"/>
          <p:cNvSpPr/>
          <p:nvPr/>
        </p:nvSpPr>
        <p:spPr>
          <a:xfrm>
            <a:off x="6423840" y="835560"/>
            <a:ext cx="1170720" cy="2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ffffff"/>
                </a:solidFill>
                <a:latin typeface="迷你简柏青"/>
                <a:ea typeface="迷你简柏青"/>
              </a:rPr>
              <a:t>目录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0"/>
          <p:cNvSpPr/>
          <p:nvPr/>
        </p:nvSpPr>
        <p:spPr>
          <a:xfrm>
            <a:off x="10361160" y="3038040"/>
            <a:ext cx="6372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四、画像石成就与地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1"/>
          <p:cNvSpPr/>
          <p:nvPr/>
        </p:nvSpPr>
        <p:spPr>
          <a:xfrm>
            <a:off x="9581400" y="2842920"/>
            <a:ext cx="6372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三、画像石雕刻技法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2"/>
          <p:cNvSpPr/>
          <p:nvPr/>
        </p:nvSpPr>
        <p:spPr>
          <a:xfrm>
            <a:off x="8792640" y="2849040"/>
            <a:ext cx="6372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二、画像石制作工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8002080" y="2460960"/>
            <a:ext cx="6372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一、画像石分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图片 5" descr="车马-02-01.png"/>
          <p:cNvPicPr/>
          <p:nvPr/>
        </p:nvPicPr>
        <p:blipFill>
          <a:blip r:embed="rId1"/>
          <a:stretch/>
        </p:blipFill>
        <p:spPr>
          <a:xfrm>
            <a:off x="3219480" y="2432160"/>
            <a:ext cx="2185920" cy="137160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4" descr="huage2-01.png"/>
          <p:cNvPicPr/>
          <p:nvPr/>
        </p:nvPicPr>
        <p:blipFill>
          <a:blip r:embed="rId2"/>
          <a:stretch/>
        </p:blipFill>
        <p:spPr>
          <a:xfrm>
            <a:off x="3036960" y="2133720"/>
            <a:ext cx="5697360" cy="1785960"/>
          </a:xfrm>
          <a:prstGeom prst="rect">
            <a:avLst/>
          </a:prstGeom>
          <a:ln w="0">
            <a:noFill/>
          </a:ln>
        </p:spPr>
      </p:pic>
      <p:sp>
        <p:nvSpPr>
          <p:cNvPr id="547" name="TextBox 6"/>
          <p:cNvSpPr/>
          <p:nvPr/>
        </p:nvSpPr>
        <p:spPr>
          <a:xfrm>
            <a:off x="5838120" y="26067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画像石分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4" descr="车马-03-01-01.png"/>
          <p:cNvPicPr/>
          <p:nvPr/>
        </p:nvPicPr>
        <p:blipFill>
          <a:blip r:embed="rId1"/>
          <a:stretch/>
        </p:blipFill>
        <p:spPr>
          <a:xfrm>
            <a:off x="63360" y="5594400"/>
            <a:ext cx="1524240" cy="97308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2" descr="底纹-01.png"/>
          <p:cNvPicPr/>
          <p:nvPr/>
        </p:nvPicPr>
        <p:blipFill>
          <a:blip r:embed="rId2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"/>
          <p:cNvSpPr/>
          <p:nvPr/>
        </p:nvSpPr>
        <p:spPr>
          <a:xfrm>
            <a:off x="969840" y="1773360"/>
            <a:ext cx="1037772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589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微软雅黑"/>
                <a:ea typeface="微软雅黑"/>
              </a:rPr>
              <a:t>浮雕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类雕刻技法，为了表现物像的质感，不仅要将物像面以外的余白面削低，使物像明显浮起，而且要将物像面削刻成弧面。这类技法，可细分为三种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589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浅浮雕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是一种物像浮起较低，物像细部用阴线刻来表现的浮雕技法。这种技法，从西汉晚期到东汉晚期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余年间，广泛流行于第一、二、四汉画像石分布区，是汉画像石最重要、最基本的雕刻技法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589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微软雅黑"/>
                <a:ea typeface="微软雅黑"/>
              </a:rPr>
              <a:t>高浮雕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是一种铲地较深、物像浮起很高、物像细部也根据立体表现的原则用不同的凹凸来刻画的浮雕方法。这类作品，因具有较强烈的立体感，一般多配置在门扉或门楣等比较醒目的位置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589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微软雅黑"/>
                <a:ea typeface="微软雅黑"/>
              </a:rPr>
              <a:t>透雕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是一种在高浮雕的基础上，进一步将物像的某些部位镂空，使作品接近于圆雕的浮雕技法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4" descr="车马-03-01-01.png"/>
          <p:cNvPicPr/>
          <p:nvPr/>
        </p:nvPicPr>
        <p:blipFill>
          <a:blip r:embed="rId1"/>
          <a:stretch/>
        </p:blipFill>
        <p:spPr>
          <a:xfrm>
            <a:off x="63360" y="5594400"/>
            <a:ext cx="1524240" cy="97308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2" descr="底纹-01.png"/>
          <p:cNvPicPr/>
          <p:nvPr/>
        </p:nvPicPr>
        <p:blipFill>
          <a:blip r:embed="rId2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6" descr="花格-02-01.png"/>
          <p:cNvPicPr/>
          <p:nvPr/>
        </p:nvPicPr>
        <p:blipFill>
          <a:blip r:embed="rId3"/>
          <a:stretch/>
        </p:blipFill>
        <p:spPr>
          <a:xfrm>
            <a:off x="4089240" y="2470320"/>
            <a:ext cx="4050000" cy="15141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7"/>
          <p:cNvSpPr/>
          <p:nvPr/>
        </p:nvSpPr>
        <p:spPr>
          <a:xfrm>
            <a:off x="5353560" y="2422440"/>
            <a:ext cx="16131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4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谢谢</a:t>
            </a:r>
            <a:endParaRPr b="0" lang="en-US" sz="9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6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Box 7"/>
            <p:cNvSpPr/>
            <p:nvPr/>
          </p:nvSpPr>
          <p:spPr>
            <a:xfrm rot="20926800">
              <a:off x="343188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28T10:19:2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