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07F-0EF0-45A3-8CA5-F8412B57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2D4-D2FE-4596-8F2B-422E679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50240-50C1-4B52-A199-9BA7622D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7928F-8D09-4545-9FF6-B1F245C1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F5705-8620-4096-8936-F1DBC8A9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D35B4-0BE4-43E1-B4FD-61C0AAA2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E1FCB-09B3-4DD1-9B26-0AF51AC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7C105-86C6-4B54-A525-377ED50C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0D666-D996-46CC-942C-DEBC2622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61452-7609-47B4-AD5E-94CC6832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361D4-8787-438B-8324-2E0398AB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6D203-5C52-4FC0-A355-ECB93815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6B5-E419-4145-96B0-6290C80F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D7410-C88C-403B-A25F-5B2C4BAA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16A52-EFDE-4C73-9D34-9D42DBE8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3600D-82C8-436D-A344-FEFC598B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B60D9-26C3-41C6-B4D7-2C3AB9AD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9B562-101D-4B2A-9BDC-620467F7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CCC17-37D1-4D7F-A9BA-79E31EA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7B27-77BA-4FEE-995F-95FFB1ED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CF6B6-675A-4986-8F22-EB65043E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82CB0-B01A-460B-BA08-5B331438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F8E6-D44B-436C-892D-BCB352EB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DAA-96B0-4E66-82FA-9EAAF6A7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FC21A-7326-4B65-8373-23A71D16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F6D6D-19E2-4D62-861A-BE4678E0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04880-CA36-453C-8BDD-469F2C85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073E5-4430-4D66-8E4B-52A80E3E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F1DF-A58C-416D-BF11-CD7D783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D3C83-6E1C-43F1-AC28-67B65FF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2E859-669A-4090-BC78-154DFAC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D65BB-BF57-43CB-B0B5-8266B62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B4796-41C4-4062-9101-66E936F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FAAB-DE5B-4E06-8662-A203177B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38E5-1E0A-4CA0-A457-B2451FAB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9123B-0766-4D50-90C3-C1296836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35342-BBEF-4BE4-BF6F-8A131809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21256-926F-419B-BA81-3A732857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05348-F656-4C61-85F0-1E2E9225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E1E1E-0591-420B-A25B-40DB271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9C734-50A0-4E8E-B1EF-68A9E13F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C0ED9-32FF-4517-A3EE-EF352E05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B2F42-EFE8-4F36-BF66-30E9506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A2F23-3D5A-43C9-ACE3-8DC6A356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98A87-0FDF-4307-8909-87A575FC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961C-3E25-4B99-A903-6B7E233E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DAA4E-CAF6-4966-A69E-DBDB3D4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A5A0B-C8A7-4256-9A0B-F53E275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CDC6F-0F1F-42DA-B2C1-30597774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111B3-8AA5-4ACD-96F9-435C7B19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D7D2F-EBD2-40FD-B743-4EAB3693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44507-5518-4436-AF49-BBC3FA6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056D1-0AA9-4CD0-B45C-C44022F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6C060-0A01-4D4D-BBB0-E5DB813B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1F0D3-F8CF-4F9A-B59C-7058574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F1223-D8CF-40D6-ADB8-19E1AD6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94F3-9E31-4278-A21A-4B0CF344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F1AA9-E96E-4FBA-B2E2-A9BA1E5B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D91D8-77EF-4940-B081-6A6EAC2C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79C46-0D76-4DB7-B742-DA95096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0BE3D-9174-49BF-99A3-46B26B3B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C05E0-171D-4F51-B01F-DA2913C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4B805-EEEF-48F7-9F28-FD7A5F38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16671-66F8-4503-8996-826B3287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C78ED-313C-4585-A6D9-CE687765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BB4CF-4F07-4E6A-831B-2ED2BB51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C7612-3388-45DD-8929-486CB6A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EA1E-8445-4030-AD2F-5CDD3EE2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9FEC4-2DBB-499C-AEBC-F1AAFA5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F7902-0C72-44BB-8546-699AD392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2AE48-0059-420D-8757-4D990880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63330-F322-4449-ADAC-FCE730D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0AC29-3F35-4874-9C1A-CFC8D732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8B763-5198-4168-9D41-3B6EBE3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0782A-1D1E-4EB6-997A-8E38761E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0E535-3BDC-43CE-B069-373E39F7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DFC49-F5B1-4D58-90AD-75871065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8B86-C67B-4148-B464-5D409D04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4BB-7B85-4C61-9CE6-85373081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7E48-7160-40D2-A017-2E89465D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771-3C44-4726-8341-F26D8BC4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E0E4-8BE3-48C8-A80C-8B7FDC7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4FEB-C3AA-4771-A16F-B9E42C7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4D96-6C27-46CD-8D47-DB60C970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C26F-D3C5-491B-8A31-0043E571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C62-1F0F-4C84-AB28-2ED9D419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4671C-FF3B-4A79-89EA-4925BC35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4031-07ED-4936-A960-C2FC270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D765-A023-42EB-8266-F44D6ABB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856A-E8C3-4E14-8700-CC42C695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8867-1621-4A3B-8F05-2FFAE0A6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588-654A-456B-AC41-82ACD31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B704-2BAA-4C6E-9E84-4E28E4B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317A-C2E7-4C41-9763-429EA3B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EA6B-1CFE-44B6-9FB2-A1A8833E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5972-D4F8-452C-853D-65ACDB8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56A9-A3BD-4F8F-939A-8199DC18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97CD-DD20-4E6E-82A1-44AB522F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BD8F-4063-4250-A7BE-833EAD50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4941-F3A3-4102-9279-A0927F8F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AAFB-E021-49CB-B1F8-DDA6383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0C0C-DFC6-416B-B658-91971AD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5F2-3566-43A4-A7BF-A477364F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A77D-4A6D-4576-B2FD-F55EAE48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46D0-E659-4A28-8BC1-39E6604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7AC2C-BBC0-4149-8434-9EF14D46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C298-0DFA-47B4-9AC3-0608CD27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3BA5-776D-4898-91EC-53D47C6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ED77-01B4-44FE-8C9D-C4629C0C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DEDA8-096B-4652-A20C-7C8196DF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1F74-EDA2-41B2-B454-335D3A4A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7DC6-FE2F-4DA0-B7D5-F058C038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2B13E-3103-4546-AB42-7BD5A859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90F-1373-4D32-89A9-865A64F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FAB2B-457C-4AFB-9E67-68315FB0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BBC18-8E58-48A5-AFC1-7A237FAA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264D-3C56-4006-8F80-300498CB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6ED8-5BED-4DE3-9FB7-495AB4E5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53F46-FEC8-4F19-ACBE-36DB7149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537B-846C-4E97-B7E6-32A1BF8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9CD2-245A-400A-9970-610AD6A5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42EA0-1324-4DC2-BA01-22931C0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AFEB-074A-477A-A1F3-DAEEC36B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FB37-A90D-42F3-88A8-2C5E0A96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ABD-86BB-4F84-8EC5-6659097F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08B41-A093-474B-A496-D4079672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FA183-B262-4FB0-9ABE-E712F3D0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AF58-1DDD-4F0F-8405-76AD7A09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8E00-AF2D-4160-9219-DD909CAA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9E05-2641-473C-86D3-3E800A8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B2861-7160-42B1-A0CB-A928A61E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3CC0-C69D-4889-B8CE-A2D20429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4CB8F-A830-48D7-99C9-188995A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CDF50-D39C-4A11-9BD5-2D251FAE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EC04-E99E-472C-B01C-EB7EC37B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6C1-2418-4BC6-B968-FA85C54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A2D8-67BD-41A5-88AB-E61E38F8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21B8B-6D6C-400B-8156-14B0A62D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2890-281E-4461-9B66-222B73F5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9434B-61C6-42B0-BC53-B73BA507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6CF44-5D5E-4842-BDA3-840CE942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C4056-F0C7-4204-85B7-D8DAC3EF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727B-0CE5-41BB-822C-8367F228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9EB3E-E34E-4B9A-9935-5D833B5F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B39A4-78B6-4D4A-8A8C-2F06C60B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7036-6749-4CF3-B266-8B903E1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C22-D802-40CB-A680-6A033684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40F9-09CD-43F4-8509-5710BACE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6135-F32E-4EE6-B961-5951ACD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D0B50-F70D-44F7-B37F-DD2D1CC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DE247-5104-4881-AE9A-B4449F7C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7342D-5CEF-4F4E-AAEF-8FF9DAF4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5F90-0722-457E-B019-3824E08F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BA101-E5A3-4405-A0D9-25F01AB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6663B-FC36-48C7-B814-0BF90234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FC5D-D565-4DC4-A816-8071E9CF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7E3B1-32C5-47F0-B3A1-EC217E90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B27-12BA-45B8-A7F3-7E01B96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6E2BF-C696-4611-A572-D63FB0C7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4E87-8EC4-4B38-964C-EB8AAAF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BADB-0899-4F06-A157-CAABC75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322D4-99A2-4A7A-8D64-E9B07A79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D32F-3F51-4F9B-A90D-2B139FA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8809-A824-4F02-8FBD-8C8961A5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A0278-3362-4E69-BA21-7F20AEAF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E1093-9784-466B-A42E-09679761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FC1D-C1D6-485C-8EE5-E1C335B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6588E-4337-4B49-B702-B5C7BA3D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2060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40A-1309-4990-B4A7-2EF69114EBAF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0" t="0" r="0" b="88574"/>
          <a:stretch/>
        </p:blipFill>
        <p:spPr>
          <a:xfrm>
            <a:off x="0" y="0"/>
            <a:ext cx="9144000" cy="652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4752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f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0" y="652320"/>
            <a:ext cx="914400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4335-D80F-4DFF-83EE-2404B08D82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6D93-D788-420C-965D-02CA86E256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993-F3EA-48D5-AA12-4A422676DA6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B25F-C1AE-49D9-98E9-6D3B03C811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3366-882E-41E5-B3B1-A2701E12CE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4F2-C00F-471F-B87D-A40F252C12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7853-58F4-4281-81CB-C798A49466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BC50-B469-4F4F-9F05-F143C67C97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B7F3-8ADB-4297-829D-86CFE58E18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606C-8370-4DE6-A45B-8A361C0FC7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rcRect l="0" t="0" r="0" b="88574"/>
          <a:stretch/>
        </p:blipFill>
        <p:spPr>
          <a:xfrm>
            <a:off x="0" y="0"/>
            <a:ext cx="9144000" cy="65232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0" y="652320"/>
            <a:ext cx="9144000" cy="0"/>
          </a:xfrm>
          <a:prstGeom prst="line">
            <a:avLst/>
          </a:prstGeom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rcRect l="8456" t="14733" r="8567" b="0"/>
          <a:stretch/>
        </p:blipFill>
        <p:spPr>
          <a:xfrm>
            <a:off x="0" y="560520"/>
            <a:ext cx="9156600" cy="513684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7"/>
          <p:cNvGrpSpPr/>
          <p:nvPr/>
        </p:nvGrpSpPr>
        <p:grpSpPr>
          <a:xfrm>
            <a:off x="0" y="0"/>
            <a:ext cx="9144000" cy="4711680"/>
            <a:chOff x="0" y="0"/>
            <a:chExt cx="9144000" cy="4711680"/>
          </a:xfrm>
        </p:grpSpPr>
        <p:pic>
          <p:nvPicPr>
            <p:cNvPr id="4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7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Straight Connector 9" descr=""/>
          <p:cNvPicPr/>
          <p:nvPr/>
        </p:nvPicPr>
        <p:blipFill>
          <a:blip r:embed="rId5"/>
          <a:stretch/>
        </p:blipFill>
        <p:spPr>
          <a:xfrm>
            <a:off x="-54000" y="4687920"/>
            <a:ext cx="9271080" cy="146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5800" y="102060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4752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f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8E95-79C6-4328-8EB0-6D6441D8D6E5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66DD-6920-4287-BC70-4B34673587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9357-BBA1-4B58-90E3-ADBC7B85D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40E5-02AF-43FE-A178-59C280D198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376-1214-48E8-B75B-DCF3268660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45E-ED35-4A2A-9728-CEDA96F8F2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1455-94B8-4A77-BC3F-F643DF4626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18D4-72E0-4304-A0D8-4C36ACD01D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3DDD-F540-4321-82E5-5889920FF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88DD-5BC9-43F4-A75F-EF17DD8A25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0629-816A-4C35-BB85-31D299268B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D695-9637-40B9-946E-054C710148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07F4-DE29-422B-A4AF-A1EBE7C1C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497F-17AE-43AB-BB80-1DB82F6D1E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7FD0-B212-444A-9A78-CEC45CB68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Title 1" descr=""/>
          <p:cNvPicPr/>
          <p:nvPr/>
        </p:nvPicPr>
        <p:blipFill>
          <a:blip r:embed="rId1"/>
          <a:stretch/>
        </p:blipFill>
        <p:spPr>
          <a:xfrm>
            <a:off x="682560" y="1603440"/>
            <a:ext cx="7772400" cy="214632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143000" y="503532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Title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7778880" cy="6570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685800" y="102060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9aaf2"/>
              </a:buClr>
              <a:buSzPct val="8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3T08:07:10Z</dcterms:modified>
  <cp:revision>1</cp:revision>
  <dc:subject/>
  <dc:title>PowerPoint 演示文稿</dc:title>
</cp:coreProperties>
</file>