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5759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A00-F7E8-4872-AB73-A4A5387F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822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329280"/>
            <a:ext cx="822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C8E7-01A9-4993-962D-1B353617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424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32928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32928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8F3-751C-455C-9144-7AC50A45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264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44240"/>
            <a:ext cx="264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44240"/>
            <a:ext cx="264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329280"/>
            <a:ext cx="264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329280"/>
            <a:ext cx="264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329280"/>
            <a:ext cx="264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B7EE-9E52-42FE-9084-4BF810D6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E414-1D13-4207-99BC-7541131D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4240"/>
            <a:ext cx="822960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AD6A-E9DF-43D1-903D-7735D72A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82296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641E-1764-4D18-8E5E-FB511943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40158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4240"/>
            <a:ext cx="40158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B65C-3D87-4AE3-9B0F-80FF1EA5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2896-7795-42C2-A13A-9748A1E2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300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FB4B-7096-4692-9736-8AC46A17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4240"/>
            <a:ext cx="40158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32928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FC6D-C33A-48F9-A6FD-2131765B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44240"/>
            <a:ext cx="822960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86B0-D6FC-4615-9477-568A415E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40158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424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32928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BFCC-93C2-448D-945C-3B86DD6C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424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329280"/>
            <a:ext cx="822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522D-A0AA-4F40-B9FD-DFE4D808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822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329280"/>
            <a:ext cx="822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D760-1BDB-4F8E-A139-0D2D117A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424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32928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32928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CB5D-E732-40AF-A035-65AA9606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264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4240"/>
            <a:ext cx="264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4240"/>
            <a:ext cx="264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329280"/>
            <a:ext cx="264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329280"/>
            <a:ext cx="264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329280"/>
            <a:ext cx="264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D90E-C752-4E0D-A500-60D537C0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56319-11DE-4800-8EFC-5107144E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344240"/>
            <a:ext cx="822960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F65A6-2EE4-435F-91F7-982A04E7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82296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C9E04-0A88-4F81-B3EB-BB5E44B1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40158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44240"/>
            <a:ext cx="40158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5BC76-5D9C-4504-905E-AC41FCEF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7EF40-85A5-4487-B171-D1EB9BA6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82296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4195-4B5F-4C48-B37A-3CB1FE32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300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06E51-8FA8-41F6-BB7A-09D7E74C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44240"/>
            <a:ext cx="40158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32928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0B254-1061-4AED-AE31-64CBC1E0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40158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4424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32928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DA25E-805D-472C-86D4-B18B249F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4424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29280"/>
            <a:ext cx="822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75BEA-6F41-42B2-B4C6-9A2038FC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822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329280"/>
            <a:ext cx="822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6BBBB-B7CE-47FA-A8DD-B8FFFF40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4424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32928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32928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34A95-B43A-4862-B197-7D85BF35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264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344240"/>
            <a:ext cx="264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344240"/>
            <a:ext cx="264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329280"/>
            <a:ext cx="264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329280"/>
            <a:ext cx="264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329280"/>
            <a:ext cx="264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FF64F-5147-4315-828B-94F33353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44240"/>
            <a:ext cx="822960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82296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40158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44240"/>
            <a:ext cx="40158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E546-CEFA-4650-BA28-0F076A08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40158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4240"/>
            <a:ext cx="40158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300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44240"/>
            <a:ext cx="40158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2928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40158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4424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2928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4424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29280"/>
            <a:ext cx="822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822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29280"/>
            <a:ext cx="822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4424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2928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2928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264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44240"/>
            <a:ext cx="264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44240"/>
            <a:ext cx="264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29280"/>
            <a:ext cx="264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29280"/>
            <a:ext cx="264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29280"/>
            <a:ext cx="264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B98-DAA2-45EB-A0BD-068D0E28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300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A11-4CC0-4297-B6AE-0862B3D7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4240"/>
            <a:ext cx="40158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32928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356B-5B22-415E-95FD-AEBA0873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40158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424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32928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8B79-205B-498D-9DC5-0C3321E8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424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44240"/>
            <a:ext cx="40158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329280"/>
            <a:ext cx="82296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4AFE-EC08-4A6A-B851-3C33E58B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inkgo-wallpaper-1920x1080"/>
          <p:cNvPicPr/>
          <p:nvPr/>
        </p:nvPicPr>
        <p:blipFill>
          <a:blip r:embed="rId2"/>
          <a:srcRect l="0" t="0" r="0" b="76493"/>
          <a:stretch/>
        </p:blipFill>
        <p:spPr>
          <a:xfrm>
            <a:off x="0" y="3240"/>
            <a:ext cx="9144000" cy="1208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5AB6-1817-4FC4-BBF7-985648E544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692000" y="1344240"/>
            <a:ext cx="6994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7BE7-0F2C-4C96-B283-542120977C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ginkgo-wallpaper-1920x1080"/>
          <p:cNvPicPr/>
          <p:nvPr/>
        </p:nvPicPr>
        <p:blipFill>
          <a:blip r:embed="rId2"/>
          <a:srcRect l="0" t="0" r="86071" b="2954"/>
          <a:stretch/>
        </p:blipFill>
        <p:spPr>
          <a:xfrm>
            <a:off x="1440" y="3240"/>
            <a:ext cx="1474920" cy="578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4240"/>
            <a:ext cx="82296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8680" indent="-190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43160" indent="-1908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27280" indent="-19044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27280" indent="-19044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27280" indent="-19044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91F6-BE09-400C-8E20-1DB971EE1C2A}" type="datetime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C916-6EE2-4802-A150-DD7314C0E5F8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-12600" y="3182760"/>
            <a:ext cx="9156600" cy="201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25440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336920"/>
            <a:ext cx="64008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92000" y="1344240"/>
            <a:ext cx="6994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731880" y="0"/>
            <a:ext cx="7110360" cy="5759280"/>
            <a:chOff x="731880" y="0"/>
            <a:chExt cx="7110360" cy="5759280"/>
          </a:xfrm>
        </p:grpSpPr>
        <p:sp>
          <p:nvSpPr>
            <p:cNvPr id="171" name="矩形 4"/>
            <p:cNvSpPr/>
            <p:nvPr/>
          </p:nvSpPr>
          <p:spPr>
            <a:xfrm>
              <a:off x="1298160" y="0"/>
              <a:ext cx="5599800" cy="5965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731880" y="1439640"/>
              <a:ext cx="711036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Box 7"/>
            <p:cNvSpPr/>
            <p:nvPr/>
          </p:nvSpPr>
          <p:spPr>
            <a:xfrm rot="20926800">
              <a:off x="2331000" y="2989800"/>
              <a:ext cx="391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42:41Z</dcterms:created>
  <dc:creator>Administrator</dc:creator>
  <dc:description/>
  <cp:keywords/>
  <dc:language>en-US</dc:language>
  <cp:lastModifiedBy>a</cp:lastModifiedBy>
  <dcterms:modified xsi:type="dcterms:W3CDTF">2014-07-21T06:57:0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