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48A-0E6A-4CEB-838D-3521486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F77-F322-4F47-9286-1FD123E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E428A-4BA8-48F3-A679-EF69793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FDF2C-992F-450D-B5F5-C0C09C9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3B916-D033-477A-9338-6B3683F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0890-082D-44B2-A078-D9F6EF9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AD44-1B6F-4390-AEBD-F2398391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5407-046E-4CF2-B6E8-8BCF6DF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E8B84-B217-442F-A3DE-75AB1B53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B5EB7-89CA-4B62-9186-FD58AF14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C8014-28CA-4420-B9CE-459C4670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908E7-44E7-46B3-9D15-21F1D193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EDE-22A7-40C6-AE1E-E089192C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2B91E-A33E-4C26-8F6C-5CD6CBFF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5A749-1FC1-4366-A444-20F8275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CD319-0A1B-4DEC-BF1B-22D061C9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9FB7A-EAA0-4095-BDB2-26DEBDF4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497A7-DD05-480E-A57A-492DB665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5343A-9802-40FF-B934-2A9A2B2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0CC9-5E87-4720-8715-EE4034F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2D593-5448-4522-890B-E2E995A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DDA85-443D-4EC8-93CA-86A7DC5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1E773-A0C9-48C3-8813-C0C2678C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7A6-6241-4E04-9D9B-D1FF362E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01237-EC49-40EC-BF0F-2C83790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5CBF4-3416-4338-9648-AB6CAB16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3C894-1D18-4FE8-BE9D-2CA545D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4C9AE-F003-474A-A6A3-2AEE25D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3A34-C40A-4FE1-92F4-7E674FA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29BB2-0726-4E14-A4BC-BCD841F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107D3-46AB-42B1-A273-053C7E0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AB54-5292-43F2-B94E-F95D29D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CDD97-9BFF-4AE0-9DD2-616E8E9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12C3-7480-4CC9-89A6-82420A5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A8D-6273-400C-8F3E-F6CF151D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FC08-73E5-4C9A-8D60-15F296C4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D4EF-6EF0-4CDC-8B44-17480697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312B1-861C-4966-B034-81D942CB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0EB07-2380-4C06-9E70-576D2182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B71DF-3987-43DA-B998-EAAA91B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6F08A-1E35-4F94-B4D3-508379E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50C4F-2694-4B3F-9C5C-8DD7ACF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819B1-372B-4356-B5EB-D3010E4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8A277-5F33-4472-9908-46F8827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80572-43FE-4238-8931-A93BBC7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3832-B2F0-47B7-AEAD-52F1BB77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B6BD2-545D-4068-BF56-C023F29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446E9-ECE4-4015-A933-3904C7B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37AB4-293C-4735-9EF7-8CB9D6D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77986-2DA8-4573-A35A-9D07EDA2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FDB4E-B348-4CD9-A72C-D4480E5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BF6C2-ACBB-4054-94B7-E7865143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7EF2C-E039-400C-94EF-55961765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8C808-0BB8-42BA-A662-8D10066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B0942-BB0B-435D-9EA7-78B5023F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371F5-B787-4598-8D29-0F5F117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54DD-F957-4A2F-A2F0-9C25682E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36536-A38B-472A-A6A1-7A0AEE2B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0517A-B93A-4F1E-8A4C-38A6278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2A2F8-1780-4E62-9AAD-B23B80F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F804B-1E50-42A3-A9C0-4854852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EF82D-DADA-47C4-BD8C-61A95FD2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98075-7E3E-44D3-8284-D7C7ED6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9E359-1BC6-44C8-A0A0-EE015DBA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1168B-044E-413F-BB4A-EE7C5626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0DE80-C237-4EC0-BA2F-EDF62D5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11A9F-539D-4C35-80B1-7F25D234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819A-71CE-4F99-B0AD-95BE6A5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911FB-0EE9-4A6C-AC32-C424211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EA5D6-6BBD-4DAC-A476-D27F891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41DE3-451E-48C5-86CB-5BECF81C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C8531-1178-4C9C-83DD-C361516A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C0E61-4B98-4AF1-A257-1921B77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07085-2E12-4B65-91E8-753AC1C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4C4E1-A0B9-479D-BD49-FB70550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5573A-92F1-47DA-8875-7C347B39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5BEBF-836D-4342-9BAC-17E016F4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105-30DE-46C2-B481-689749F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BE64-7512-44F3-AA7D-4EBADD58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B31-CBD8-4C5D-8436-4A1BA65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4A6-7E97-44C0-B527-0FB8BD4A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E73-28FE-405E-A847-0E6E123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BA91-DB94-4AD4-9CA7-11C8806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D316-5D5E-40BD-BAC9-D3F3AC1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A0B-516F-4B7A-A912-5F969E76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CBE5-F4B8-4D37-93CB-06BFA4DA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4A57-6DEE-4D14-8726-AF279E5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2C60-1D2A-4AEF-8029-8B356E1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C161-0BD8-4609-8E1D-FC570ED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06AA-9F14-4F73-B146-838EA07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0DB8-C9EA-4857-85B4-877BC6E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FF4-525A-4F43-8354-843C585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A34D-C4BA-40C0-A27B-6CDE1A1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B062-609D-4933-B98F-C9F1A8A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0261-9613-48E3-9726-2805FF6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1EA8-1D7C-4CEA-9BC5-718B37E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91AE-5E5D-4C5D-BE85-F4A2A50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0383-E63C-47E3-8B05-814B4944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FCB7-F5F5-4AC7-9236-6990721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C1B9-2058-4152-B9C9-954D9C28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DF52-F3F0-4E17-B993-C367219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90B6-AF71-4C30-A0BF-E5ED5C68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1CD-6567-4639-A323-85A3B3E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AADE-5917-4F96-8437-A9D4481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C918-0C7E-4F92-9C6D-4BC7EB8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11B4-14C4-4847-ACA3-6CDC0E89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8D7D-8AE2-4228-A1CD-F7A69B5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0754-95DF-45C4-B31A-D21011F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AE9B-DAAD-49FE-B910-562D6A4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29CD-953B-4328-951D-5325C5C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7C35-1DE6-43CB-AA93-F5FF9461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70A1-50A6-4C32-9B1A-946E20ED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1391-CAEA-47BB-A961-FA9CEDC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521-8E82-4C6A-9465-04F7C058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DF99-FB68-4E17-ADC0-C9BB61D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A4F3-46FA-4473-8EA2-D749D242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8A1E-8CA8-49B9-BDDD-677E9C1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76A7-772A-43F6-B3C7-BA627FF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DED0-56B6-45B7-801B-9EC38A0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C1BE-A813-45B0-8D49-1EEF83D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8F20-955B-4533-95B5-1059D7F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BFCC-64C6-4F81-8FCF-4D34870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13D6-1136-45FF-A1A3-514B416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4594-7000-4241-82CF-0D665A55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BAD-33F0-4BAE-9DAC-D42EF4B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A154-DACB-441A-85F1-DE9B2F29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EE46-8B0E-4A56-9E93-CEE4EF1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39C3D-9EE8-4F8D-A8F2-F1337D3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F0A8-D265-4676-813B-CC8C8AD5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0117-5CD3-4714-B869-5A8B3036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117C-420B-4142-BE3C-308F1D61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0BA1-19E7-465B-B8F5-31C074F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686E-AC7A-46F5-A02D-05F657A5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4D64-F14B-4D54-95E8-5F3BECA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0396C-464B-4E4D-9411-1F2E821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E87-109D-4C00-818D-2DF6C9A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0828-F368-4455-8851-60E38621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3572-001F-45C5-B659-6E44105F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0F4F-1285-44C7-9417-8746E71D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2AD3-8D21-4E9B-A2E1-7589DA91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6F0B9-4ABE-4539-AE3F-6D7E9011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30F2D-0424-4830-B9C0-77F2E1D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E73CE-C747-4BC9-B0EF-AFCD658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1ABE-FC4E-45B4-81BC-7D9FE7D7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8DB9-8C5A-4D86-85BF-7C4BED5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8FB6-2A62-4972-96BE-2878049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EC5-949D-4AFD-91C9-F5A8C7B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5FE5-1DC1-46EA-8196-A77CE3E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D51D-C6CC-4853-8C7D-37771FF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2A29D-56B7-4184-AA2A-B5B75781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C471-FD3E-427A-AA1D-E7F4B3CA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79F5-DB03-4E8F-8CA0-17DCB4AD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8C2CD-1A9D-4FC5-A0EA-C7761545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E32C-1959-400D-8A68-F419898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CECE-C99C-4800-91D7-E66EBF0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A52D3-10E8-464A-8DE8-39CD0C96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3FD2-C346-4AC9-B8A3-1CF7609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D6E-8AFA-473D-918C-C9658C6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C5988-8A8F-4DD1-B1F3-7B71213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F548-CDB2-413E-8934-27FF3F6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F33E8-AA84-4088-97B4-E106ECC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014F-B70A-47D5-A452-C27D9CDC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2434-C208-4BD8-A602-BD8782B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3197-4EE9-4125-A872-2EF9EEE7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ED26-DD5E-4716-AE80-6A961B26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CAC3F-696E-4AAB-A333-8AD5F4E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04A7C-3DDD-4560-A81F-4E8986DE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4D16-EE2C-4260-9878-90C9DFA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E3B-6BDC-4576-9571-ADA60805654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498-8FD6-4FF2-B340-CE5BB709A6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496-A1BA-4CBE-8E71-6A2DA85EA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D95-2931-40A8-9AD5-4166F27B47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789-6162-4267-BFB1-AA9EEC82F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1FF-B08A-474D-808F-B2F9281C85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060-A3DD-4B32-B45D-6AA973E4E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910-FEE9-428D-886D-C3E8A74CB4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2FF3-6F43-4C8C-9FD4-8F80F9E12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BABA-D259-4A78-AFCF-8D5A0BCF2B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6A6-90E7-412C-90D1-C734BC2E3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18998" t="0" r="0" b="0"/>
          <a:stretch/>
        </p:blipFill>
        <p:spPr>
          <a:xfrm>
            <a:off x="0" y="0"/>
            <a:ext cx="9875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64763" t="0" r="16252" b="0"/>
          <a:stretch/>
        </p:blipFill>
        <p:spPr>
          <a:xfrm>
            <a:off x="9863280" y="0"/>
            <a:ext cx="2328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387360" y="4076640"/>
            <a:ext cx="9475920" cy="20163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387360" y="325440"/>
            <a:ext cx="11417400" cy="6207120"/>
          </a:xfrm>
          <a:prstGeom prst="roundRect">
            <a:avLst>
              <a:gd name="adj" fmla="val 7560"/>
            </a:avLst>
          </a:prstGeom>
          <a:noFill/>
          <a:ln w="38160">
            <a:solidFill>
              <a:srgbClr val="fff4ce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Straight Connector 11" descr=""/>
          <p:cNvPicPr/>
          <p:nvPr/>
        </p:nvPicPr>
        <p:blipFill>
          <a:blip r:embed="rId6"/>
          <a:stretch/>
        </p:blipFill>
        <p:spPr>
          <a:xfrm>
            <a:off x="384120" y="5559480"/>
            <a:ext cx="9509040" cy="30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7460-2932-4196-9C9C-2DF144312D1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E02-39B4-4606-9FE7-FEF986DC0B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E5B8-E53D-4410-9F60-F07EFD32F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8D2E-780C-430D-8E52-0BF15FB744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467-1A58-4342-94A7-26BA6D2248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C08-5AB2-402A-8805-82BA70FC53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E76B-CFFC-4F58-B639-F711E8C57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F6D-A2B7-486B-9240-B10790BC03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0C9-89E9-46DB-A361-455236FAB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706B-EC59-4561-A50A-54C7E83A1F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777-6130-47A2-B5CB-B1ADF7BA8A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BF7B-C7AD-41FA-B76A-567DF46EC3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9AB6-991E-4710-A434-F82189CAD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5AEF-4F28-493E-9FB9-6D394A885F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D4A-0BC5-4609-839C-2DD41D1D6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4680" y="3100320"/>
            <a:ext cx="10110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X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XX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秋招工作总结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0000" y="56574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咨询中心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XX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057120" y="4498560"/>
            <a:ext cx="28242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756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alibri"/>
                <a:ea typeface="黑体"/>
              </a:rPr>
              <a:t>谢谢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7:37:57Z</dcterms:created>
  <dc:creator>邹恩栋</dc:creator>
  <dc:description/>
  <cp:keywords>XS-宽屏 16：9;SC-深棕色;BG-深色;DH-静态</cp:keywords>
  <dc:language>en-US</dc:language>
  <cp:lastModifiedBy>a</cp:lastModifiedBy>
  <dcterms:modified xsi:type="dcterms:W3CDTF">2014-07-17T05:52:48Z</dcterms:modified>
  <cp:revision>9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