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E5376-F527-4B0F-B3DF-5FB863AF5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C3698-06A2-4A73-8CD1-8FD6CCC2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34DA-225E-4698-8787-0E6478153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F519E-E1F5-4032-990B-44F343350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EACB6-5E9E-4820-BC53-754AC22D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F7642-E33A-468B-AD5E-0DCC8031F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260A-2801-411B-B48C-9A191AA0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8F32-B33D-4E55-8959-FF5622B7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B524E-2D03-4F8A-8581-585C460F4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BD8C-F32B-4CC9-BBE5-9816C5450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79792-F34F-474D-8679-35E1080E2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95D56-9449-4A59-A877-B1788BE62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GGJGFRE"/>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45336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AC8E086F-FDA2-46B7-B7A9-F49FF3FF5DB2}"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A222-8779-4D89-84BD-BDC54C5AC442}"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FC53-886A-40FA-9FD8-D0D6E049259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FDGFD Z RNJHGS"/>
          <p:cNvPicPr/>
          <p:nvPr/>
        </p:nvPicPr>
        <p:blipFill>
          <a:blip r:embed="rId1"/>
          <a:stretch/>
        </p:blipFill>
        <p:spPr>
          <a:xfrm>
            <a:off x="0" y="0"/>
            <a:ext cx="9144000" cy="6858000"/>
          </a:xfrm>
          <a:prstGeom prst="rect">
            <a:avLst/>
          </a:prstGeom>
          <a:ln w="0">
            <a:noFill/>
          </a:ln>
        </p:spPr>
      </p:pic>
      <p:sp>
        <p:nvSpPr>
          <p:cNvPr id="80" name="Text Box 3"/>
          <p:cNvSpPr/>
          <p:nvPr/>
        </p:nvSpPr>
        <p:spPr>
          <a:xfrm>
            <a:off x="4067280" y="166680"/>
            <a:ext cx="4967280" cy="279828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Of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3380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2" name="Text Box 3"/>
          <p:cNvSpPr/>
          <p:nvPr/>
        </p:nvSpPr>
        <p:spPr>
          <a:xfrm>
            <a:off x="900000" y="1341360"/>
            <a:ext cx="77058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737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4" name="Text Box 3"/>
          <p:cNvSpPr/>
          <p:nvPr/>
        </p:nvSpPr>
        <p:spPr>
          <a:xfrm>
            <a:off x="900000" y="1341360"/>
            <a:ext cx="770580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30T04:58:18Z</dcterms:modified>
  <cp:revision>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