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E42C-1F7B-4F66-AB6E-56532A2A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B3E-D1E2-4FB6-B4BB-7E6417D4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07630-C709-46E7-86AB-44FA4768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1CF35-4209-457A-AC5C-FFA81D0B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7D800-FE09-4ED5-8121-DBAEA4B0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BCF00-994E-40FB-8415-200181DE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DDC27-F46D-4D68-8B7E-AD6539F6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E080C-C0BF-4887-A05C-2105F3EF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A5319-A551-4DC5-B243-E25F06D0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32037-F252-4B6E-8819-95F0C050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F6399-2922-43D3-9A18-DAED3ED0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99821-867F-4719-A44F-7F8F06C0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462-8244-4985-8443-825116B1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91B21-6A86-4401-BBC1-CD24AF6C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6572F-C968-4ED3-BC41-6284E4E3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FACD5-1C22-46C4-8973-ABD86654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12246-7424-49F5-A1C7-4C991401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48E93-99BB-481C-ABFF-810A65ED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9E65F-C122-4A95-BD77-408FF758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493F2-CCD8-4F01-AD57-D97AEBBF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942A7-1134-4110-BCBF-18B67A6F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9BD97-F29E-4CFA-A6C3-FFDB9F84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A8A79-41C7-4A5B-8526-3877C59E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758-565A-44B9-BC74-29FC93E5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1D4F2-8DCB-4843-A3DB-25F537C1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00A9D-172B-4AD5-9B98-F58BD7C9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C176C-9A7A-434A-B7DE-2144A3A1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DD8AF-6AD5-414A-9C78-0BB56EB3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5505F-D0D9-4103-8FFF-CF255BFE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01801-5480-4C55-A329-21FCE462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42570-9DE9-44DB-87B7-9DE8150D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E087E-C0BE-4F0D-864D-0A660606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5010B-55FD-4EF3-93DB-3D6E42BE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B0A4B-E8C3-4C9A-A95A-E34700C6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0D69-2CCB-4CFC-A777-83C1E582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D0D77-4C60-4795-AEAB-0C3155CE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762E0-6F46-4195-8364-5C289160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3F6BE-1B68-4686-9CE4-0D3E9A14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BAB68-58E6-4F45-AA91-DC2096B9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E5A94-9473-4672-8824-966C9677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8DACE-92A5-47D2-B04F-14A3524E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5F921-75E5-4A4D-BB42-2A129FB8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7E645-E976-4D8D-94B4-5CE7C269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EF1E8-8A6D-4703-9D27-4FB07C3E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6980A-92AF-43A3-9D22-3B226D2E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6DF6-2F02-407D-B959-132F8EF5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B1E98-722F-47B1-AFED-F9A5128B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B5D14-3329-4B83-AAA8-8D469F79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1AF13-D044-45ED-9A58-AA253D5A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3146F-08B8-4BD1-B8F3-E42B7658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4311D-89CE-49FF-9A21-4183D92B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5D817-1897-4BD8-9052-E1E9B44E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FD3F1-64C2-4F7A-BCB6-DEA29854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D30BA-BBA6-48AE-AF8A-335699DC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E2EB1-F49E-42D1-AAF8-D8E90999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24790-1BDA-4A85-B625-54BA87DA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1D89-477D-4E5A-9A50-8CA0C22E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B4E86-7B59-49A6-AA40-031E268A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3030A-A035-4BCA-8124-AB6680B3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49C13-6092-4255-8373-1A7CD7D0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0C17B-D61B-4E1A-BE2B-9B61A4A9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F6531-F879-4CD5-8D68-773F0DD2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82268-2677-4D11-B7B3-3D242369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B8B59-343D-45D2-ADAD-0F4E837A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50FD-14DA-42B1-A828-4CBAFDE2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EA2D-5436-4B56-9A7D-B5DFFB6B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3198-27D8-40A9-AA88-0E109CBB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89F8-EC0E-4D7E-B293-4D2818E9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50B-36B1-4052-BAAE-D481E5F3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DB8C-46BC-4C08-BE68-092343B8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F253-19DA-4DAE-92FC-9A3DED3C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C259-153F-42EC-9B4A-899D0931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7A9D-9294-4BED-9C51-9400C7DA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32FE-401B-4A09-BE36-F85F75DF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60C2D-B7BA-4756-BF4D-9F559C43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CCCF5-34EB-4C5B-811D-3EC3CA79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C7595-98B4-4401-8482-535C390F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13F6C-B5CB-4A46-AE02-D64651CF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FF66-3BDC-4B24-B9D2-66FBD1AB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B08-185E-4D73-8C97-316B71E6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E708A-084C-4815-9F9C-A3BF6957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DCD70-66DE-4FE6-BB73-99DF16B5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64CCC-6050-45A8-BA84-04C389E0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7A242-95F5-479B-B507-1B0F0F63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0115D-91B9-4F13-90A7-B9E43137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5F998-9D57-43F9-AB80-6C0AD3CD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24DAD-6014-478D-AFD3-6A54F0AD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CEF29-D011-4B32-BD9E-42259A76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2109C-E30D-4138-8062-72FD4C3F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83551-390D-472B-B4D1-775E0F1B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E05-F5E2-4C51-89E0-54AAC2FD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3531F-8DA8-452E-9501-1D30E507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8B203-9E59-4B8E-857A-CF63F7B5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96EBE-0A17-4DE4-9C0E-867FC22E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9E8B0-499B-43FC-9B3D-E085B387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27E52-E80B-4168-8171-D0E3E693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36C6D-4B03-4C8C-B235-87F0F93F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F0DE2-2323-47FC-AF24-8C9C040A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A21E3-7C78-41A1-812C-DB202E44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24404-10B6-4030-8699-4AFC8297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EB99F-D489-40DB-88AA-2A20A6EA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9F2-4408-4DD8-A70D-0559EF86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00D8C-98CD-4DB0-A05C-BA507330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4690B-4CC6-4510-B7E0-250ADBBA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94068-C6F0-4DA3-BE2A-5B5730B2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25BB9-0013-47F3-A2E4-EC26E72C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52D03-495F-49F1-8CB7-5CF3F72F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2C3A3-9CFA-49C4-A99C-A1CAA8A9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1DE7C-9C31-46B5-9898-EE346DC8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42635-F77B-4909-A908-988F7D8D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DE1BC-1AD0-4665-A470-D1277A87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C9A5E-5BF9-4C3F-8931-B31FFD9A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2D5-EB0D-4546-A2D4-DDF9314B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44FB0-4E46-40CB-9672-BBD8A204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A81EA-4CDE-441A-BE83-23C95121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588D2-1E47-464C-9C3A-329CFC17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442BE-C22E-44F8-ACE3-E8F3F0C3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99BD7-721F-4BA2-A3A3-98102E57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74F75-16E1-41A9-AD5D-CB2CBA55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23C8B-37AF-4A1A-A79B-1C73CA1B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7950F-8263-461A-A259-6353FC5D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A23A1-592E-4FD0-814E-0735380A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5B192-CF97-46C5-B056-48D95FF1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0F1-BDAD-4DE6-BDEC-8C5EDAFE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A951A-B81E-42C3-AA04-C8E12AFD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39A9F-AEDE-470B-AB50-E47108BD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C4487-B379-4B70-8249-5AD991E5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635DB-672D-4F72-9A6B-43F3FDAD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FA09F-5195-4F32-9EA8-648D8738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0D62D-6E91-47F7-8ED4-E5466467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CBDBE-BDE9-4DD0-9395-79976BB7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3DC60-0235-43AB-AE5E-F9826F2B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C89B3-1775-4DA6-80A3-A3896D1A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8CF60-403B-4545-A649-D9EB2730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DF1-7BB7-42AD-8255-3D9EF07F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D3116-0C3E-4C53-A196-A019CA91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2B484-A0EC-4375-A7FB-EFCC79C3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5313F-28F1-487A-B0ED-F7B35653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B945F-D848-4C46-9046-0BB41780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4D00B-160A-477A-B94F-FB2519BA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42555-B255-4819-BD98-3908175F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E0D61-0420-4A94-8F96-4754D55C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90715-0BC6-4275-A95A-01F5B264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090CA-C445-4E0E-AD0D-9CE887FB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39A6A-4057-48D2-BEF0-6689F880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58C-1989-43C8-8F66-4BE56C02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9AFED-1DAD-43F7-8F6C-E3E0D536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B3C88-F252-477E-9C8F-6805472A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110C2-7E59-4DB5-8917-B5E2B35C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072FA-AB7C-4884-B911-18000CE7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740E3-3353-4105-A4E0-FF413C67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192B2-E972-43B3-A8DF-16A84318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3A65E-7E01-42F6-B439-D68031BF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969AA-E35A-4ECF-B676-4D3F17EF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BC417-4B28-4F54-8BDB-22B16F1B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5A96D-CD38-4593-84D9-6ACC082A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5CFF-2DF5-42A4-B3A9-613074A3EF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B37D-140C-400F-BFE9-C3C2FED4438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1908-AB24-4C01-BDA0-543A8FF4391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7EA0-B586-447A-8356-B3CAE3405FD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710B-AF3A-498A-B871-1EB9AB9AA4D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51E9-7BA9-4913-9458-7079ED1542F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556C-E66C-40DA-B33B-CA057954567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46A4-3117-48CF-9472-98EB260E5C5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9BB7-E089-48AF-9635-1D28CE2DBF3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EFBD-37C5-4897-91FB-68B7E0E49A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C5DE-948D-43E9-B6EA-7E98E76A33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AB9F-C3D8-4C77-A658-F54E7116BF3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27D7-E7A9-44A2-B4E7-792C367F865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62DF-98AC-47C7-B911-E3894F90DBA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D9DD-791C-44BD-9122-305369395B6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5C21-173A-4295-B1B2-3B21F4E52BA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7BA1-3DC5-4DE1-9CE9-8FB23362222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AA06-C0AC-41BC-93E4-4D6F168649A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249D-5327-47C7-B074-4F4D904617F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76AA-E556-4622-B7D6-261DE7F6DD4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691B-11B3-4FF1-9F0D-908780B59DA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E472-0BDF-47FC-89D1-FD07150A75A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D247-1833-4203-82D7-087ED572B3B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EE10-C5E0-47EA-A781-1C6F08CE4CE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CB1A-9BCC-44F6-B77C-5A2EBC136A2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14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标题-1"/>
          <p:cNvPicPr/>
          <p:nvPr/>
        </p:nvPicPr>
        <p:blipFill>
          <a:blip r:embed="rId2"/>
          <a:stretch/>
        </p:blipFill>
        <p:spPr>
          <a:xfrm>
            <a:off x="-4680" y="0"/>
            <a:ext cx="12193560" cy="686736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7347960" y="482904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6600"/>
                </a:solidFill>
                <a:latin typeface="Calibri"/>
                <a:ea typeface="方正综艺简体"/>
              </a:rPr>
              <a:t>色</a:t>
            </a:r>
            <a:r>
              <a:rPr b="0" lang="zh-CN" sz="7200" spc="-1" strike="noStrike">
                <a:solidFill>
                  <a:srgbClr val="cc6600"/>
                </a:solidFill>
                <a:latin typeface="Calibri"/>
                <a:ea typeface="方正综艺简体"/>
              </a:rPr>
              <a:t>彩</a:t>
            </a:r>
            <a:r>
              <a:rPr b="0" lang="zh-CN" sz="6000" spc="-1" strike="noStrike">
                <a:solidFill>
                  <a:srgbClr val="cc6600"/>
                </a:solidFill>
                <a:latin typeface="Calibri"/>
                <a:ea typeface="方正综艺简体"/>
              </a:rPr>
              <a:t>心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4" descr="4848"/>
          <p:cNvPicPr/>
          <p:nvPr/>
        </p:nvPicPr>
        <p:blipFill>
          <a:blip r:embed="rId3"/>
          <a:stretch/>
        </p:blipFill>
        <p:spPr>
          <a:xfrm>
            <a:off x="184320" y="3139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未标题-2"/>
          <p:cNvPicPr/>
          <p:nvPr/>
        </p:nvPicPr>
        <p:blipFill>
          <a:blip r:embed="rId4"/>
          <a:stretch/>
        </p:blipFill>
        <p:spPr>
          <a:xfrm>
            <a:off x="6813720" y="24224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454"/>
          <p:cNvPicPr/>
          <p:nvPr/>
        </p:nvPicPr>
        <p:blipFill>
          <a:blip r:embed="rId5"/>
          <a:stretch/>
        </p:blipFill>
        <p:spPr>
          <a:xfrm>
            <a:off x="695160" y="451656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26"/>
          <p:cNvPicPr/>
          <p:nvPr/>
        </p:nvPicPr>
        <p:blipFill>
          <a:blip r:embed="rId6"/>
          <a:stretch/>
        </p:blipFill>
        <p:spPr>
          <a:xfrm>
            <a:off x="806400" y="2055960"/>
            <a:ext cx="851040" cy="8506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989595"/>
          <p:cNvPicPr/>
          <p:nvPr/>
        </p:nvPicPr>
        <p:blipFill>
          <a:blip r:embed="rId7"/>
          <a:stretch/>
        </p:blipFill>
        <p:spPr>
          <a:xfrm>
            <a:off x="1616040" y="4395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844 0.090463 L 0.83 0.876296 E">
                                      <p:cBhvr>
                                        <p:cTn id="43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49896 0.820741 E">
                                      <p:cBhvr>
                                        <p:cTn id="45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11458 0.871204 E">
                                      <p:cBhvr>
                                        <p:cTn id="47" dur="2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3099 0.787037 E">
                                      <p:cBhvr>
                                        <p:cTn id="49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6042 0.517685 E">
                                      <p:cBhvr>
                                        <p:cTn id="51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612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wps2"/>
          <p:cNvPicPr/>
          <p:nvPr/>
        </p:nvPicPr>
        <p:blipFill>
          <a:blip r:embed="rId2"/>
          <a:stretch/>
        </p:blipFill>
        <p:spPr>
          <a:xfrm>
            <a:off x="-47520" y="-50760"/>
            <a:ext cx="12358440" cy="69483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3"/>
          <p:cNvSpPr/>
          <p:nvPr/>
        </p:nvSpPr>
        <p:spPr>
          <a:xfrm>
            <a:off x="179640" y="3735360"/>
            <a:ext cx="1277640" cy="33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ffff"/>
                </a:solidFill>
                <a:latin typeface="Calibri"/>
                <a:ea typeface="方正综艺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7526160" y="337824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Calibri"/>
                <a:ea typeface="方正综艺简体"/>
              </a:rPr>
              <a:t>红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7755840" y="4241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Calibri"/>
                <a:ea typeface="方正综艺简体"/>
              </a:rPr>
              <a:t>黄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7755840" y="51354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99"/>
                </a:solidFill>
                <a:latin typeface="Calibri"/>
                <a:ea typeface="方正综艺简体"/>
              </a:rPr>
              <a:t>绿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7" descr="556"/>
          <p:cNvPicPr/>
          <p:nvPr/>
        </p:nvPicPr>
        <p:blipFill>
          <a:blip r:embed="rId3"/>
          <a:stretch/>
        </p:blipFill>
        <p:spPr>
          <a:xfrm>
            <a:off x="7315200" y="2906640"/>
            <a:ext cx="797040" cy="760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白色"/>
          <p:cNvPicPr/>
          <p:nvPr/>
        </p:nvPicPr>
        <p:blipFill>
          <a:blip r:embed="rId4"/>
          <a:stretch/>
        </p:blipFill>
        <p:spPr>
          <a:xfrm>
            <a:off x="2205000" y="3800520"/>
            <a:ext cx="4789440" cy="1634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白色"/>
          <p:cNvPicPr/>
          <p:nvPr/>
        </p:nvPicPr>
        <p:blipFill>
          <a:blip r:embed="rId5"/>
          <a:stretch/>
        </p:blipFill>
        <p:spPr>
          <a:xfrm>
            <a:off x="2171880" y="4543560"/>
            <a:ext cx="4789440" cy="163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0" descr="白色"/>
          <p:cNvPicPr/>
          <p:nvPr/>
        </p:nvPicPr>
        <p:blipFill>
          <a:blip r:embed="rId6"/>
          <a:stretch/>
        </p:blipFill>
        <p:spPr>
          <a:xfrm>
            <a:off x="2181240" y="5330880"/>
            <a:ext cx="4789440" cy="1634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1" descr="lv"/>
          <p:cNvPicPr/>
          <p:nvPr/>
        </p:nvPicPr>
        <p:blipFill>
          <a:blip r:embed="rId7"/>
          <a:stretch/>
        </p:blipFill>
        <p:spPr>
          <a:xfrm>
            <a:off x="7302600" y="5415120"/>
            <a:ext cx="384120" cy="531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2" descr="黄色"/>
          <p:cNvPicPr/>
          <p:nvPr/>
        </p:nvPicPr>
        <p:blipFill>
          <a:blip r:embed="rId8"/>
          <a:stretch/>
        </p:blipFill>
        <p:spPr>
          <a:xfrm>
            <a:off x="8572680" y="4211640"/>
            <a:ext cx="841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wps3"/>
          <p:cNvPicPr/>
          <p:nvPr/>
        </p:nvPicPr>
        <p:blipFill>
          <a:blip r:embed="rId2"/>
          <a:stretch/>
        </p:blipFill>
        <p:spPr>
          <a:xfrm>
            <a:off x="11160" y="-23760"/>
            <a:ext cx="12345840" cy="69372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4848"/>
          <p:cNvPicPr/>
          <p:nvPr/>
        </p:nvPicPr>
        <p:blipFill>
          <a:blip r:embed="rId3"/>
          <a:stretch/>
        </p:blipFill>
        <p:spPr>
          <a:xfrm>
            <a:off x="11815920" y="-2222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未标题-2"/>
          <p:cNvPicPr/>
          <p:nvPr/>
        </p:nvPicPr>
        <p:blipFill>
          <a:blip r:embed="rId4"/>
          <a:stretch/>
        </p:blipFill>
        <p:spPr>
          <a:xfrm>
            <a:off x="13241160" y="-16160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454"/>
          <p:cNvPicPr/>
          <p:nvPr/>
        </p:nvPicPr>
        <p:blipFill>
          <a:blip r:embed="rId5"/>
          <a:stretch/>
        </p:blipFill>
        <p:spPr>
          <a:xfrm>
            <a:off x="14644800" y="-517680"/>
            <a:ext cx="672840" cy="6508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5"/>
          <p:cNvPicPr/>
          <p:nvPr/>
        </p:nvPicPr>
        <p:blipFill>
          <a:blip r:embed="rId6"/>
          <a:stretch/>
        </p:blipFill>
        <p:spPr>
          <a:xfrm>
            <a:off x="10747440" y="-1643040"/>
            <a:ext cx="711000" cy="711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7" descr="26"/>
          <p:cNvPicPr/>
          <p:nvPr/>
        </p:nvPicPr>
        <p:blipFill>
          <a:blip r:embed="rId7"/>
          <a:stretch/>
        </p:blipFill>
        <p:spPr>
          <a:xfrm>
            <a:off x="12480840" y="-631800"/>
            <a:ext cx="851040" cy="84132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8"/>
          <p:cNvSpPr/>
          <p:nvPr/>
        </p:nvSpPr>
        <p:spPr>
          <a:xfrm>
            <a:off x="4916520" y="3193920"/>
            <a:ext cx="404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红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1094 0.399907 E">
                                      <p:cBhvr>
                                        <p:cTn id="203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2969 0.37037 E">
                                      <p:cBhvr>
                                        <p:cTn id="205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96615 0.366204 E">
                                      <p:cBhvr>
                                        <p:cTn id="207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25677 0.37037 E">
                                      <p:cBhvr>
                                        <p:cTn id="209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09635 0.45037 E">
                                      <p:cBhvr>
                                        <p:cTn id="211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wps4"/>
          <p:cNvPicPr/>
          <p:nvPr/>
        </p:nvPicPr>
        <p:blipFill>
          <a:blip r:embed="rId2"/>
          <a:stretch/>
        </p:blipFill>
        <p:spPr>
          <a:xfrm>
            <a:off x="-12600" y="-20520"/>
            <a:ext cx="12233160" cy="68943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1076400" y="3321000"/>
            <a:ext cx="10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        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红色象征热情、性感、权威、自信，是个能量充沛的色彩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--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全然的自我、全然的自信、全然的要别人注意你。不过有时候会给人血腥、暴力、忌妒、控制的印象，容易造成心理压力，因此与人谈判或协商时则不宜穿红色；预期有火爆场面时，也请避免穿红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9360" y="722160"/>
            <a:ext cx="41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ffff"/>
                </a:solidFill>
                <a:latin typeface="Calibri"/>
                <a:ea typeface="方正综艺简体"/>
              </a:rPr>
              <a:t>红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Picture 5" descr="4848"/>
          <p:cNvPicPr/>
          <p:nvPr/>
        </p:nvPicPr>
        <p:blipFill>
          <a:blip r:embed="rId3"/>
          <a:stretch/>
        </p:blipFill>
        <p:spPr>
          <a:xfrm>
            <a:off x="138240" y="-15778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454"/>
          <p:cNvPicPr/>
          <p:nvPr/>
        </p:nvPicPr>
        <p:blipFill>
          <a:blip r:embed="rId4"/>
          <a:stretch/>
        </p:blipFill>
        <p:spPr>
          <a:xfrm>
            <a:off x="1004760" y="-2816280"/>
            <a:ext cx="673200" cy="6606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7" descr="未标题-2"/>
          <p:cNvPicPr/>
          <p:nvPr/>
        </p:nvPicPr>
        <p:blipFill>
          <a:blip r:embed="rId5"/>
          <a:stretch/>
        </p:blipFill>
        <p:spPr>
          <a:xfrm>
            <a:off x="-355680" y="-2519280"/>
            <a:ext cx="1209600" cy="12189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989595"/>
          <p:cNvPicPr/>
          <p:nvPr/>
        </p:nvPicPr>
        <p:blipFill>
          <a:blip r:embed="rId6"/>
          <a:stretch/>
        </p:blipFill>
        <p:spPr>
          <a:xfrm>
            <a:off x="-1339920" y="-1038240"/>
            <a:ext cx="1217520" cy="1209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9" descr="5"/>
          <p:cNvPicPr/>
          <p:nvPr/>
        </p:nvPicPr>
        <p:blipFill>
          <a:blip r:embed="rId7"/>
          <a:stretch/>
        </p:blipFill>
        <p:spPr>
          <a:xfrm>
            <a:off x="1357200" y="-1758960"/>
            <a:ext cx="71136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1198 1.216296 E">
                                      <p:cBhvr>
                                        <p:cTn id="279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724 1.119537 E">
                                      <p:cBhvr>
                                        <p:cTn id="282" dur="2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110365 1.165833 E">
                                      <p:cBhvr>
                                        <p:cTn id="284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40521 0.782778 E">
                                      <p:cBhvr>
                                        <p:cTn id="287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98385 1.363611 E">
                                      <p:cBhvr>
                                        <p:cTn id="290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wps3"/>
          <p:cNvPicPr/>
          <p:nvPr/>
        </p:nvPicPr>
        <p:blipFill>
          <a:blip r:embed="rId2"/>
          <a:stretch/>
        </p:blipFill>
        <p:spPr>
          <a:xfrm>
            <a:off x="11160" y="-23760"/>
            <a:ext cx="12345840" cy="69372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4848"/>
          <p:cNvPicPr/>
          <p:nvPr/>
        </p:nvPicPr>
        <p:blipFill>
          <a:blip r:embed="rId3"/>
          <a:stretch/>
        </p:blipFill>
        <p:spPr>
          <a:xfrm>
            <a:off x="11815920" y="-2222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未标题-2"/>
          <p:cNvPicPr/>
          <p:nvPr/>
        </p:nvPicPr>
        <p:blipFill>
          <a:blip r:embed="rId4"/>
          <a:stretch/>
        </p:blipFill>
        <p:spPr>
          <a:xfrm>
            <a:off x="13241160" y="-16160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454"/>
          <p:cNvPicPr/>
          <p:nvPr/>
        </p:nvPicPr>
        <p:blipFill>
          <a:blip r:embed="rId5"/>
          <a:stretch/>
        </p:blipFill>
        <p:spPr>
          <a:xfrm>
            <a:off x="14644800" y="-517680"/>
            <a:ext cx="672840" cy="650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5"/>
          <p:cNvPicPr/>
          <p:nvPr/>
        </p:nvPicPr>
        <p:blipFill>
          <a:blip r:embed="rId6"/>
          <a:stretch/>
        </p:blipFill>
        <p:spPr>
          <a:xfrm>
            <a:off x="10747440" y="-1643040"/>
            <a:ext cx="711000" cy="711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26"/>
          <p:cNvPicPr/>
          <p:nvPr/>
        </p:nvPicPr>
        <p:blipFill>
          <a:blip r:embed="rId7"/>
          <a:stretch/>
        </p:blipFill>
        <p:spPr>
          <a:xfrm>
            <a:off x="12480840" y="-631800"/>
            <a:ext cx="851040" cy="84132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8"/>
          <p:cNvSpPr/>
          <p:nvPr/>
        </p:nvSpPr>
        <p:spPr>
          <a:xfrm>
            <a:off x="4916520" y="3193920"/>
            <a:ext cx="404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黄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1094 0.399907 E">
                                      <p:cBhvr>
                                        <p:cTn id="321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2969 0.37037 E">
                                      <p:cBhvr>
                                        <p:cTn id="323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96615 0.366204 E">
                                      <p:cBhvr>
                                        <p:cTn id="325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25677 0.37037 E">
                                      <p:cBhvr>
                                        <p:cTn id="327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09635 0.45037 E">
                                      <p:cBhvr>
                                        <p:cTn id="329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wps4"/>
          <p:cNvPicPr/>
          <p:nvPr/>
        </p:nvPicPr>
        <p:blipFill>
          <a:blip r:embed="rId2"/>
          <a:stretch/>
        </p:blipFill>
        <p:spPr>
          <a:xfrm>
            <a:off x="-12600" y="-20520"/>
            <a:ext cx="12233160" cy="689436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1076400" y="3321000"/>
            <a:ext cx="10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        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黄色是明度极高的颜色，能刺激大脑中与焦虑有关的区域，具有警告的效果，所以雨具、雨衣多半是黄色。艳黄色象征信心、聪明、希望；淡黄色显得天真、浪漫、娇嫩。提醒你，艳黄色有不稳定、招摇，甚至挑衅的味道，不适合在任何可能引起冲突的场合如谈判场合穿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9360" y="722160"/>
            <a:ext cx="41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ffff"/>
                </a:solidFill>
                <a:latin typeface="Calibri"/>
                <a:ea typeface="方正综艺简体"/>
              </a:rPr>
              <a:t>黄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5" descr="4848"/>
          <p:cNvPicPr/>
          <p:nvPr/>
        </p:nvPicPr>
        <p:blipFill>
          <a:blip r:embed="rId3"/>
          <a:stretch/>
        </p:blipFill>
        <p:spPr>
          <a:xfrm>
            <a:off x="138240" y="-15778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6" descr="454"/>
          <p:cNvPicPr/>
          <p:nvPr/>
        </p:nvPicPr>
        <p:blipFill>
          <a:blip r:embed="rId4"/>
          <a:stretch/>
        </p:blipFill>
        <p:spPr>
          <a:xfrm>
            <a:off x="1004760" y="-2816280"/>
            <a:ext cx="673200" cy="6606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未标题-2"/>
          <p:cNvPicPr/>
          <p:nvPr/>
        </p:nvPicPr>
        <p:blipFill>
          <a:blip r:embed="rId5"/>
          <a:stretch/>
        </p:blipFill>
        <p:spPr>
          <a:xfrm>
            <a:off x="-355680" y="-2519280"/>
            <a:ext cx="1209600" cy="12189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989595"/>
          <p:cNvPicPr/>
          <p:nvPr/>
        </p:nvPicPr>
        <p:blipFill>
          <a:blip r:embed="rId6"/>
          <a:stretch/>
        </p:blipFill>
        <p:spPr>
          <a:xfrm>
            <a:off x="-1339920" y="-1038240"/>
            <a:ext cx="1217520" cy="12096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5"/>
          <p:cNvPicPr/>
          <p:nvPr/>
        </p:nvPicPr>
        <p:blipFill>
          <a:blip r:embed="rId7"/>
          <a:stretch/>
        </p:blipFill>
        <p:spPr>
          <a:xfrm>
            <a:off x="1357200" y="-1758960"/>
            <a:ext cx="71136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1198 1.216296 E">
                                      <p:cBhvr>
                                        <p:cTn id="397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724 1.119537 E">
                                      <p:cBhvr>
                                        <p:cTn id="400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110365 1.165833 E">
                                      <p:cBhvr>
                                        <p:cTn id="402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40521 0.782778 E">
                                      <p:cBhvr>
                                        <p:cTn id="405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98385 1.363611 E">
                                      <p:cBhvr>
                                        <p:cTn id="408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wps3"/>
          <p:cNvPicPr/>
          <p:nvPr/>
        </p:nvPicPr>
        <p:blipFill>
          <a:blip r:embed="rId2"/>
          <a:stretch/>
        </p:blipFill>
        <p:spPr>
          <a:xfrm>
            <a:off x="11160" y="-23760"/>
            <a:ext cx="12345840" cy="69372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4848"/>
          <p:cNvPicPr/>
          <p:nvPr/>
        </p:nvPicPr>
        <p:blipFill>
          <a:blip r:embed="rId3"/>
          <a:stretch/>
        </p:blipFill>
        <p:spPr>
          <a:xfrm>
            <a:off x="11815920" y="-2222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未标题-2"/>
          <p:cNvPicPr/>
          <p:nvPr/>
        </p:nvPicPr>
        <p:blipFill>
          <a:blip r:embed="rId4"/>
          <a:stretch/>
        </p:blipFill>
        <p:spPr>
          <a:xfrm>
            <a:off x="13241160" y="-16160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454"/>
          <p:cNvPicPr/>
          <p:nvPr/>
        </p:nvPicPr>
        <p:blipFill>
          <a:blip r:embed="rId5"/>
          <a:stretch/>
        </p:blipFill>
        <p:spPr>
          <a:xfrm>
            <a:off x="14644800" y="-517680"/>
            <a:ext cx="672840" cy="6508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5"/>
          <p:cNvPicPr/>
          <p:nvPr/>
        </p:nvPicPr>
        <p:blipFill>
          <a:blip r:embed="rId6"/>
          <a:stretch/>
        </p:blipFill>
        <p:spPr>
          <a:xfrm>
            <a:off x="10747440" y="-1643040"/>
            <a:ext cx="711000" cy="711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26"/>
          <p:cNvPicPr/>
          <p:nvPr/>
        </p:nvPicPr>
        <p:blipFill>
          <a:blip r:embed="rId7"/>
          <a:stretch/>
        </p:blipFill>
        <p:spPr>
          <a:xfrm>
            <a:off x="12480840" y="-631800"/>
            <a:ext cx="851040" cy="84132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8"/>
          <p:cNvSpPr/>
          <p:nvPr/>
        </p:nvSpPr>
        <p:spPr>
          <a:xfrm>
            <a:off x="4916520" y="3193920"/>
            <a:ext cx="404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绿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1094 0.399907 E">
                                      <p:cBhvr>
                                        <p:cTn id="439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2969 0.37037 E">
                                      <p:cBhvr>
                                        <p:cTn id="441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96615 0.366204 E">
                                      <p:cBhvr>
                                        <p:cTn id="443" dur="2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25677 0.37037 E">
                                      <p:cBhvr>
                                        <p:cTn id="445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09635 0.45037 E">
                                      <p:cBhvr>
                                        <p:cTn id="447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wps4"/>
          <p:cNvPicPr/>
          <p:nvPr/>
        </p:nvPicPr>
        <p:blipFill>
          <a:blip r:embed="rId2"/>
          <a:stretch/>
        </p:blipFill>
        <p:spPr>
          <a:xfrm>
            <a:off x="-12600" y="-20520"/>
            <a:ext cx="12233160" cy="689436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3"/>
          <p:cNvSpPr/>
          <p:nvPr/>
        </p:nvSpPr>
        <p:spPr>
          <a:xfrm>
            <a:off x="1076400" y="3321000"/>
            <a:ext cx="10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        </a:t>
            </a:r>
            <a:r>
              <a:rPr b="0" lang="zh-CN" sz="28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绿色给人无限的安全感受，在人际关系的协调上可扮演重要的角色。绿色象  色彩征自由和平、新鲜舒适；黄绿色给人清新、有活力、快乐的感受；明度较低的草绿、墨绿、橄榄绿则给人沉稳、知性的印象。绿色的负面意义，暗示了隐藏、被动，不小心就会穿出没有创意、出世的感觉，在团体中容易失去参与感，所以在搭配上需要其它色彩来调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9360" y="722160"/>
            <a:ext cx="41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ffff"/>
                </a:solidFill>
                <a:latin typeface="Calibri"/>
                <a:ea typeface="方正综艺简体"/>
              </a:rPr>
              <a:t>绿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5" descr="4848"/>
          <p:cNvPicPr/>
          <p:nvPr/>
        </p:nvPicPr>
        <p:blipFill>
          <a:blip r:embed="rId3"/>
          <a:stretch/>
        </p:blipFill>
        <p:spPr>
          <a:xfrm>
            <a:off x="138240" y="-15778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454"/>
          <p:cNvPicPr/>
          <p:nvPr/>
        </p:nvPicPr>
        <p:blipFill>
          <a:blip r:embed="rId4"/>
          <a:stretch/>
        </p:blipFill>
        <p:spPr>
          <a:xfrm>
            <a:off x="1004760" y="-2816280"/>
            <a:ext cx="673200" cy="6606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7" descr="未标题-2"/>
          <p:cNvPicPr/>
          <p:nvPr/>
        </p:nvPicPr>
        <p:blipFill>
          <a:blip r:embed="rId5"/>
          <a:stretch/>
        </p:blipFill>
        <p:spPr>
          <a:xfrm>
            <a:off x="-355680" y="-2519280"/>
            <a:ext cx="1209600" cy="12189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989595"/>
          <p:cNvPicPr/>
          <p:nvPr/>
        </p:nvPicPr>
        <p:blipFill>
          <a:blip r:embed="rId6"/>
          <a:stretch/>
        </p:blipFill>
        <p:spPr>
          <a:xfrm>
            <a:off x="-1339920" y="-1038240"/>
            <a:ext cx="1217520" cy="12096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5"/>
          <p:cNvPicPr/>
          <p:nvPr/>
        </p:nvPicPr>
        <p:blipFill>
          <a:blip r:embed="rId7"/>
          <a:stretch/>
        </p:blipFill>
        <p:spPr>
          <a:xfrm>
            <a:off x="1357200" y="-1758960"/>
            <a:ext cx="71136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1198 1.216296 E">
                                      <p:cBhvr>
                                        <p:cTn id="515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724 1.119537 E">
                                      <p:cBhvr>
                                        <p:cTn id="518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110365 1.165833 E">
                                      <p:cBhvr>
                                        <p:cTn id="520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40521 0.782778 E">
                                      <p:cBhvr>
                                        <p:cTn id="523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98385 1.363611 E">
                                      <p:cBhvr>
                                        <p:cTn id="526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5"/>
          <p:cNvPicPr/>
          <p:nvPr/>
        </p:nvPicPr>
        <p:blipFill>
          <a:blip r:embed="rId2"/>
          <a:stretch/>
        </p:blipFill>
        <p:spPr>
          <a:xfrm>
            <a:off x="-46080" y="-1440"/>
            <a:ext cx="12231720" cy="68785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756786"/>
          <p:cNvPicPr/>
          <p:nvPr/>
        </p:nvPicPr>
        <p:blipFill>
          <a:blip r:embed="rId3"/>
          <a:stretch/>
        </p:blipFill>
        <p:spPr>
          <a:xfrm>
            <a:off x="6986520" y="-2452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422538383"/>
          <p:cNvPicPr/>
          <p:nvPr/>
        </p:nvPicPr>
        <p:blipFill>
          <a:blip r:embed="rId4"/>
          <a:stretch/>
        </p:blipFill>
        <p:spPr>
          <a:xfrm>
            <a:off x="4584600" y="-2308320"/>
            <a:ext cx="1231920" cy="12193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989595"/>
          <p:cNvPicPr/>
          <p:nvPr/>
        </p:nvPicPr>
        <p:blipFill>
          <a:blip r:embed="rId5"/>
          <a:stretch/>
        </p:blipFill>
        <p:spPr>
          <a:xfrm>
            <a:off x="2600280" y="-24829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533"/>
          <p:cNvPicPr/>
          <p:nvPr/>
        </p:nvPicPr>
        <p:blipFill>
          <a:blip r:embed="rId6"/>
          <a:stretch/>
        </p:blipFill>
        <p:spPr>
          <a:xfrm>
            <a:off x="1363680" y="-12193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未标题-2"/>
          <p:cNvPicPr/>
          <p:nvPr/>
        </p:nvPicPr>
        <p:blipFill>
          <a:blip r:embed="rId7"/>
          <a:stretch/>
        </p:blipFill>
        <p:spPr>
          <a:xfrm>
            <a:off x="1593720" y="-27194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454"/>
          <p:cNvPicPr/>
          <p:nvPr/>
        </p:nvPicPr>
        <p:blipFill>
          <a:blip r:embed="rId8"/>
          <a:stretch/>
        </p:blipFill>
        <p:spPr>
          <a:xfrm>
            <a:off x="9445680" y="-208584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5"/>
          <p:cNvPicPr/>
          <p:nvPr/>
        </p:nvPicPr>
        <p:blipFill>
          <a:blip r:embed="rId9"/>
          <a:stretch/>
        </p:blipFill>
        <p:spPr>
          <a:xfrm>
            <a:off x="4884840" y="-3097080"/>
            <a:ext cx="711000" cy="711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0" descr="989595"/>
          <p:cNvPicPr/>
          <p:nvPr/>
        </p:nvPicPr>
        <p:blipFill>
          <a:blip r:embed="rId10"/>
          <a:stretch/>
        </p:blipFill>
        <p:spPr>
          <a:xfrm>
            <a:off x="4048200" y="-14097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1" descr="4848"/>
          <p:cNvPicPr/>
          <p:nvPr/>
        </p:nvPicPr>
        <p:blipFill>
          <a:blip r:embed="rId11"/>
          <a:stretch/>
        </p:blipFill>
        <p:spPr>
          <a:xfrm>
            <a:off x="6183360" y="-13874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2" descr="26"/>
          <p:cNvPicPr/>
          <p:nvPr/>
        </p:nvPicPr>
        <p:blipFill>
          <a:blip r:embed="rId12"/>
          <a:stretch/>
        </p:blipFill>
        <p:spPr>
          <a:xfrm>
            <a:off x="2633760" y="-1330200"/>
            <a:ext cx="850680" cy="8506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3" descr="454"/>
          <p:cNvPicPr/>
          <p:nvPr/>
        </p:nvPicPr>
        <p:blipFill>
          <a:blip r:embed="rId13"/>
          <a:stretch/>
        </p:blipFill>
        <p:spPr>
          <a:xfrm>
            <a:off x="5952960" y="-2657520"/>
            <a:ext cx="673200" cy="6606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4" descr="5"/>
          <p:cNvPicPr/>
          <p:nvPr/>
        </p:nvPicPr>
        <p:blipFill>
          <a:blip r:embed="rId14"/>
          <a:stretch/>
        </p:blipFill>
        <p:spPr>
          <a:xfrm>
            <a:off x="4221000" y="-1908000"/>
            <a:ext cx="711360" cy="711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5" descr="26"/>
          <p:cNvPicPr/>
          <p:nvPr/>
        </p:nvPicPr>
        <p:blipFill>
          <a:blip r:embed="rId15"/>
          <a:stretch/>
        </p:blipFill>
        <p:spPr>
          <a:xfrm>
            <a:off x="8059680" y="-1417680"/>
            <a:ext cx="851040" cy="85104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6"/>
          <p:cNvSpPr/>
          <p:nvPr/>
        </p:nvSpPr>
        <p:spPr>
          <a:xfrm>
            <a:off x="3598920" y="5600880"/>
            <a:ext cx="75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谢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谢聆</a:t>
            </a: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听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8385 0.593426 E">
                                      <p:cBhvr>
                                        <p:cTn id="557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6042 0.677685 E">
                                      <p:cBhvr>
                                        <p:cTn id="559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2344 0.643889 E">
                                      <p:cBhvr>
                                        <p:cTn id="561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2083 0.395648 E">
                                      <p:cBhvr>
                                        <p:cTn id="563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9792 0.787037 E">
                                      <p:cBhvr>
                                        <p:cTn id="565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11354 0.622963 E">
                                      <p:cBhvr>
                                        <p:cTn id="567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948 0.467222 E">
                                      <p:cBhvr>
                                        <p:cTn id="569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35573 0.723889 E">
                                      <p:cBhvr>
                                        <p:cTn id="571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35625 0.673426 E">
                                      <p:cBhvr>
                                        <p:cTn id="573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92396 0.53037 E">
                                      <p:cBhvr>
                                        <p:cTn id="575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6198 0.551389 E">
                                      <p:cBhvr>
                                        <p:cTn id="577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7604 0.79963 E">
                                      <p:cBhvr>
                                        <p:cTn id="579" dur="20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0729 0.366204 E">
                                      <p:cBhvr>
                                        <p:cTn id="581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396 0.399074 L -0.14474 1.240833 E">
                                      <p:cBhvr>
                                        <p:cTn id="590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9531 0.786204 L 0.863802 1.446944 E">
                                      <p:cBhvr>
                                        <p:cTn id="592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0677 0.530556 L 0.897865 0.9725 E">
                                      <p:cBhvr>
                                        <p:cTn id="594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49 0.583333 L 0.071094 1.46713 E">
                                      <p:cBhvr>
                                        <p:cTn id="596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26 0.625278 L -1.03375 1.294537 E">
                                      <p:cBhvr>
                                        <p:cTn id="598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354 0.366481 L 0.450417 1.279815 E">
                                      <p:cBhvr>
                                        <p:cTn id="600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4 0.650648 L -0.006979 1.803796 E">
                                      <p:cBhvr>
                                        <p:cTn id="602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531 0.788889 L -0.200781 1.702222 E">
                                      <p:cBhvr>
                                        <p:cTn id="604" dur="20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792 0.675741 L -0.076875 1.917315 E">
                                      <p:cBhvr>
                                        <p:cTn id="606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9948 0.659259 L -0.789792 1.235833 E">
                                      <p:cBhvr>
                                        <p:cTn id="608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625 0.461481 L 0.580417 1.795648 E">
                                      <p:cBhvr>
                                        <p:cTn id="610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4115 0.725556 L 0.651927 1.554722 E">
                                      <p:cBhvr>
                                        <p:cTn id="612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349 0.544352 L 0.297917 1.811204 E">
                                      <p:cBhvr>
                                        <p:cTn id="614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7-16T09:01:2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