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80913-65E9-4371-A760-2FD1CB2C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C9072-C04F-40C4-B26C-9A3FDAF3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0CEE8-E159-4AFB-B1D7-FC8BA444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02E48-980F-4F8F-BD18-ADE009A5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39CEF-941D-4389-9603-01220D72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E0372-E1B4-4D2E-93EC-AF930578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B702D-D4E0-43B4-92D1-9D0EDFE5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68C6C-F0BB-4229-A860-4BF781CF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AE8B0-1B64-4CC5-AC16-92A5B222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6DF56-F9EC-4C94-95CE-526A3C71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C4E30-53C3-470E-A992-04DE5D55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8150D-A7C6-4624-8ACA-1E576D43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A62F3-2157-4721-A1A6-8D68C6DD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C48A6-39C4-40CA-A005-04675568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3F9CB-0A3F-4E1E-BFF8-ED480603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F6342-15AC-4CCD-AFA3-8A91AE0D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156E2-788F-48FA-9F15-2FFFB1BD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05AF2-F8F2-4E7C-A070-D2268648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C6B65-F298-4760-96E0-187677B1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D5FFB-861D-46EB-8161-A8512516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DF757-42E2-4B13-B99D-64F5E95F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0B409-CE2B-41E6-9307-00FDFC0B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C725F-07E3-486B-BDE7-19DC207A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EBB4A-825A-4DA8-B6C7-656C9B1B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701CD-235A-4C2D-995F-4E7E73DD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82E16-1E44-4AA6-9941-8AF2C8F8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5F871-A4B1-423F-95A1-75D27ED7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4955A-FD13-4113-8F7C-0E697C9F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71C59-DA01-49D0-A87D-A7741723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35B6F-6358-467F-AFD6-59056A06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FC7-8BD9-4277-8A64-33A2EE94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6B860-69A0-4560-8E68-B0F30981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0DDD9-EE25-4866-980E-ACB006B6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472D1-C0DF-4101-BE1D-2F471D60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F9877-30AB-4EA3-AFED-E3050E46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B1548-E501-4BCE-AABF-5151BA6D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093A6-E058-48DC-9971-BEA62919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8948E-8D13-468D-8DF8-31540B74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ECD2C-06D6-4810-ABBE-6A9BF049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2E8FF-CFCC-486B-9BED-0097346D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329B5-BF51-4C24-AC51-912BC4A1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2346-C99A-4998-BFF9-FEA36F8B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05E2C-3C55-4B4D-849B-54722680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3CCD7-F20D-435C-9A0F-4DA2B0D1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AF854-E17F-4E2F-97F3-CD7ED60B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883D4-F4E2-4EDA-81F4-521A0134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E3562-4446-4800-B5C3-E3637597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F6FE6-7626-4F87-A19D-9F73F3EF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565F9-EEA4-486C-AD29-F2C47E15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58139-3185-46CE-BC64-66C43AC9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062B9-21D6-4C4C-8E67-7045B55E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01FAD-7A16-4148-A4F3-1E13BF3A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3C93-3A68-494E-9208-9D57DF3B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ED21D-329C-49C8-A1B6-631B1742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21EF7-03D0-466D-8AE2-AF61B301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0050B-D8E8-4AC1-8969-513935CA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AD834-C9AC-4CAD-81C9-A86DF506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F3E4A-282D-4E62-B8B4-FCDA8AF0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48990-B0F4-47AE-A15B-94AB95C5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30CAF-B9EB-4217-803E-B3190E98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4484-EAE5-4C11-B556-81EAC3BB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DEFB-29C4-440F-A306-B94100AF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9F46-F1F8-48FC-B89C-56815D32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7B0D-B6DD-45B8-9DEA-A48FB52A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246D-74DB-45EA-BC96-0137AB01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8ED2-A7D4-4EE1-85C5-4F43ACC9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D2F0-3B29-479E-B7D1-6B12C5B3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DC54-AC3B-4094-BD16-1A3282EE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1932-3B89-4027-8860-9ADFEE0A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09ED-D059-4E7D-AC60-DA50E162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064A-25D8-4746-BCE3-9AB89BEF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1386-7BAD-4C93-9FB3-FE6F00E6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C2C1-9742-49BA-A0CB-38E16D32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A5BE-66CE-4DB8-8671-3BE785A0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C7CE-F6F1-4EA2-8A82-D884CB1C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1671-410A-40CA-99E0-E82BB939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5F43-DF59-4E73-9156-339B1700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EFF7-22FE-4D33-9C4C-099A04FF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C061-45D9-497B-8094-0B23A91E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ED6F-9594-4DBF-84E9-0DE88297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94D6-8B60-4437-B08E-68CB7E33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EC8B1-3C4E-4FF3-B827-C79A71FB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CA1F1-D767-499C-9987-63588569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9717B-31C9-45D5-B2BC-032BB64B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4983A-6F9D-4982-994C-10F54C02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8C190-6E6E-48B0-8029-3172F8A2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F04D1-9B1C-44AF-BDEB-C80A93ED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D9AE6-D104-4174-AC33-E846D936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65F3D-2D2C-4B19-85C0-4047AEAD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7341B-1FD6-4A4C-B6E6-D35306D5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F38C2-B0CA-4FB9-9374-73023334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9AB99-DAAB-4AE9-8AC7-F657B6F3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C58E7-7401-4C41-8926-29D54CEB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3ABCC-995A-415E-A546-9EBB947F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E507D-AD8B-4755-9EB5-13D8789A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1AF42-6C96-4614-ADC3-9C25BAB3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FDCD5-5F78-4865-984E-839B22AD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AFAC2-2F3A-4A5A-8853-F30C7118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C27BB-B90B-439C-A7DB-6F3C4DA5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5A02D-EC98-4314-B058-57A7C8E0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DB44D-7B5E-4351-AA44-24B96F0B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522D8-CE1C-4452-ADA1-AA871A57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0ABD7-2912-4740-8ABA-6F3DFCB0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9BEC5-E6D7-42EF-BAF1-02F95FB8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64AD2-3D87-42E7-A942-1FE3C5DD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FF17C-F01B-41C2-8620-7299669D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0674D-2B6B-47F3-8EDF-8BFB472C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3E379-0E37-400E-B63E-21B68719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FE923-B25A-4AD2-A7BC-A8DE9277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DE102-FED7-4207-AABE-07F7B85E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5F483-8582-461A-ACFA-09087F86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1CD8B-7D63-42DC-BAB7-A9FAC2C9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725BC-F48A-453B-8059-FDB8AB58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CCA76-44E7-4473-A0BB-8651DA68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74D7D-F7DB-475E-B17B-31B2AD59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1C47D-BBFF-4540-86D6-8F94D9D9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C85CC-8D20-4DBE-8811-4AD35313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29E06-A5E8-49D7-8F85-5C3B2B70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008D0-BEE9-48B3-89DE-B0E69BFA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37FC5-DEC4-4519-81BC-01F81B12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8A924-5646-441F-B376-3428D97C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602D0-2CB6-4F5C-871D-DEE1A6A6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01DD7-8971-430C-A938-02A5953E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C2771-E0D3-4394-941A-59656C37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51ECA-FB76-4497-BD51-D3CFCB8C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D0E98-0F69-407B-B72C-37A24C42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40EA7-672C-4B8A-BED6-DD20F075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6877C-13B2-49C7-B6C7-A5676137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43834-A0A1-49CC-BC88-CA0950A2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5D92D-5533-43A2-A334-F0B93BEE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FE94F-E21D-4A2A-8597-7C90CACE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38ACA-6025-41B9-B7D5-7A352E52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AB2E6-6FDA-4381-9D83-3EC79D64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A266A-8A25-418F-B678-B52C9AF9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21A33-070A-4DFD-A259-678CBCA5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885DC-7C74-4AF5-9E1E-F8AE8A0C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19BA5-C862-4727-BA3E-BAA4E725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BBD11-F7EE-429E-A0B3-015BD35C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93016-4BAC-4352-9932-36F80DCE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08692-D915-4473-B588-A16C0C87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FEB11-00E2-4863-A63F-C0FECA84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7D3D9-A110-424C-8D27-12F7E583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A2BD9-9CAD-4CBC-9CA5-16D5F844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7C00A-ED91-4716-BF07-BE7B8438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480" y="785880"/>
            <a:ext cx="7872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d9d9d9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d9d9d9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d9d9d9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d9d9d9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" name="等腰三角形 6"/>
          <p:cNvSpPr/>
          <p:nvPr/>
        </p:nvSpPr>
        <p:spPr>
          <a:xfrm rot="19778400">
            <a:off x="-140760" y="-28440"/>
            <a:ext cx="568080" cy="49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BBE6-EA78-491D-99C2-251DC768721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2C1C-666F-42D3-A2C1-34E0713D78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A4E3-CC1B-49B9-98AA-93857479DC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BA08-C7CC-4BFB-9B6B-B6094F5A7D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5C12-2257-4825-AE59-A5A9B384B91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0B7C-3AB3-4D07-AFAF-1C820B9951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FA7B-81F2-4FB0-A519-4F95B0B2B53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F439-AF33-484E-868E-49BE558FDB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864D-94A8-49EC-A03C-CEDE785053E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9F00-8F7A-4DAA-A249-932B8A50B0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9989-C0C5-4FB4-940D-C06DC0C444E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366F-6DC7-48FF-8373-5E3A450388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3FFB-C5BF-4CAA-93F6-8AF89063E05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405D-78EE-4446-9916-4AAE40CFC7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40A9-069D-4A95-B6C9-69C90B76095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B120-C6F6-4208-A66C-D74B404C8E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1791-91D6-4954-85B9-230E4500E2D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612D-5C85-4716-AD31-06AEF1967C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5554-62A1-44EF-A29C-02FB453C7C4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2F85-642E-4776-BF6D-E9AE1BE160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1421-E47E-41F8-8F03-553DC730369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5A16-EEE4-44D8-A7E0-69C28FA5D6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93C0-032B-4B76-9366-FD14B0F487A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846C-DFB9-44F9-9E8A-148313E145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Entertainment in Mathematic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2143080" y="3286080"/>
            <a:ext cx="6400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898989"/>
                </a:solidFill>
                <a:latin typeface="Calibri"/>
              </a:rPr>
              <a:t>- Dr. Meyer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1424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</a:rPr>
              <a:t>Introduction</a:t>
            </a:r>
            <a:endParaRPr b="1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42960" y="928440"/>
            <a:ext cx="82152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d8d8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d8d8d8"/>
                </a:solidFill>
                <a:latin typeface="Calibri"/>
              </a:rPr>
              <a:t>Fall 2007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d8d8d8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d8d8d8"/>
                </a:solidFill>
                <a:latin typeface="Calibri"/>
              </a:rPr>
              <a:t>Play exploring nature of infinity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d8d8"/>
              </a:buClr>
              <a:buFont typeface="Arial"/>
              <a:buChar char="•"/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d8d8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d8d8d8"/>
                </a:solidFill>
                <a:latin typeface="Calibri"/>
              </a:rPr>
              <a:t>Following Semester, Spring 2008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d8d8d8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d8d8d8"/>
                </a:solidFill>
                <a:latin typeface="Calibri"/>
              </a:rPr>
              <a:t>Game Show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d8d8"/>
              </a:buClr>
              <a:buFont typeface="Arial"/>
              <a:buChar char="•"/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d8d8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d8d8d8"/>
                </a:solidFill>
                <a:latin typeface="Calibri"/>
              </a:rPr>
              <a:t>Game Show Content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d8d8d8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d8d8d8"/>
                </a:solidFill>
                <a:latin typeface="Calibri"/>
              </a:rPr>
              <a:t>History of calculus and Fundamental concepts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1424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</a:rPr>
              <a:t>Content</a:t>
            </a:r>
            <a:endParaRPr b="1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6" name="Oval 10"/>
          <p:cNvSpPr/>
          <p:nvPr/>
        </p:nvSpPr>
        <p:spPr>
          <a:xfrm>
            <a:off x="6791400" y="4003560"/>
            <a:ext cx="1398600" cy="1422360"/>
          </a:xfrm>
          <a:prstGeom prst="ellipse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4"/>
          <p:cNvSpPr/>
          <p:nvPr/>
        </p:nvSpPr>
        <p:spPr>
          <a:xfrm>
            <a:off x="2146320" y="2247840"/>
            <a:ext cx="5207040" cy="2576520"/>
          </a:xfrm>
          <a:prstGeom prst="upArrow">
            <a:avLst>
              <a:gd name="adj1" fmla="val 57824"/>
              <a:gd name="adj2" fmla="val 54394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0"/>
          <p:cNvSpPr/>
          <p:nvPr/>
        </p:nvSpPr>
        <p:spPr>
          <a:xfrm>
            <a:off x="3035160" y="4003560"/>
            <a:ext cx="1398600" cy="142236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5"/>
          <p:cNvSpPr/>
          <p:nvPr/>
        </p:nvSpPr>
        <p:spPr>
          <a:xfrm>
            <a:off x="1790640" y="1503360"/>
            <a:ext cx="5451480" cy="539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10"/>
          <p:cNvSpPr/>
          <p:nvPr/>
        </p:nvSpPr>
        <p:spPr>
          <a:xfrm>
            <a:off x="1214280" y="4006800"/>
            <a:ext cx="1398600" cy="1422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2"/>
          <p:cNvSpPr/>
          <p:nvPr/>
        </p:nvSpPr>
        <p:spPr>
          <a:xfrm>
            <a:off x="1316160" y="4503600"/>
            <a:ext cx="116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8"/>
          <p:cNvSpPr/>
          <p:nvPr/>
        </p:nvSpPr>
        <p:spPr>
          <a:xfrm>
            <a:off x="3079800" y="4503600"/>
            <a:ext cx="12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10"/>
          <p:cNvSpPr/>
          <p:nvPr/>
        </p:nvSpPr>
        <p:spPr>
          <a:xfrm>
            <a:off x="4933800" y="4003560"/>
            <a:ext cx="1398600" cy="1422360"/>
          </a:xfrm>
          <a:prstGeom prst="ellipse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4"/>
          <p:cNvSpPr/>
          <p:nvPr/>
        </p:nvSpPr>
        <p:spPr>
          <a:xfrm>
            <a:off x="4857840" y="4503600"/>
            <a:ext cx="14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1"/>
          <p:cNvSpPr/>
          <p:nvPr/>
        </p:nvSpPr>
        <p:spPr>
          <a:xfrm>
            <a:off x="7173360" y="45036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4240" y="26431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Thank You !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4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8:39:00Z</dcterms:created>
  <dc:creator/>
  <dc:description/>
  <cp:keywords/>
  <dc:language>en-US</dc:language>
  <cp:lastModifiedBy>a</cp:lastModifiedBy>
  <dcterms:modified xsi:type="dcterms:W3CDTF">2014-07-19T08:57:32Z</dcterms:modified>
  <cp:revision>2</cp:revision>
  <dc:subject/>
  <dc:title>Entertainment in Mathema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