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13003213" cy="812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4DB1-FFEE-4930-A3F6-5D4EC0406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25080"/>
            <a:ext cx="11701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1897200"/>
            <a:ext cx="1170144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4699080"/>
            <a:ext cx="1170144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587E-CB75-4439-9759-2FE3365A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25080"/>
            <a:ext cx="11701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1897200"/>
            <a:ext cx="57099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6680" y="1897200"/>
            <a:ext cx="57099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4699080"/>
            <a:ext cx="57099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6680" y="4699080"/>
            <a:ext cx="57099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FC5A-B07D-4FF9-90FD-3EA959CAB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25080"/>
            <a:ext cx="11701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897200"/>
            <a:ext cx="37677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280" y="1897200"/>
            <a:ext cx="37677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040" y="1897200"/>
            <a:ext cx="37677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4699080"/>
            <a:ext cx="37677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280" y="4699080"/>
            <a:ext cx="37677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040" y="4699080"/>
            <a:ext cx="37677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E975-5453-47CC-91DF-51DE363D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F394-EE93-464B-83D9-3B6CB3C3B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0880" y="325080"/>
            <a:ext cx="11701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50880" y="1897200"/>
            <a:ext cx="11701440" cy="53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B49F-6E33-498E-A8E2-12AFE056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25080"/>
            <a:ext cx="11701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0880" y="1897200"/>
            <a:ext cx="11701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67D7-4FDE-4B7D-AD25-184B3706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325080"/>
            <a:ext cx="11701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880" y="1897200"/>
            <a:ext cx="570996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6680" y="1897200"/>
            <a:ext cx="570996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5020-EE1A-45B7-91C3-1C2082B4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880" y="325080"/>
            <a:ext cx="11701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3FC9-D6E4-4B8D-9223-AE2DC85B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0880" y="325080"/>
            <a:ext cx="11701440" cy="62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C58D-CFFD-4764-B257-9C079590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0880" y="325080"/>
            <a:ext cx="11701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0880" y="1897200"/>
            <a:ext cx="57099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6680" y="1897200"/>
            <a:ext cx="570996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0880" y="4699080"/>
            <a:ext cx="57099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1902-0F28-4BC6-B153-2DE192AF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25080"/>
            <a:ext cx="11701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1897200"/>
            <a:ext cx="11701440" cy="53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52C7-D123-426E-B730-DA8D5313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325080"/>
            <a:ext cx="11701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897200"/>
            <a:ext cx="570996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6680" y="1897200"/>
            <a:ext cx="57099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646680" y="4699080"/>
            <a:ext cx="57099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AE88-89FA-4428-BF10-F229FCA8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325080"/>
            <a:ext cx="11701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897200"/>
            <a:ext cx="57099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46680" y="1897200"/>
            <a:ext cx="57099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0880" y="4699080"/>
            <a:ext cx="1170144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7B9D-F995-439C-A87F-0F1FEFBC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325080"/>
            <a:ext cx="11701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897200"/>
            <a:ext cx="1170144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0880" y="4699080"/>
            <a:ext cx="1170144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8D2F-3396-4842-AD31-47226172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880" y="325080"/>
            <a:ext cx="11701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880" y="1897200"/>
            <a:ext cx="57099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646680" y="1897200"/>
            <a:ext cx="57099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0880" y="4699080"/>
            <a:ext cx="57099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646680" y="4699080"/>
            <a:ext cx="57099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4400-8C45-4E4A-AF1C-00741149E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880" y="325080"/>
            <a:ext cx="11701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0880" y="1897200"/>
            <a:ext cx="37677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7280" y="1897200"/>
            <a:ext cx="37677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564040" y="1897200"/>
            <a:ext cx="37677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50880" y="4699080"/>
            <a:ext cx="37677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07280" y="4699080"/>
            <a:ext cx="37677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564040" y="4699080"/>
            <a:ext cx="37677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0701-F62A-4DAF-B8EE-C9162500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26B8C-283C-48B6-BC5A-39C6DC2F0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880" y="325080"/>
            <a:ext cx="11701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50880" y="1897200"/>
            <a:ext cx="11701440" cy="53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0602A-C7BF-4FA5-B76D-E869C3F1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880" y="325080"/>
            <a:ext cx="11701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880" y="1897200"/>
            <a:ext cx="11701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2B6D6-B10F-4ED5-B654-51777718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880" y="325080"/>
            <a:ext cx="11701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880" y="1897200"/>
            <a:ext cx="570996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1897200"/>
            <a:ext cx="570996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9C8E9-5F46-4398-8F6F-DEB554FF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325080"/>
            <a:ext cx="11701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5F93A-56BB-47F9-A6B6-06DFB792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25080"/>
            <a:ext cx="11701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1897200"/>
            <a:ext cx="11701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EB57-9AF2-48D6-A10B-E908038D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50880" y="325080"/>
            <a:ext cx="11701440" cy="62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A9211-9EBE-44BC-A0C0-E175D458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325080"/>
            <a:ext cx="11701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0880" y="1897200"/>
            <a:ext cx="57099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46680" y="1897200"/>
            <a:ext cx="570996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0880" y="4699080"/>
            <a:ext cx="57099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C3526-0312-4150-B259-5069A9F0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880" y="325080"/>
            <a:ext cx="11701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0880" y="1897200"/>
            <a:ext cx="570996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46680" y="1897200"/>
            <a:ext cx="57099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646680" y="4699080"/>
            <a:ext cx="57099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E92E6-6DA6-4B70-86AC-18393452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880" y="325080"/>
            <a:ext cx="11701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880" y="1897200"/>
            <a:ext cx="57099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1897200"/>
            <a:ext cx="57099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880" y="4699080"/>
            <a:ext cx="1170144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FEC63-A5A4-4EA2-9172-A947681A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880" y="325080"/>
            <a:ext cx="11701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0880" y="1897200"/>
            <a:ext cx="1170144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50880" y="4699080"/>
            <a:ext cx="1170144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2698D-2823-484C-A302-AED15AB0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0880" y="325080"/>
            <a:ext cx="11701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0880" y="1897200"/>
            <a:ext cx="57099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646680" y="1897200"/>
            <a:ext cx="57099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50880" y="4699080"/>
            <a:ext cx="57099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646680" y="4699080"/>
            <a:ext cx="57099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38796-4241-4E7C-8FA9-F4C07DE1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880" y="325080"/>
            <a:ext cx="11701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0880" y="1897200"/>
            <a:ext cx="37677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07280" y="1897200"/>
            <a:ext cx="37677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4040" y="1897200"/>
            <a:ext cx="37677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50880" y="4699080"/>
            <a:ext cx="37677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607280" y="4699080"/>
            <a:ext cx="37677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564040" y="4699080"/>
            <a:ext cx="37677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02341-9CAA-4794-8472-DCA1E41E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25080"/>
            <a:ext cx="11701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1897200"/>
            <a:ext cx="570996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6680" y="1897200"/>
            <a:ext cx="570996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F7FA-D1D0-4A0C-814B-AAFAAD93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25080"/>
            <a:ext cx="11701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CA03-DCF5-4150-AA10-4FA568CE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25080"/>
            <a:ext cx="11701440" cy="62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A61C-C32E-4773-81D4-994CD2C0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25080"/>
            <a:ext cx="11701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897200"/>
            <a:ext cx="57099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6680" y="1897200"/>
            <a:ext cx="570996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4699080"/>
            <a:ext cx="57099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2BBF-F790-4530-A221-052059E4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25080"/>
            <a:ext cx="11701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1897200"/>
            <a:ext cx="570996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6680" y="1897200"/>
            <a:ext cx="57099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6680" y="4699080"/>
            <a:ext cx="57099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FEB8-1599-4190-9E06-FF3F004A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25080"/>
            <a:ext cx="11701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1897200"/>
            <a:ext cx="57099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6680" y="1897200"/>
            <a:ext cx="57099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4699080"/>
            <a:ext cx="1170144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7E5B-742E-4906-BC90-C4E6E7A6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26880"/>
            <a:ext cx="11701440" cy="1354320"/>
          </a:xfrm>
          <a:prstGeom prst="rect">
            <a:avLst/>
          </a:prstGeom>
          <a:noFill/>
          <a:ln w="0">
            <a:noFill/>
          </a:ln>
        </p:spPr>
        <p:txBody>
          <a:bodyPr lIns="119160" rIns="119160" tIns="59760" bIns="5976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1897200"/>
            <a:ext cx="11701440" cy="5364000"/>
          </a:xfrm>
          <a:prstGeom prst="rect">
            <a:avLst/>
          </a:prstGeom>
          <a:noFill/>
          <a:ln w="0">
            <a:noFill/>
          </a:ln>
        </p:spPr>
        <p:txBody>
          <a:bodyPr lIns="119160" rIns="119160" tIns="59760" bIns="59760" anchor="t">
            <a:normAutofit/>
          </a:bodyPr>
          <a:p>
            <a:pPr marL="447840" indent="-447840">
              <a:spcBef>
                <a:spcPts val="774"/>
              </a:spcBef>
              <a:buClr>
                <a:srgbClr val="000000"/>
              </a:buClr>
              <a:buFont typeface="华文行楷"/>
              <a:buChar char="•"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华文行楷"/>
            </a:endParaRPr>
          </a:p>
          <a:p>
            <a:pPr lvl="1" marL="968400" indent="-371520">
              <a:spcBef>
                <a:spcPts val="774"/>
              </a:spcBef>
              <a:buClr>
                <a:srgbClr val="000000"/>
              </a:buClr>
              <a:buFont typeface="华文行楷"/>
              <a:buChar char="–"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华文行楷"/>
            </a:endParaRPr>
          </a:p>
          <a:p>
            <a:pPr lvl="2" marL="1490760" indent="-298440">
              <a:spcBef>
                <a:spcPts val="774"/>
              </a:spcBef>
              <a:buClr>
                <a:srgbClr val="000000"/>
              </a:buClr>
              <a:buFont typeface="华文行楷"/>
              <a:buChar char="•"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华文行楷"/>
            </a:endParaRPr>
          </a:p>
          <a:p>
            <a:pPr lvl="3" marL="2085840" indent="-298440">
              <a:spcBef>
                <a:spcPts val="774"/>
              </a:spcBef>
              <a:buClr>
                <a:srgbClr val="000000"/>
              </a:buClr>
              <a:buFont typeface="华文行楷"/>
              <a:buChar char="–"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华文行楷"/>
            </a:endParaRPr>
          </a:p>
          <a:p>
            <a:pPr lvl="4" marL="2682720" indent="-298440">
              <a:spcBef>
                <a:spcPts val="774"/>
              </a:spcBef>
              <a:buClr>
                <a:srgbClr val="000000"/>
              </a:buClr>
              <a:buFont typeface="华文行楷"/>
              <a:buChar char="»"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华文行楷"/>
            </a:endParaRPr>
          </a:p>
          <a:p>
            <a:pPr lvl="5" marL="2682720" indent="-298440">
              <a:spcBef>
                <a:spcPts val="774"/>
              </a:spcBef>
              <a:buClr>
                <a:srgbClr val="000000"/>
              </a:buClr>
              <a:buFont typeface="华文行楷"/>
              <a:buChar char="»"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华文行楷"/>
            </a:endParaRPr>
          </a:p>
          <a:p>
            <a:pPr lvl="6" marL="2682720" indent="-298440">
              <a:spcBef>
                <a:spcPts val="774"/>
              </a:spcBef>
              <a:buClr>
                <a:srgbClr val="000000"/>
              </a:buClr>
              <a:buFont typeface="华文行楷"/>
              <a:buChar char="»"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7403760"/>
            <a:ext cx="3033720" cy="563400"/>
          </a:xfrm>
          <a:prstGeom prst="rect">
            <a:avLst/>
          </a:prstGeom>
          <a:noFill/>
          <a:ln w="0">
            <a:noFill/>
          </a:ln>
        </p:spPr>
        <p:txBody>
          <a:bodyPr lIns="119160" rIns="119160" tIns="59760" bIns="59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1320" y="7403760"/>
            <a:ext cx="4118040" cy="563400"/>
          </a:xfrm>
          <a:prstGeom prst="rect">
            <a:avLst/>
          </a:prstGeom>
          <a:noFill/>
          <a:ln w="0">
            <a:noFill/>
          </a:ln>
        </p:spPr>
        <p:txBody>
          <a:bodyPr lIns="119160" rIns="119160" tIns="59760" bIns="59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8240" y="7403760"/>
            <a:ext cx="3033720" cy="563400"/>
          </a:xfrm>
          <a:prstGeom prst="rect">
            <a:avLst/>
          </a:prstGeom>
          <a:noFill/>
          <a:ln w="0">
            <a:noFill/>
          </a:ln>
        </p:spPr>
        <p:txBody>
          <a:bodyPr lIns="119160" rIns="119160" tIns="59760" bIns="597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1C4D-3973-40AD-B51E-738BD8DBE21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880" y="326880"/>
            <a:ext cx="11701440" cy="1354320"/>
          </a:xfrm>
          <a:prstGeom prst="rect">
            <a:avLst/>
          </a:prstGeom>
          <a:noFill/>
          <a:ln w="0">
            <a:noFill/>
          </a:ln>
        </p:spPr>
        <p:txBody>
          <a:bodyPr lIns="119160" rIns="119160" tIns="59760" bIns="5976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50880" y="1897200"/>
            <a:ext cx="11701440" cy="5364000"/>
          </a:xfrm>
          <a:prstGeom prst="rect">
            <a:avLst/>
          </a:prstGeom>
          <a:noFill/>
          <a:ln w="0">
            <a:noFill/>
          </a:ln>
        </p:spPr>
        <p:txBody>
          <a:bodyPr lIns="119160" rIns="119160" tIns="59760" bIns="59760" anchor="t">
            <a:normAutofit/>
          </a:bodyPr>
          <a:p>
            <a:pPr marL="447840" indent="-447840">
              <a:spcBef>
                <a:spcPts val="774"/>
              </a:spcBef>
              <a:buClr>
                <a:srgbClr val="000000"/>
              </a:buClr>
              <a:buFont typeface="华文行楷"/>
              <a:buChar char="•"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华文行楷"/>
            </a:endParaRPr>
          </a:p>
          <a:p>
            <a:pPr lvl="1" marL="968400" indent="-371520">
              <a:spcBef>
                <a:spcPts val="774"/>
              </a:spcBef>
              <a:buClr>
                <a:srgbClr val="000000"/>
              </a:buClr>
              <a:buFont typeface="华文行楷"/>
              <a:buChar char="–"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华文行楷"/>
            </a:endParaRPr>
          </a:p>
          <a:p>
            <a:pPr lvl="2" marL="1490760" indent="-298440">
              <a:spcBef>
                <a:spcPts val="774"/>
              </a:spcBef>
              <a:buClr>
                <a:srgbClr val="000000"/>
              </a:buClr>
              <a:buFont typeface="华文行楷"/>
              <a:buChar char="•"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华文行楷"/>
            </a:endParaRPr>
          </a:p>
          <a:p>
            <a:pPr lvl="3" marL="2085840" indent="-298440">
              <a:spcBef>
                <a:spcPts val="774"/>
              </a:spcBef>
              <a:buClr>
                <a:srgbClr val="000000"/>
              </a:buClr>
              <a:buFont typeface="华文行楷"/>
              <a:buChar char="–"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华文行楷"/>
            </a:endParaRPr>
          </a:p>
          <a:p>
            <a:pPr lvl="4" marL="2682720" indent="-298440">
              <a:spcBef>
                <a:spcPts val="774"/>
              </a:spcBef>
              <a:buClr>
                <a:srgbClr val="000000"/>
              </a:buClr>
              <a:buFont typeface="华文行楷"/>
              <a:buChar char="»"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华文行楷"/>
            </a:endParaRPr>
          </a:p>
          <a:p>
            <a:pPr lvl="5" marL="2682720" indent="-298440">
              <a:spcBef>
                <a:spcPts val="774"/>
              </a:spcBef>
              <a:buClr>
                <a:srgbClr val="000000"/>
              </a:buClr>
              <a:buFont typeface="华文行楷"/>
              <a:buChar char="»"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华文行楷"/>
            </a:endParaRPr>
          </a:p>
          <a:p>
            <a:pPr lvl="6" marL="2682720" indent="-298440">
              <a:spcBef>
                <a:spcPts val="774"/>
              </a:spcBef>
              <a:buClr>
                <a:srgbClr val="000000"/>
              </a:buClr>
              <a:buFont typeface="华文行楷"/>
              <a:buChar char="»"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0520" y="7403760"/>
            <a:ext cx="3033720" cy="563400"/>
          </a:xfrm>
          <a:prstGeom prst="rect">
            <a:avLst/>
          </a:prstGeom>
          <a:noFill/>
          <a:ln w="0">
            <a:noFill/>
          </a:ln>
        </p:spPr>
        <p:txBody>
          <a:bodyPr lIns="119160" rIns="119160" tIns="59760" bIns="59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441320" y="7403760"/>
            <a:ext cx="4118040" cy="563400"/>
          </a:xfrm>
          <a:prstGeom prst="rect">
            <a:avLst/>
          </a:prstGeom>
          <a:noFill/>
          <a:ln w="0">
            <a:noFill/>
          </a:ln>
        </p:spPr>
        <p:txBody>
          <a:bodyPr lIns="119160" rIns="119160" tIns="59760" bIns="59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9318240" y="7403760"/>
            <a:ext cx="3033720" cy="563400"/>
          </a:xfrm>
          <a:prstGeom prst="rect">
            <a:avLst/>
          </a:prstGeom>
          <a:noFill/>
          <a:ln w="0">
            <a:noFill/>
          </a:ln>
        </p:spPr>
        <p:txBody>
          <a:bodyPr lIns="119160" rIns="119160" tIns="59760" bIns="597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5A3B-2A28-4A38-8609-3CADFA9F3B3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880" y="325080"/>
            <a:ext cx="11701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50880" y="1897200"/>
            <a:ext cx="11701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380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353960" indent="-26964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895400" indent="-2696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438280" indent="-269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438280" indent="-269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438280" indent="-269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0520" y="7402320"/>
            <a:ext cx="3033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F25F-F971-4D55-AD49-81310595ECE3}" type="datetime"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443480" y="7402320"/>
            <a:ext cx="41162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9318240" y="7402320"/>
            <a:ext cx="3033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E610-0AF1-4505-A976-221C4DAEB938}" type="slidenum"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2760" y="2387160"/>
            <a:ext cx="11052360" cy="1744920"/>
          </a:xfrm>
          <a:prstGeom prst="rect">
            <a:avLst/>
          </a:prstGeom>
          <a:noFill/>
          <a:ln w="0">
            <a:noFill/>
          </a:ln>
        </p:spPr>
        <p:txBody>
          <a:bodyPr lIns="119160" rIns="119160" tIns="59760" bIns="5976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zh-CN" sz="52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283360" y="4444560"/>
            <a:ext cx="56340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zh-CN" sz="3600" spc="-1" strike="noStrike">
              <a:solidFill>
                <a:srgbClr val="000000"/>
              </a:solidFill>
              <a:latin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0880" y="326880"/>
            <a:ext cx="11701440" cy="1354320"/>
          </a:xfrm>
          <a:prstGeom prst="rect">
            <a:avLst/>
          </a:prstGeom>
          <a:noFill/>
          <a:ln w="0">
            <a:noFill/>
          </a:ln>
        </p:spPr>
        <p:txBody>
          <a:bodyPr lIns="119160" rIns="119160" tIns="59760" bIns="5976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zh-CN" sz="4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50880" y="2192400"/>
            <a:ext cx="11701440" cy="5364000"/>
          </a:xfrm>
          <a:prstGeom prst="rect">
            <a:avLst/>
          </a:prstGeom>
          <a:noFill/>
          <a:ln w="0">
            <a:noFill/>
          </a:ln>
        </p:spPr>
        <p:txBody>
          <a:bodyPr lIns="119160" rIns="119160" tIns="59760" bIns="59760" anchor="t">
            <a:normAutofit/>
          </a:bodyPr>
          <a:p>
            <a:pPr marL="447840" indent="-447840">
              <a:spcBef>
                <a:spcPts val="649"/>
              </a:spcBef>
              <a:buClr>
                <a:srgbClr val="000000"/>
              </a:buClr>
              <a:buFont typeface="华文行楷"/>
              <a:buChar char="•"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华文行楷"/>
              </a:rPr>
              <a:t>配色方案修改：</a:t>
            </a:r>
            <a:endParaRPr b="0" lang="en-US" sz="2600" spc="-1" strike="noStrike">
              <a:solidFill>
                <a:srgbClr val="000000"/>
              </a:solidFill>
              <a:latin typeface="华文行楷"/>
            </a:endParaRPr>
          </a:p>
          <a:p>
            <a:pPr lvl="1" marL="968400" indent="-371520">
              <a:spcBef>
                <a:spcPts val="575"/>
              </a:spcBef>
              <a:buClr>
                <a:srgbClr val="000000"/>
              </a:buClr>
              <a:buFont typeface="华文行楷"/>
              <a:buChar char="–"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行楷"/>
              </a:rPr>
              <a:t>配色方案在</a:t>
            </a:r>
            <a:r>
              <a:rPr b="0" lang="en-US" sz="23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2300" spc="-1" strike="noStrike">
                <a:solidFill>
                  <a:srgbClr val="000000"/>
                </a:solidFill>
                <a:latin typeface="华文行楷"/>
              </a:rPr>
              <a:t>格式</a:t>
            </a:r>
            <a:r>
              <a:rPr b="0" lang="en-US" sz="23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23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23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2300" spc="-1" strike="noStrike">
                <a:solidFill>
                  <a:srgbClr val="000000"/>
                </a:solidFill>
                <a:latin typeface="华文行楷"/>
              </a:rPr>
              <a:t>幻灯片设计</a:t>
            </a:r>
            <a:r>
              <a:rPr b="0" lang="en-US" sz="23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23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23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2300" spc="-1" strike="noStrike">
                <a:solidFill>
                  <a:srgbClr val="000000"/>
                </a:solidFill>
                <a:latin typeface="华文行楷"/>
              </a:rPr>
              <a:t>配色方案</a:t>
            </a:r>
            <a:r>
              <a:rPr b="0" lang="en-US" sz="23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23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23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2300" spc="-1" strike="noStrike">
                <a:solidFill>
                  <a:srgbClr val="000000"/>
                </a:solidFill>
                <a:latin typeface="华文行楷"/>
              </a:rPr>
              <a:t>编辑配色方案</a:t>
            </a:r>
            <a:r>
              <a:rPr b="0" lang="en-US" sz="23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23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2300" spc="-1" strike="noStrike">
              <a:solidFill>
                <a:srgbClr val="000000"/>
              </a:solidFill>
              <a:latin typeface="华文行楷"/>
            </a:endParaRPr>
          </a:p>
          <a:p>
            <a:pPr marL="447840" indent="-447840">
              <a:spcBef>
                <a:spcPts val="649"/>
              </a:spcBef>
              <a:buClr>
                <a:srgbClr val="000000"/>
              </a:buClr>
              <a:buFont typeface="华文行楷"/>
              <a:buChar char="•"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2600" spc="-1" strike="noStrike">
                <a:solidFill>
                  <a:srgbClr val="000000"/>
                </a:solidFill>
                <a:latin typeface="华文行楷"/>
              </a:rPr>
              <a:t>的添加：</a:t>
            </a:r>
            <a:endParaRPr b="0" lang="en-US" sz="2600" spc="-1" strike="noStrike">
              <a:solidFill>
                <a:srgbClr val="000000"/>
              </a:solidFill>
              <a:latin typeface="华文行楷"/>
            </a:endParaRPr>
          </a:p>
          <a:p>
            <a:pPr lvl="1" marL="968400" indent="-371520">
              <a:spcBef>
                <a:spcPts val="575"/>
              </a:spcBef>
              <a:buClr>
                <a:srgbClr val="000000"/>
              </a:buClr>
              <a:buFont typeface="华文行楷"/>
              <a:buChar char="–"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行楷"/>
              </a:rPr>
              <a:t>内页</a:t>
            </a:r>
            <a:r>
              <a:rPr b="0" lang="en-US" sz="23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2300" spc="-1" strike="noStrike">
                <a:solidFill>
                  <a:srgbClr val="000000"/>
                </a:solidFill>
                <a:latin typeface="华文行楷"/>
              </a:rPr>
              <a:t>添加修改在</a:t>
            </a:r>
            <a:r>
              <a:rPr b="0" lang="en-US" sz="23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23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23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23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23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23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23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23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23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23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23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2300" spc="-1" strike="noStrike">
                <a:solidFill>
                  <a:srgbClr val="000000"/>
                </a:solidFill>
                <a:latin typeface="华文行楷"/>
              </a:rPr>
              <a:t>下调整。首页直接选择</a:t>
            </a:r>
            <a:r>
              <a:rPr b="0" lang="en-US" sz="23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2300" spc="-1" strike="noStrike">
                <a:solidFill>
                  <a:srgbClr val="000000"/>
                </a:solidFill>
                <a:latin typeface="华文行楷"/>
              </a:rPr>
              <a:t>图片删除或修改。</a:t>
            </a:r>
            <a:endParaRPr b="0" lang="en-US" sz="2300" spc="-1" strike="noStrike">
              <a:solidFill>
                <a:srgbClr val="000000"/>
              </a:solidFill>
              <a:latin typeface="华文行楷"/>
            </a:endParaRPr>
          </a:p>
          <a:p>
            <a:pPr marL="447840" indent="-447840">
              <a:spcBef>
                <a:spcPts val="649"/>
              </a:spcBef>
              <a:buClr>
                <a:srgbClr val="000000"/>
              </a:buClr>
              <a:buFont typeface="华文行楷"/>
              <a:buChar char="•"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华文行楷"/>
              </a:rPr>
              <a:t>字体格式的设置：</a:t>
            </a:r>
            <a:endParaRPr b="0" lang="en-US" sz="2600" spc="-1" strike="noStrike">
              <a:solidFill>
                <a:srgbClr val="000000"/>
              </a:solidFill>
              <a:latin typeface="华文行楷"/>
            </a:endParaRPr>
          </a:p>
          <a:p>
            <a:pPr lvl="1" marL="968400" indent="-371520">
              <a:spcBef>
                <a:spcPts val="575"/>
              </a:spcBef>
              <a:buClr>
                <a:srgbClr val="000000"/>
              </a:buClr>
              <a:buFont typeface="华文行楷"/>
              <a:buChar char="–"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行楷"/>
              </a:rPr>
              <a:t>括标题和文本格式的设置在</a:t>
            </a:r>
            <a:r>
              <a:rPr b="0" lang="en-US" sz="23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23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23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23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23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23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23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23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23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23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23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23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2300" spc="-1" strike="noStrike">
              <a:solidFill>
                <a:srgbClr val="000000"/>
              </a:solidFill>
              <a:latin typeface="华文行楷"/>
            </a:endParaRPr>
          </a:p>
          <a:p>
            <a:pPr marL="447840" indent="-447840">
              <a:spcBef>
                <a:spcPts val="575"/>
              </a:spcBef>
              <a:buClr>
                <a:srgbClr val="000000"/>
              </a:buClr>
              <a:buFont typeface="华文行楷"/>
              <a:buChar char="•"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23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27" name=""/>
          <p:cNvSpPr/>
          <p:nvPr/>
        </p:nvSpPr>
        <p:spPr>
          <a:xfrm>
            <a:off x="10388520" y="7340760"/>
            <a:ext cx="237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3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i="1" lang="zh-CN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3"/>
          <p:cNvSpPr/>
          <p:nvPr/>
        </p:nvSpPr>
        <p:spPr>
          <a:xfrm>
            <a:off x="5130720" y="337824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谢谢观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1082520" y="0"/>
            <a:ext cx="10034640" cy="8128080"/>
            <a:chOff x="1082520" y="0"/>
            <a:chExt cx="10034640" cy="8128080"/>
          </a:xfrm>
        </p:grpSpPr>
        <p:sp>
          <p:nvSpPr>
            <p:cNvPr id="130" name="矩形 4"/>
            <p:cNvSpPr/>
            <p:nvPr/>
          </p:nvSpPr>
          <p:spPr>
            <a:xfrm>
              <a:off x="1845000" y="0"/>
              <a:ext cx="7897320" cy="8100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7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7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7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7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082520" y="2031840"/>
              <a:ext cx="10034640" cy="609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Box 7"/>
            <p:cNvSpPr/>
            <p:nvPr/>
          </p:nvSpPr>
          <p:spPr>
            <a:xfrm rot="20926800">
              <a:off x="3354840" y="4236480"/>
              <a:ext cx="5531760" cy="13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1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7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7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7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7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7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7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8T00:30:13Z</dcterms:created>
  <dc:creator>奥巴牛</dc:creator>
  <dc:description>QQ978767986</dc:description>
  <cp:keywords>奥巴牛</cp:keywords>
  <dc:language>en-US</dc:language>
  <cp:lastModifiedBy>a</cp:lastModifiedBy>
  <dcterms:modified xsi:type="dcterms:W3CDTF">2015-01-14T13:31:54Z</dcterms:modified>
  <cp:revision>12</cp:revision>
  <dc:subject>水墨风格ppt</dc:subject>
  <dc:title>水墨风格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