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C947-653B-408A-962E-800A59FB0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BDAB-9FB0-40C5-95DE-3DDFE251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7CE3-28ED-4EC8-AB65-6F3E4AAC3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781D-8CF5-409F-A6B9-CB8507DE6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66C8-1F95-4BEC-B240-8270ABBFA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B109-7A85-4C0A-A5BF-FB178628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0446-2018-42D9-A71E-905562D7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CD9D-1235-4680-BE24-39120FD7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F97A-01AC-420E-8DA0-225D3C50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AD1F-F16B-439D-8014-5234464F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3634-C525-4C48-BE3A-6E18E87C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7A1D-08A4-49B2-9D07-7E7837CA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AA75-D896-4793-A14B-16421FE5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7CCE-B206-448D-A199-4EA64206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85F4-F33A-4F2A-A388-87660CE0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3C21-1BCC-4470-8316-FC7B79A93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E285-5E3E-4E8D-AAFD-20779FDEA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8E31-1322-4216-881F-B0F84252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C088-5C02-45F6-80F9-25449E29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F722-004A-47D3-87E8-CD4F5B10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421C-3F05-41ED-B7B6-0BFB5350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98CF-E3A5-4D50-A9D4-C99147DB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8F14-E7AE-4926-9F6A-4C2E9118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0FEE-8E05-48E0-84E2-165A0E91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5434-4E1F-4338-BA9D-66A139BE05B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6060-C8A1-4BC6-ADD9-6F21542928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12EC-2BB7-4C0F-BC1C-63671D09965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DB84-C954-4A74-9DE3-50093FC226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cp:keywords/>
  <dc:language>en-US</dc:language>
  <cp:lastModifiedBy>a</cp:lastModifiedBy>
  <dcterms:modified xsi:type="dcterms:W3CDTF">2014-07-23T08:16:38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