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484-D50E-4988-82D2-FAD4283B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8A5-8740-4125-8A55-ADB52A29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332-34C6-4A99-B895-6F79886C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0C2-A3F2-4159-90D1-304D3ED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829-43FB-4C28-9AB0-8F8F7C34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444-5F68-4524-998B-8509A64F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36AC-023E-409A-A427-3EB8727B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0E76-75B8-4885-B223-910DDC85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FAEB-5898-443D-8BE0-55F8FCD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ED9-2D5B-44B4-810E-3C3FE62D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2713-AF73-4E8C-BD5C-3267377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F98-DC73-4E7A-BCFC-AFA26F9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4BCF-4C57-4366-9A51-E94CFEB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BC63-3DB8-4257-B58C-2687FB0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9139-30FB-457F-87F3-B6A204C4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1A7B-A643-4776-9D79-365B6A5C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CEE5-5C84-4F77-9F1A-2406262A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AE00-3DA1-40F0-9B48-D3C29DFC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49F0-C2BD-4E6A-9B2C-174A3D77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DFCD-E464-4A39-BEC6-E9701EC1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A0A9-3466-4C70-A45B-F49B4D8D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480D-C49A-4D2D-B9CF-EC1C3DCB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FF8-75EE-4650-89EF-4A0A777A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69AF-E81D-4D1F-A4E0-4323054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7C64-51A1-428A-89CC-CCD9F33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3CE4-B55C-4EEE-B983-AADE274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0F45-9C4D-4DFF-BC5E-DB27F690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DD05-6C84-45BE-B158-F5748454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7DB5-3434-4B89-BAC7-8C3DC014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92D3-1E99-4FF5-A0AC-2BE54235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D3D-6397-48E5-B579-C67F0E2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23A-4AE4-4A73-8C0D-593FD0E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78E-BCB3-4CE1-BD64-FFAEBF5D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C2D-374C-4A30-9536-59E4D39D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024-83D9-4DB7-82DC-C8033781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6AF-24E4-4A64-9BCE-BF13EFA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71CE-27B6-422A-8BB2-B7EF2D4637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C51D-2345-414A-ADDB-23F50E4045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210-8C3A-430F-B5FE-163287954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113B-04CE-4EE8-B395-223774EC20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00360" y="2637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高级总裁助理＼秘书实用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476360" y="1197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华文中宋"/>
              </a:rPr>
              <a:t>商　务　礼　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　　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第二部分　办公室行为标准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遵循整洁、干净、卫生、简约的基本原则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员工上班期间一律配戴工号牌、穿工作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员工一律不留怪异发型、染发、不随便理光头。男员工不留长发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装饰得体，女员工上班不宜浓妆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5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站姿挺拔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6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坐姿端正。伏案书写或办理业务时要姿态端正，不倾斜，不趴在桌子或半躺半坐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7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行姿矫健。</a:t>
            </a:r>
            <a:br>
              <a:rPr sz="1800"/>
            </a:br>
            <a:br>
              <a:rPr sz="16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　　　　　　　　优雅得体的坐姿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1" name="Picture 3" descr="3"/>
          <p:cNvPicPr/>
          <p:nvPr/>
        </p:nvPicPr>
        <p:blipFill>
          <a:blip r:embed="rId2"/>
          <a:stretch/>
        </p:blipFill>
        <p:spPr>
          <a:xfrm>
            <a:off x="1979640" y="1628640"/>
            <a:ext cx="1766880" cy="381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4"/>
          <p:cNvPicPr/>
          <p:nvPr/>
        </p:nvPicPr>
        <p:blipFill>
          <a:blip r:embed="rId3"/>
          <a:stretch/>
        </p:blipFill>
        <p:spPr>
          <a:xfrm>
            <a:off x="5580000" y="1628640"/>
            <a:ext cx="1728720" cy="37450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 rot="10800000">
            <a:off x="3059280" y="836280"/>
            <a:ext cx="1584000" cy="647640"/>
          </a:xfrm>
          <a:custGeom>
            <a:avLst/>
            <a:gdLst>
              <a:gd name="textAreaLeft" fmla="*/ 0 w 1584000"/>
              <a:gd name="textAreaRight" fmla="*/ 1357920 w 1584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872080" y="5733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良好的站姿，优美的走姿 ，高雅的坐姿，标准的手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30974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得体的体姿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6" name="Picture 3" descr="平安6"/>
          <p:cNvPicPr/>
          <p:nvPr/>
        </p:nvPicPr>
        <p:blipFill>
          <a:blip r:embed="rId2"/>
          <a:stretch/>
        </p:blipFill>
        <p:spPr>
          <a:xfrm>
            <a:off x="5003640" y="4869000"/>
            <a:ext cx="3816360" cy="136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484360" y="148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男性座姿：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般从椅子的左侧入座，紧靠椅背，挺直端正，不要前倾或后仰，双手舒展或轻握于膝盖上，双脚平行，间隔一个拳头的距离，大腿与小腿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度。如坐在深而软的沙发上，应坐在沙发前端，不要仰靠沙发，以免鼻毛外露。忌讳：二郎腿、脱鞋、把脚放到自己的桌椅上或架到别人桌椅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性座姿：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双脚交叉或并拢，双手轻放于膝盖上，嘴微闭，面带微笑，两眼凝视说话对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203640" y="692280"/>
            <a:ext cx="936720" cy="792000"/>
          </a:xfrm>
          <a:custGeom>
            <a:avLst/>
            <a:gdLst>
              <a:gd name="textAreaLeft" fmla="*/ 137160 w 936720"/>
              <a:gd name="textAreaRight" fmla="*/ 799560 w 936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588000" y="4076640"/>
            <a:ext cx="936720" cy="792360"/>
          </a:xfrm>
          <a:custGeom>
            <a:avLst/>
            <a:gdLst>
              <a:gd name="textAreaLeft" fmla="*/ 137160 w 936720"/>
              <a:gd name="textAreaRight" fmla="*/ 799560 w 936720"/>
              <a:gd name="textAreaTop" fmla="*/ 115920 h 792360"/>
              <a:gd name="textAreaBottom" fmla="*/ 676440 h 79236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8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电　话　礼　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835280" y="2779920"/>
            <a:ext cx="629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电话铃响，两声后接听，首先“自报家门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迅速给出答案：回答、拒绝或转其他同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适当记录细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拨通前先打好腹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迅速切入主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使用电话敬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位高者先挂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同事不在时帮助接听电话，并留言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电话时间控制在３分钟以内，最长不超过５分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0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华文中宋"/>
              </a:rPr>
              <a:t>电话接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96000" y="20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主动拨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492360" y="2205000"/>
            <a:ext cx="1800360" cy="71640"/>
          </a:xfrm>
          <a:prstGeom prst="rightArrow">
            <a:avLst>
              <a:gd name="adj1" fmla="val 50000"/>
              <a:gd name="adj2" fmla="val 6282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0040723135802"/>
          <p:cNvPicPr/>
          <p:nvPr/>
        </p:nvPicPr>
        <p:blipFill>
          <a:blip r:embed="rId2"/>
          <a:stretch/>
        </p:blipFill>
        <p:spPr>
          <a:xfrm>
            <a:off x="1763640" y="2874960"/>
            <a:ext cx="5472360" cy="3218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38052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其他电话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284720" y="1197000"/>
            <a:ext cx="574560" cy="1582560"/>
          </a:xfrm>
          <a:custGeom>
            <a:avLst/>
            <a:gdLst>
              <a:gd name="textAreaLeft" fmla="*/ 0 w 574560"/>
              <a:gd name="textAreaRight" fmla="*/ 162360 w 574560"/>
              <a:gd name="textAreaTop" fmla="*/ 608760 h 1582560"/>
              <a:gd name="textAreaBottom" fmla="*/ 1582920 h 15825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办　公　室　礼　仪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6920" y="2924280"/>
            <a:ext cx="4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199680" y="21182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分清哪是公共的区域，哪是个人的空间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306080" y="26931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工位的整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042920" y="341388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谈话声音和距离的控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116000" y="4134600"/>
            <a:ext cx="31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尽量避免在办公区域用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日　常　规　范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六不”指的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随意对他人评头论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谈论个人薪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要倭过给同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干私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偷听他人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打听探究别人隐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四要”指的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１）卫生要主动搞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２）个人桌面要整洁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３）同事见面要问好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４）对待客户要热情接待；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第三部分　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实用技巧篇</a:t>
            </a:r>
            <a:br>
              <a:rPr sz="40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言谈举止的标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755640" y="256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目光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55640" y="3067560"/>
            <a:ext cx="23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称谓的选择和使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55640" y="355824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握手</a:t>
            </a:r>
            <a:r>
              <a:rPr b="1" lang="en-US" sz="2000" spc="-1" strike="noStrike">
                <a:solidFill>
                  <a:srgbClr val="ff9900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960480" y="4075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互换名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755640" y="4651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其他注意事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9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095640" cy="187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名片的交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3" descr="平安13"/>
          <p:cNvPicPr/>
          <p:nvPr/>
        </p:nvPicPr>
        <p:blipFill>
          <a:blip r:embed="rId2"/>
          <a:stretch/>
        </p:blipFill>
        <p:spPr>
          <a:xfrm>
            <a:off x="2050920" y="1484280"/>
            <a:ext cx="4824720" cy="2736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709560" y="4365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名片放在什么地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9280" y="508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衬衣左侧口袋或西装的内侧口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口袋不要因为放置名片而鼓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不要将名片放在裤袋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003640" y="5084640"/>
            <a:ext cx="39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无意识地玩弄对方的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把对方名片放入裤兜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当场在对方名片上写备忘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先于上司向客人递交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435640" y="43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　　　　　错误的做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 rot="1511400">
            <a:off x="409680" y="4871880"/>
            <a:ext cx="865080" cy="144720"/>
          </a:xfrm>
          <a:custGeom>
            <a:avLst/>
            <a:gdLst>
              <a:gd name="textAreaLeft" fmla="*/ 497880 w 865080"/>
              <a:gd name="textAreaRight" fmla="*/ 730080 w 865080"/>
              <a:gd name="textAreaTop" fmla="*/ 19440 h 144720"/>
              <a:gd name="textAreaBottom" fmla="*/ 61920 h 144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 rot="9481200">
            <a:off x="7092720" y="4868640"/>
            <a:ext cx="865080" cy="144360"/>
          </a:xfrm>
          <a:custGeom>
            <a:avLst/>
            <a:gdLst>
              <a:gd name="textAreaLeft" fmla="*/ 497880 w 865080"/>
              <a:gd name="textAreaRight" fmla="*/ 730080 w 865080"/>
              <a:gd name="textAreaTop" fmla="*/ 19440 h 144360"/>
              <a:gd name="textAreaBottom" fmla="*/ 6192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前　　　言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商务礼仪是商务活动中体现人与人相互尊重的行为准则，它也是商务活动中对人的仪表仪容和言谈举止的基本要求。在日常的商务活动中，是否具备正确的商务礼仪，是衡量职业化行为最基本的一个标准。因此，学习商务礼仪对一个职业人士来说非常重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对于企业而言，更体现出一个企业的整体形象和整体素质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76040" y="40428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华文中宋"/>
              </a:rPr>
              <a:t>　　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交谈的禁忌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321440" cy="23749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0" y="4797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乔治梅奥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：尊重上级是一种天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同事是一种本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下级是一种美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客户是一种常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所有人是一种教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692360" y="1197000"/>
            <a:ext cx="1079280" cy="50328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148360" y="4076640"/>
            <a:ext cx="1224000" cy="6476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手    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指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需要用手指引某样物品或接引顾客和客人时，食指以下靠拢，拇指向内侧轻轻弯曲，指示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招手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向远距离的人打招呼时，伸出右手，右胳膊伸直高举，掌心朝着对方，轻轻摆动。不可向上级和长辈招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鞠    躬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与客户交错而过时，面带微笑，行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度鞠躬礼，头和身体自然前倾，低头比抬头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接送客户时，行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度鞠躬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初见或感谢客户时，行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5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度鞠躬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视    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与顾客交谈时，两眼视线落在对方的鼻间，偶尔也可以注视对方的双眼。恳请对方时，注视对方的双眼。为表示对顾客的尊重和重视，切忌斜视或光顾他人他物，避免让顾客感到你非礼和心不在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距    离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7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至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厘米（熟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米至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米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陌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个手臂长（站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个手臂长（坐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个半手臂长（一站一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介绍他人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顺序：把职位低者、晚辈、男士、未婚者分别介绍给职位高者、长辈、女士和已婚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国际惯例敬语（姓名和职位）。如：王小姐，请允许我向您介绍仵志忠总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介绍时不可单指指人，而应掌心朝上，拇指微微张开，指尖向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被介绍者应面向对方。介绍完毕后与对方握手问候，如：您好！很高兴认识您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避免对某个人特别是女性的过分赞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坐着时，除职位高者、长辈和女士外，应起立。但在会议、宴会进行中不必起立，被介绍人只要微笑点头示意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称    呼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国际惯例：称男性为先生，称未婚女性为小姐，称已婚女性为女士、夫人和太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中国特色：同志、大爷、大叔、大妈、大娘、大哥、大姐（内地与北方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根据行政职务、技术职称、学位、职业来称呼。如：陈总、吴局长、王教授、刘工、陈博士、曹律师、龚医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称呼随时代而变化。服务业（酒店、餐饮）人员过去称服务员，现在大都称先生、小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致    意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点头：适合于肃静场合（图书馆、音乐厅、电影院）和特定场合（酒会、舞会）。经常见面的人相遇时，可点头相互致意，而不必用有声语言来问候。在社交场合遇见仅有一面之交者，也可相互点头致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点头的方式：面带微笑，头部微微向下一点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微    笑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自然、真诚、不露牙，不出声。切忌做作和皮笑肉不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　　　　　　　</a:t>
            </a: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鼓    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两臂抬起，张开左掌，用合拢的右手四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拇指除外）轻拍左掌中部，节奏要平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频率要一致。鼓掌时，姿态要端正，并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以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与女性交往的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绅士风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女士优先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何为商务礼仪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700704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华文中宋"/>
              </a:rPr>
              <a:t>礼　仪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是一门综合性较强的行为科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是指在人际交往中，自始至终地以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的、约定俗成的程序、方式来表现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己、敬人的完整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659640" y="4076640"/>
          <a:ext cx="1966680" cy="203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4076640"/>
                    <a:ext cx="196668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行    路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并肩：女士在右（考虑安全。下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前后：女士在前  （除非前面有障碍物或危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上楼：女士在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下楼：女士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乘    车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给女士让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乘坐火车和巴士时，如不拥挤，男士应先上车，接应女士或为女士找座位。到站后，男士先下，接应女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乘出租车时，男士后上先下，拉开和关闭车门，协助女士上下车。男士坐在女士旁边，或坐在司机旁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社    交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先向女主人问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女主人走来时，应当起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与站着的女士交谈时不能坐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与陌生女士交谈要有分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会客入座的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1338120" y="2031840"/>
            <a:ext cx="6378840" cy="317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乘车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35" name="Object 3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4152960" cy="427032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4" descr=""/>
          <p:cNvPicPr/>
          <p:nvPr/>
        </p:nvPicPr>
        <p:blipFill>
          <a:blip r:embed="rId3"/>
          <a:stretch/>
        </p:blipFill>
        <p:spPr>
          <a:xfrm>
            <a:off x="3059280" y="5734080"/>
            <a:ext cx="403200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共乘电梯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先按电梯，让客人先进。若客人不止一人时，可先进电梯，一手按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开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，一手按住电梯侧门，对客人礼貌地说：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请进！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进入电梯后，按下客人要去的楼层数。侧伸面对客人。如无旁人，可略做寒暄。如有他人，应主动询问去几楼，并帮忙按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到目的地后，一手按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开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，一手做请出的动作，说：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到了，您先请！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客人走出电梯后，自己立即步出电梯，在前面引导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接待预约访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看到客户后，微笑着打招呼。如坐着，则应立即起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握手和交换名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将客户引到会议室。奉茶或咖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会谈。会谈结束。送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接待临时访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确认访客所在单位、姓名、拜访对象、拜访事宜和目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本人无时间接待，尽量安排他人接待，不要让访客空手而归。如果暂时脱不开身，则请访客在指定地点等候，并按约定时间会见访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看到访客后，微笑着问候，并握手和交换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果访客找的是本人，则直接带访客到会议室会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果访客找的是其他人，则迅速联系受访对象，告之访客的所在单位、姓名和来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依受访者的指示行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带到会客室。奉茶或咖啡。告之受访对象何时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将访客带到办公室，将其引导给受访对象后告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告诉访客，受访者不在或没空接待，请访客留下名片和资料，代为转交。约定其他时间来访。表示歉意。礼貌送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第四部分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总裁总理＼秘书的工作职责一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接听电话，接待来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起草函电，打印文件，整理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保管印信，管理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对内协调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对外联络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车辆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商务旅行安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总裁总理＼秘书的工作职责二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了解老板的个性，容忍老板的缺点，有时替老板承担责任或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熟悉老板的亲朋好友和企业重要客户及社会关系，掌握他们与老板的交往深浅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接受老板的授权处理有关业务和人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作为老板的代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商务礼仪的基本特征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276720" y="2133720"/>
            <a:ext cx="2160360" cy="93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规范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403280" y="4221000"/>
            <a:ext cx="2160720" cy="93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对象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292720" y="4149720"/>
            <a:ext cx="2160720" cy="93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华文中宋"/>
              </a:rPr>
              <a:t>技巧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总裁助理＼秘书的职业要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积极的人生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良好的人际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把握分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注重工作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自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职业化能力表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028120" y="1844640"/>
            <a:ext cx="3791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一般能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分类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理解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沟通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表达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办事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操作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应变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97640" y="2997360"/>
            <a:ext cx="37918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特别能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分析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判断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策划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决策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组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协调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危机处理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第五部分　职场潜规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注意聆听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50920" y="2266920"/>
            <a:ext cx="919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LOOK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注视对方，试用“甘乃迪总统眼神法”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INTEREST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表示兴趣，点头、微笑、身体前倾，都是有用的身体语言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SINCERE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诚实关心，留心对方的说话，做真心善良的响应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TARGET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对牢目标，对方故意离题，马上带回主题，对方说溜了嘴更要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着上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EMOTION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控制情绪，就是听到过分言语，也不要发火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NEUTRAL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避免偏见，小心聆听对方的立场，不要急于捍卫己见。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勇于道歉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即使你在社交礼仪上做得完美无缺，你也不可避免地在职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中冒犯了别人。如果发生这样的事情，真诚地道歉就可以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不必太动感情。表达出你想表达的歉意，然后继续进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将你所犯的错误当成件大事只会扩大它的破坏作用，使得接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道歉的人更加不舒服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赢得好人缘的八大诀窍</a:t>
            </a: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  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39640" y="1844640"/>
            <a:ext cx="19652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尊重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乐于助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心存感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同频共振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219640" y="1752120"/>
            <a:ext cx="278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诙谐幽默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大度宽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诚恳道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真诚赞美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942160" y="3573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结束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四类人ＣＡ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裁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没有能力，态度又差。裁掉算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材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态度不错，就是干不了事。将就用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才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能力挺强，就是态度太差。真是难用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财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态度好，又有能力。真是公司的财源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780000" y="479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行楷"/>
              </a:rPr>
              <a:t>老板喜欢哪种类型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第一部分：职业形象的塑造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别让职业形象误了你的前程</a:t>
            </a:r>
            <a:r>
              <a:rPr b="0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133720" y="3429000"/>
            <a:ext cx="414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良好的职业形象不仅能够提升个人品牌价值，而且还能提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自己的职业自信心。个人形象指的主要是容貌、魅力、风度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气质、化妆、服饰等直观的包括天生的外表感觉的东西，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是一种值得开发、利用的资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596360" y="3068640"/>
            <a:ext cx="1368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职业形象六要素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仪表（端庄大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表情（自然、亲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举止动作（得体自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服饰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TOP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原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谈吐（适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待人接物 （礼貌周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336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商务活动中仪容仪表的标准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4064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中宋"/>
              </a:rPr>
              <a:t>男士的仪容仪表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0920" y="26215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发型发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2400" y="31266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面部修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9640" y="3643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着装修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621760" y="2996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衬衫的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621760" y="2564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领带的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1006200" y="40759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皮鞋以及袜子的选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364000" y="34995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必备物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BD04956_"/>
          <p:cNvPicPr/>
          <p:nvPr/>
        </p:nvPicPr>
        <p:blipFill>
          <a:blip r:embed="rId2"/>
          <a:stretch/>
        </p:blipFill>
        <p:spPr>
          <a:xfrm>
            <a:off x="250920" y="5493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女士的仪容仪表标准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3" name="Picture 3" descr="T2"/>
          <p:cNvPicPr/>
          <p:nvPr/>
        </p:nvPicPr>
        <p:blipFill>
          <a:blip r:embed="rId2"/>
          <a:stretch/>
        </p:blipFill>
        <p:spPr>
          <a:xfrm>
            <a:off x="1187280" y="1413000"/>
            <a:ext cx="6553440" cy="4464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2340000" y="59436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头发：健康、干净、简约、大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商务职场着装  六忌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826920" y="1916280"/>
            <a:ext cx="66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杂乱、场合不规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鲜艳、要保守不张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暴露，尤其胸、肩、大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透视、要尊重、庄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短小与紧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肥大与不和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BD06990_"/>
          <p:cNvPicPr/>
          <p:nvPr/>
        </p:nvPicPr>
        <p:blipFill>
          <a:blip r:embed="rId2"/>
          <a:stretch/>
        </p:blipFill>
        <p:spPr>
          <a:xfrm>
            <a:off x="7164360" y="3789360"/>
            <a:ext cx="14432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09:15:27Z</dcterms:created>
  <dc:creator>麦隆</dc:creator>
  <dc:description/>
  <dc:language>en-US</dc:language>
  <cp:lastModifiedBy>a</cp:lastModifiedBy>
  <dcterms:modified xsi:type="dcterms:W3CDTF">2015-01-14T13:40:37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