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F58-9DC4-4E48-8DC2-9F97FC53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1F6-D192-41A8-90F2-DB27EFE9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E56-228E-40B3-B707-123290EE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32A-555A-4948-9EB7-0D54F2F4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843A-07F0-434D-9F3E-158E2A93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CADC-EE1B-40A9-A85A-2473989A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DA68-CCFD-425D-8F1F-B70EE0B4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54F7-3954-45F7-9AF5-8C97A700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7CF0-A2FD-49CA-8392-93C9AE3C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E49C-EEA6-404D-9954-E805A509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CFFD-913E-4706-9E27-CD012827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A15-7B84-40A6-894E-200ABA9C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DC35-C16D-4DD7-9C44-BBDAB016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363C-CB5B-4BCB-9052-0D4A7640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9BEF-4CC8-4C4F-B71E-CDB8FB4A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4DF5-E71F-44DF-A65F-D9883387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89D5-8B7E-46A0-8EE1-5DACC97E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A1F-3F44-4AE8-AFBD-64F12F1E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F2C4-F456-4417-A98E-9877EBDE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0A9-ABDF-4046-A8AB-7C8F7C51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C69-7255-4116-9155-D10EAA66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8ED-26F5-4418-8AB8-23D1C751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774-D882-4F6B-9F9D-BA0C8B70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1DD-AFFE-4ECB-BA25-BFE46736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39FA-8D7D-4DC4-8905-29EB5CCDAD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8166-7F32-4EE0-99D8-9E3F618FC0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0683-DD24-4164-A613-15C55E2A10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A05A-B09B-4034-A002-E22980C12F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shuxue (5)"/>
          <p:cNvPicPr/>
          <p:nvPr/>
        </p:nvPicPr>
        <p:blipFill>
          <a:blip r:embed="rId1"/>
          <a:stretch/>
        </p:blipFill>
        <p:spPr>
          <a:xfrm>
            <a:off x="1117440" y="1600200"/>
            <a:ext cx="69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shuxue (13)"/>
          <p:cNvPicPr/>
          <p:nvPr/>
        </p:nvPicPr>
        <p:blipFill>
          <a:blip r:embed="rId1"/>
          <a:stretch/>
        </p:blipFill>
        <p:spPr>
          <a:xfrm>
            <a:off x="1177920" y="1600200"/>
            <a:ext cx="678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shuxue (14)"/>
          <p:cNvPicPr/>
          <p:nvPr/>
        </p:nvPicPr>
        <p:blipFill>
          <a:blip r:embed="rId1"/>
          <a:stretch/>
        </p:blipFill>
        <p:spPr>
          <a:xfrm>
            <a:off x="1177920" y="1600200"/>
            <a:ext cx="678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shuxue (4)"/>
          <p:cNvPicPr/>
          <p:nvPr/>
        </p:nvPicPr>
        <p:blipFill>
          <a:blip r:embed="rId1"/>
          <a:stretch/>
        </p:blipFill>
        <p:spPr>
          <a:xfrm>
            <a:off x="1117440" y="1600200"/>
            <a:ext cx="69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shuxue (6)"/>
          <p:cNvPicPr/>
          <p:nvPr/>
        </p:nvPicPr>
        <p:blipFill>
          <a:blip r:embed="rId1"/>
          <a:stretch/>
        </p:blipFill>
        <p:spPr>
          <a:xfrm>
            <a:off x="1117440" y="1600200"/>
            <a:ext cx="69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shuxue (7)"/>
          <p:cNvPicPr/>
          <p:nvPr/>
        </p:nvPicPr>
        <p:blipFill>
          <a:blip r:embed="rId1"/>
          <a:stretch/>
        </p:blipFill>
        <p:spPr>
          <a:xfrm>
            <a:off x="1117440" y="1600200"/>
            <a:ext cx="69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shuxue (8)"/>
          <p:cNvPicPr/>
          <p:nvPr/>
        </p:nvPicPr>
        <p:blipFill>
          <a:blip r:embed="rId1"/>
          <a:stretch/>
        </p:blipFill>
        <p:spPr>
          <a:xfrm>
            <a:off x="1117440" y="1600200"/>
            <a:ext cx="69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shuxue (9)"/>
          <p:cNvPicPr/>
          <p:nvPr/>
        </p:nvPicPr>
        <p:blipFill>
          <a:blip r:embed="rId1"/>
          <a:stretch/>
        </p:blipFill>
        <p:spPr>
          <a:xfrm>
            <a:off x="1117440" y="1600200"/>
            <a:ext cx="69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shuxue (10)"/>
          <p:cNvPicPr/>
          <p:nvPr/>
        </p:nvPicPr>
        <p:blipFill>
          <a:blip r:embed="rId1"/>
          <a:stretch/>
        </p:blipFill>
        <p:spPr>
          <a:xfrm>
            <a:off x="1117440" y="1600200"/>
            <a:ext cx="69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shuxue (11)"/>
          <p:cNvPicPr/>
          <p:nvPr/>
        </p:nvPicPr>
        <p:blipFill>
          <a:blip r:embed="rId1"/>
          <a:stretch/>
        </p:blipFill>
        <p:spPr>
          <a:xfrm>
            <a:off x="1177920" y="1600200"/>
            <a:ext cx="678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shuxue (12)"/>
          <p:cNvPicPr/>
          <p:nvPr/>
        </p:nvPicPr>
        <p:blipFill>
          <a:blip r:embed="rId1"/>
          <a:stretch/>
        </p:blipFill>
        <p:spPr>
          <a:xfrm>
            <a:off x="1173240" y="1600200"/>
            <a:ext cx="679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5-01-14T13:33:33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