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FDD-26CB-461A-A4D9-6B138C9B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D16-9968-43F7-B6E8-F0441FC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6E917-FBFF-4CE8-8F78-9A11D0A6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57701-E0FE-4B5A-9D41-022AEA22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6DDFF-AE3D-4D4A-8C9D-8FFB54A3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A55D7-316C-4EAA-8C72-57FE728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31228-78AB-4738-A463-67A1E06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C4606-6A0D-4FB4-845D-49905F9D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68DEA-725F-4028-857E-9088CE6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9DC1B-6C35-404D-8501-EE89A52E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BFA98-1553-4E01-8472-81F4EF78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A3B36-C74A-4F58-B761-54ECD222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85A-1B05-4327-A39D-B0E45C0B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9244D-BEF3-4A88-AB79-777831FA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44D57-1228-403F-892B-730E230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15328-A3C3-4C14-BFFB-153E8C25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4637E-F88E-423B-AD61-7D3F2A5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E9008-27ED-4BF7-ABA3-5DF02B2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436FF-23A7-406C-86B1-D1CB7DF3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06C7E-6F68-4837-9722-02B04BB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BCBBA-476A-43CB-B515-652A6B6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D1E92-2F27-4526-9B44-6E72BDF5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D65E5-29D9-4D33-984A-4D2D7D45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815-CF83-47D1-B435-E86F24D9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7A20B-721A-45EE-B524-9765EE02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EA611-B53A-4DDF-AF45-AE311B0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AC304-62A6-4FD3-8E2D-243796CE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2FA08-B102-4E71-8DCA-0F252757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E0BF8-D2F5-4A8B-A811-83B2F4A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DDFA0-1A11-4E4E-A5E1-73D02620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86ED3-88A4-4C1F-B041-579ADE80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5C315-F330-48DC-936D-432DDFEE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7F87B-37C6-4F69-ADDB-233FAF9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64571-A15D-4853-9DFE-2A3AF95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1997-F4CC-47C9-B3EB-3CB80C06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EB84A-2384-4450-89CE-015CA6F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0C416-E05E-45BA-9B00-DD87797B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0028C-EE36-4E2A-9A64-8F90ECA1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45EAC-9905-4513-88A4-3EBCC559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07DD1-0E39-456B-B7C6-3E87F62B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3D39A-B8F0-4780-A531-D16AA7F6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194A4-F08E-498B-853E-5FF814A5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C9E9B-1934-4EC2-BB5E-C1455694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FE965-029B-4C0E-8B75-6D4E58F0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EC627-0853-4D97-B8C8-2F8214C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20D4-A02D-4774-B359-8D389AF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757FE-2703-46C7-8FF6-30DFC8F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92654-9BB0-4349-8A5E-95A27578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D1D98-5459-4F2A-BFBC-A0936C0D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73A1F-D6AB-40A7-9920-BB2273BE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6F651-52B1-4987-9428-79A713CD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4CFE2-2175-47EA-9C20-1D268935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D9EC0-A5E6-4972-BBBC-3D58A85E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7F3F8-0546-4E5F-BB1E-319DBF7B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B2D93-9BC5-4AC6-876E-9FF8E5D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8994A-D471-434D-A548-7F42D82B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F9F9-77A4-401E-955E-218E121A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522AA-D872-4E2B-94FF-27CE71A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C4DED-40BF-44CB-834B-24DD00F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C40F2-9536-462A-8C7C-0DD849C9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671CE-7DC1-405C-B0A8-A7E0546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2B16E-8AAD-48DC-BED3-D5C2E661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89A59-8748-4522-87D8-6056B2AE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2876E-E8E3-4BAA-B0BA-A1C034D4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5B431-5F97-437C-AA08-1FD646D1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EB30A-11F7-422C-AE58-A6B49086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24CF6-DD7F-4907-870E-35F46645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E3ED-8295-45AD-B5EB-CFA52AC4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1967C-59AE-402C-A335-610C524E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D88BE-C9B5-4AC9-BF15-C857E507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08737-4320-4D9D-B163-3D8AAFD8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CBC96-AACA-4160-874F-8B292F8B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4477D-F341-41AF-A15B-31F0CD8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72A37-D7BB-41A1-9109-BC7A8EB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12C8E-55DD-410D-BD6A-C14FAA7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0DD95-8252-45AB-A405-5C35086F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B40F9-81B8-4191-AC2A-E1741B94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B88-EA27-490E-B8D3-733EE4D3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55D5-96EB-45C5-ACA8-D3F7A7C3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09CE-E343-427B-B220-EA3799D3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559-DDB4-4D0C-B3BD-1AA00582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AAE0-C172-4524-83E6-9A976D70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AC34-4324-4C56-BF16-A494643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5769-265A-480F-94D6-0B9312F0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589E-FF04-4470-9437-77BFB10F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3EA2-9812-4A9D-851E-F44958A7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1130-D456-4AA6-B2F2-5D49477D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1B5D-F7B8-4514-A1BF-5712C5AA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B1D4-4804-42D7-92D9-FCF6D9A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F1F6B-119C-4879-95BF-4D922C1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362D-4CD7-4D50-871D-9CA2FB30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D50-A594-41CE-B571-B58B8413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ED50-C9D0-412B-9B5A-1C18E4E2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C72A-7140-4A1F-8B00-06D9906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50E1-A2DC-4B0E-AE43-F4D328A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CFB7-940D-473D-A34F-20D205A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9B1D-F7BB-4AD0-933E-4DB20F0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732A-2DEE-4F15-945E-DEB2A0A7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7EDB-F3B8-4908-BC0B-DDECFC22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C0AA-F462-44B4-BFC8-1DA2A28D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C713-0F47-4E39-868F-17AFFDA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29A1-ECD2-4B42-9A3F-148E0DA0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CC7-48D8-4B65-94AA-61B15399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3A50-045C-49CB-A2E9-CE9EBCF2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FA9AF-9C1C-4DDD-89CD-EF12F0F7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ADA7-E71C-498C-B67D-076FE1E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ED06-A16D-42DE-B91E-9CA63F8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4072-0545-40A5-B92F-5341173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ABED-A3BC-47E3-813C-F867D0B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BBAB-F70E-4017-8209-2B9B494B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C72A-20EC-4356-92AA-FB167260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A571-96A9-4090-85ED-DB8B1B88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5BA93-C04D-4689-A322-4DE4C4AC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0F7-96E7-440A-8290-31EA2157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EB3E1-A21A-4D02-B034-1317A48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EB6DC-86FF-4884-97F6-8F2A8303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7B9C-4784-43A0-8AF4-C7D8A83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8CB5-94AF-462A-893B-DAED9BF9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93B1-EF5F-4F47-BA0D-FEB06C17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964C-AC81-4509-9E73-D91D4B5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DFFD7-43EB-4E7D-B476-522FD85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3220-297B-4B3C-A18F-906E212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0022-35E3-4B9D-9400-E70FA4B6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21E7C-7C02-400F-BDEA-12D5EB4F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8B1-3CC2-4264-9942-90AD9E3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7A73-6E2A-4D8C-927A-D3983D16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103F-273B-4D37-87A7-22745A2A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A19C5-05D4-4CC9-B5C0-92DB58ED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4E5F3-A379-49B3-8C64-4ACE421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6585C-B774-46B1-8DC4-40B3311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FF76-EBAC-4DD4-84D9-B9D88CAA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241F-8587-4F05-8726-DF1B8AB9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7492-CE2B-4CB9-9F90-0C35F8E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A893-FB4A-408C-8415-CE8B81C5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0C851-4A6C-48BB-B59F-43A3E412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C46-3B31-45A1-A05C-0BA69ADF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547A1-944F-4F32-94B8-3BE2277F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5485A-392F-4A6D-8583-73937D09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067F-88B5-4561-99AC-B0A3D6AE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6D7A7-69CF-4B5A-B4C4-CBC7336F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8727-F558-4CA7-9638-0B1B98B1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B588-359A-4EE7-8AFE-FC29688B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13CD-6900-402D-9CC2-0AB90F8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E9E9F-F809-4304-87B3-44A1FFB7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9DBB-E254-4A3B-882D-83230CF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21BE-70A9-4A6C-9D0D-1351C2EB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186-1800-49EE-BD36-42FA90B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B11E-8EEC-4E40-9520-B4E0507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3975-42AC-4E02-8034-E3CAF4C4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9CE9C-8FD4-40CF-A8F6-FBBE870E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04DD3-150A-49A0-8525-A0FD6465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A252-92BF-41EA-AF20-130396F1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751B-21F7-43C8-810A-4A8C6767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48370-9A78-4F1A-837E-D4B66FC9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7339A-4426-48DB-8A8C-94DDB522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960C0-5799-434F-9533-A17312D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C4BC1-973D-4E55-9EB4-410FAAB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D7A-0753-4A2B-BF38-AA73EFC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1697-E380-42DA-83EA-0725238C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83DC7-D645-4846-A51F-D889738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8F8E4-832C-4493-9AEC-D05A20FE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76003-C15E-4E2B-8F31-F4E5544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D19C5-8433-4FB6-BF09-582041DF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6A45-D1C8-44F9-8083-318119FC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6F397-6B53-4207-AAFA-04E995BF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9D6D9-0B36-4CFB-9C2F-BB607C59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F31D3-ACAC-4408-8FEF-B65D38E6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776F-47FB-4837-88AA-4A9AC9E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9F14-8E66-4868-818F-01076022409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135F-4FBA-4328-8539-6E7256FFD2E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E65E-69B9-4295-9130-A00B88A674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4519-98C3-4CD0-9EA6-E11000F7FA1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1D81-069F-46AF-B2CC-F7A3CCC9C0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E690-915A-48AF-8E84-7AD5743ACB7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0DE-972E-4454-B443-E17329C116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6961-E890-4B63-BE47-BDF76E54E38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5017-C0CB-4FE7-93D6-6DE2BFD7B7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9878-091E-4246-927A-F9154BFC63D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D51-0260-4C89-A313-ED389CCB96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F0AB-497D-494F-A67D-30066DB7766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8A3C-224E-4651-A272-8C5DD30FE3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1F0A-0103-4213-A2D5-EB1ECBC258A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F6CB-70D9-4450-8C90-B8145EA3DB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B88E-0A0D-41A2-94AF-4C2F20B957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1DF6-8CB3-4016-BD3F-ECE34B1B5CD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3E69-1BB2-49A9-B285-6513F504E5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B487-2C40-4EC6-AC96-FF5F75D1242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A0D3-B04E-40C3-9E2A-062F3E7517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8A7C-605F-4A6C-9A50-A137DCFBB7D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A7B4-B324-4F4C-9638-41F506824F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8A5E-D0B1-48D9-84AC-A8EC69914C9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D50-E2D5-4E0D-9F13-908928C88B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1218-8FB1-40A3-BBBD-F93CE0F71DB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0239-3AC7-48E2-9203-F39CCD8955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3581280" y="4267080"/>
            <a:ext cx="5334120" cy="72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c1c1c"/>
                </a:solidFill>
                <a:latin typeface="Arial"/>
                <a:ea typeface="宋体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3:09:11Z</dcterms:created>
  <dc:creator/>
  <dc:description/>
  <cp:keywords/>
  <dc:language>en-US</dc:language>
  <cp:lastModifiedBy>a</cp:lastModifiedBy>
  <dcterms:modified xsi:type="dcterms:W3CDTF">2014-05-31T02:21:21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