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6C2-DD6B-4ED4-8779-538B19AC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998-A6C5-4E64-B9D6-D4501BC1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0EB-54B9-4B53-8B3E-E352192C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EFD-F19C-4D39-BAD2-961D6E3D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2250-E083-4A7F-9B90-4F35B07D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50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4C57-4A1E-4436-9C7A-37D310D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CE4D-19A4-40E5-9114-FC4024C5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86D4-49A8-4325-B4D3-26155F24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11F1-63ED-4DFA-B468-A624265A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050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3852-B354-4A91-A036-9E295170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E8A-E31C-43F3-854C-231A570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50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31F-66E4-45DB-81A5-6A6EB53D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41B8-3482-4F6A-ACE8-45624D2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B8FF-6247-41B0-8477-9274BF2C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2A2A-46E8-447A-B2ED-9C22186D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BF0A-6752-432F-862F-EEC46E00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E22E-9C0A-4DC1-BC40-5A8759DD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605-1974-4EAC-8A2D-2F8678C4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938-A1EA-4FB1-96A4-5A6660C3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750-9938-4FE9-8458-A9D1C126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050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D89-D452-43A4-95FD-7F6B2B40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E82-3CE5-4D86-BDC6-1E84AECD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844-2550-4DF1-A9A1-6E580313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4E4-EF1C-4888-BAC8-2839E9A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926" t="155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041487D0-7148-4962-B3DC-49D529FD882A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2D42C1A2-450B-4E75-91F2-7198E897E8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C4FDE25C-FEC0-4DFE-8269-059367A72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rcRect l="738" t="0" r="0" b="0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12600" y="2940120"/>
            <a:ext cx="3300480" cy="1415880"/>
          </a:xfrm>
          <a:custGeom>
            <a:avLst/>
            <a:gdLst>
              <a:gd name="textAreaLeft" fmla="*/ 0 w 3300480"/>
              <a:gd name="textAreaRight" fmla="*/ 3300840 w 3300480"/>
              <a:gd name="textAreaTop" fmla="*/ 0 h 1415880"/>
              <a:gd name="textAreaBottom" fmla="*/ 1416240 h 1415880"/>
            </a:gdLst>
            <a:ahLst/>
            <a:rect l="textAreaLeft" t="textAreaTop" r="textAreaRight" b="textAreaBottom"/>
            <a:pathLst>
              <a:path w="3414" h="1464">
                <a:moveTo>
                  <a:pt x="1316" y="372"/>
                </a:moveTo>
                <a:lnTo>
                  <a:pt x="1220" y="786"/>
                </a:lnTo>
                <a:lnTo>
                  <a:pt x="0" y="786"/>
                </a:lnTo>
                <a:lnTo>
                  <a:pt x="0" y="702"/>
                </a:lnTo>
                <a:lnTo>
                  <a:pt x="1154" y="702"/>
                </a:lnTo>
                <a:lnTo>
                  <a:pt x="1316" y="0"/>
                </a:lnTo>
                <a:lnTo>
                  <a:pt x="1582" y="1124"/>
                </a:lnTo>
                <a:lnTo>
                  <a:pt x="1808" y="318"/>
                </a:lnTo>
                <a:lnTo>
                  <a:pt x="1988" y="930"/>
                </a:lnTo>
                <a:lnTo>
                  <a:pt x="2078" y="702"/>
                </a:lnTo>
                <a:lnTo>
                  <a:pt x="3414" y="702"/>
                </a:lnTo>
                <a:lnTo>
                  <a:pt x="3414" y="786"/>
                </a:lnTo>
                <a:lnTo>
                  <a:pt x="2134" y="786"/>
                </a:lnTo>
                <a:lnTo>
                  <a:pt x="1976" y="1188"/>
                </a:lnTo>
                <a:lnTo>
                  <a:pt x="1810" y="626"/>
                </a:lnTo>
                <a:lnTo>
                  <a:pt x="1576" y="1464"/>
                </a:lnTo>
                <a:lnTo>
                  <a:pt x="1316" y="372"/>
                </a:lnTo>
                <a:lnTo>
                  <a:pt x="1316" y="372"/>
                </a:lnTo>
                <a:close/>
              </a:path>
            </a:pathLst>
          </a:custGeom>
          <a:solidFill>
            <a:srgbClr val="a63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2393640" y="2476440"/>
            <a:ext cx="6319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73735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73735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504d"/>
              </a:solidFill>
              <a:latin typeface="Verdana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93640" y="2476440"/>
            <a:ext cx="6319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73735"/>
                </a:solidFill>
                <a:latin typeface="Verdana"/>
              </a:rPr>
              <a:t>撕纸效果</a:t>
            </a:r>
            <a:r>
              <a:rPr b="1" lang="zh-CN" sz="4400" spc="-1" strike="noStrike">
                <a:solidFill>
                  <a:srgbClr val="973735"/>
                </a:solidFill>
                <a:latin typeface="Verdana"/>
              </a:rPr>
              <a:t>PPT</a:t>
            </a:r>
            <a:r>
              <a:rPr b="1" lang="zh-CN" sz="4400" spc="-1" strike="noStrike">
                <a:solidFill>
                  <a:srgbClr val="973735"/>
                </a:solidFill>
                <a:latin typeface="Verdana"/>
              </a:rPr>
              <a:t>模板</a:t>
            </a:r>
            <a:endParaRPr b="1" lang="en-US" sz="4400" spc="-1" strike="noStrike">
              <a:solidFill>
                <a:srgbClr val="973735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3760" y="3398760"/>
            <a:ext cx="48132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504d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-1150920" y="648648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2400" spc="-1" strike="sng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9680" y="1612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93640" y="2476440"/>
            <a:ext cx="6319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73735"/>
                </a:solidFill>
                <a:latin typeface="Verdana"/>
              </a:rPr>
              <a:t>谢谢欣赏！</a:t>
            </a:r>
            <a:endParaRPr b="1" lang="en-US" sz="3600" spc="-1" strike="noStrike">
              <a:solidFill>
                <a:srgbClr val="973735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24000" y="3400560"/>
            <a:ext cx="4694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504d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400" spc="-1" strike="sng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/>
  <dc:description/>
  <dc:language>en-US</dc:language>
  <cp:lastModifiedBy>ilovePPT.ORG</cp:lastModifiedBy>
  <dcterms:modified xsi:type="dcterms:W3CDTF">2015-01-10T09:00:3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