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D96-3259-476D-939F-A3EEB020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AB0-86C8-4565-A2F1-498B721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050-44B2-4069-95C6-1609D027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2AF-4849-4403-BA4F-1E645457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C2F0-5F9C-43A7-A140-0F2924E3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2246-5713-4F8F-90F8-B28809F8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DE78-F313-41E8-9833-4D1D065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1EA-8AF2-426E-BC09-938BCD1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02F-1643-4942-A174-32DABCE6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744-03C8-4C1B-AB3F-EFAF48F4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058-1AA1-48CB-828F-F8F2251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376-066F-495F-B08C-A3B9A44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01A6-A8AD-4F83-8AF9-80ABF80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075-46A3-4B06-87E7-78341FD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5807-2250-4530-AF3C-8749469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FF71-7C81-4A27-B2A4-ECF4D3DF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1DBA-56D2-4549-A737-12C57B39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9FDB-7105-498C-A343-9E364A2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1DFD-64D9-44B4-9165-AED6312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8E1C-FA61-4649-8900-FCC6A464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1670-810A-4403-A885-6576D72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50D1E-03C7-4E2C-AEAE-1178251F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15A-EDB0-434D-9F7A-A6C8BE4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2911A-C285-4346-9B4F-5C0215C1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6FD3-5130-4293-83D6-E2C2360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956C-BFE4-4CC7-8094-2B08FDD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C1C9-C105-4CAF-AE71-DF982FF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B5DE-C852-44D1-A834-AD1D890C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3645-DA81-4A0A-B22B-EDFD0770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0E34-7BCE-495E-AD1F-8EA071E5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E2E-EF9F-48D1-A3E3-D4CA966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6A2-A147-47F6-8780-4606CF3B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449-1EF3-4F0E-9AA5-72508D7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76B-9794-4A6B-AFEA-09965806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4C2-F4F7-4F58-AB40-76E04C4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7F0-932F-4CF7-BDDC-9838D3C8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天地人和3-2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DE8-F872-436A-82AC-F64F466F70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A089-BC20-47A2-8113-8E6115BAC0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64D-2B84-4FF9-A1C3-880455F847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天地人和3-1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6AE-EFB9-4FAB-B2A2-C06B908CB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46:31Z</dcterms:created>
  <dc:creator>sunlilymm</dc:creator>
  <dc:description/>
  <cp:keywords/>
  <dc:language>en-US</dc:language>
  <cp:lastModifiedBy>a</cp:lastModifiedBy>
  <dcterms:modified xsi:type="dcterms:W3CDTF">2014-07-16T09:01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