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989E-1C10-4745-BA6A-01ACD227A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A576-71D2-48E9-90F8-879DF4D78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343F-1716-4F6B-B751-C469FD61C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6BDD-2568-4C91-8509-E0FB5EA02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5139-9625-497C-A153-3C58F7AEF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C309-0664-4F2E-AC46-E320329CD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D726-9300-4CA5-90FB-11CDAB91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6773-871B-431F-B0FD-BAD9D38B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9B2B-51B9-4D07-8BE0-5E2FD3F7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B99D-14D3-4AE3-B163-BF0ED9868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BBA2-D0EC-44D5-B958-EEA59EB78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AD29-AA3D-4C15-A806-D96905048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B7FD3-BA4C-4251-9B19-CCC3E126AE69}" type="datetime"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56782-AB5F-410B-BE20-FEDEF706B068}" type="slidenum"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itle 1"/>
          <p:cNvSpPr/>
          <p:nvPr/>
        </p:nvSpPr>
        <p:spPr>
          <a:xfrm>
            <a:off x="2700360" y="3724200"/>
            <a:ext cx="3960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62626"/>
                </a:solidFill>
                <a:latin typeface="微软雅黑"/>
                <a:ea typeface="微软雅黑"/>
              </a:rPr>
              <a:t>太湖风情</a:t>
            </a:r>
            <a:r>
              <a:rPr b="0" lang="zh-CN" sz="3200" spc="-1" strike="noStrike">
                <a:solidFill>
                  <a:srgbClr val="262626"/>
                </a:solidFill>
                <a:latin typeface="微软雅黑"/>
                <a:ea typeface="微软雅黑"/>
              </a:rPr>
              <a:t>·</a:t>
            </a:r>
            <a:r>
              <a:rPr b="0" lang="zh-CN" sz="3200" spc="-1" strike="noStrike">
                <a:solidFill>
                  <a:srgbClr val="262626"/>
                </a:solidFill>
                <a:latin typeface="微软雅黑"/>
                <a:ea typeface="微软雅黑"/>
              </a:rPr>
              <a:t>苏州园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封一"/>
          <p:cNvPicPr/>
          <p:nvPr/>
        </p:nvPicPr>
        <p:blipFill>
          <a:blip r:embed="rId1"/>
          <a:srcRect l="2052" t="4542" r="2205" b="31510"/>
          <a:stretch/>
        </p:blipFill>
        <p:spPr>
          <a:xfrm>
            <a:off x="250920" y="411120"/>
            <a:ext cx="860112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68000" y="206280"/>
            <a:ext cx="6418440" cy="85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268000" y="1200240"/>
            <a:ext cx="6418440" cy="339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4" descr="E:/cd/项目文档/风情小镇/ps文件/di3.jpgdi3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82" name="Title 1"/>
          <p:cNvSpPr/>
          <p:nvPr/>
        </p:nvSpPr>
        <p:spPr>
          <a:xfrm>
            <a:off x="2395440" y="333360"/>
            <a:ext cx="64184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标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Content Placeholder 2"/>
          <p:cNvSpPr/>
          <p:nvPr/>
        </p:nvSpPr>
        <p:spPr>
          <a:xfrm>
            <a:off x="2395440" y="1327320"/>
            <a:ext cx="6418440" cy="33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请输入文字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.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7" descr="瓦"/>
          <p:cNvPicPr/>
          <p:nvPr/>
        </p:nvPicPr>
        <p:blipFill>
          <a:blip r:embed="rId2"/>
          <a:srcRect l="32109" t="71842" r="57035" b="18038"/>
          <a:stretch/>
        </p:blipFill>
        <p:spPr>
          <a:xfrm>
            <a:off x="182520" y="123840"/>
            <a:ext cx="1076400" cy="5745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8"/>
          <p:cNvSpPr/>
          <p:nvPr/>
        </p:nvSpPr>
        <p:spPr>
          <a:xfrm>
            <a:off x="320760" y="757080"/>
            <a:ext cx="79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·xx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di"/>
          <p:cNvPicPr/>
          <p:nvPr/>
        </p:nvPicPr>
        <p:blipFill>
          <a:blip r:embed="rId1"/>
          <a:stretch/>
        </p:blipFill>
        <p:spPr>
          <a:xfrm>
            <a:off x="0" y="-9360"/>
            <a:ext cx="9144000" cy="5154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QQ截图20111111133656"/>
          <p:cNvPicPr/>
          <p:nvPr/>
        </p:nvPicPr>
        <p:blipFill>
          <a:blip r:embed="rId2">
            <a:lum bright="6000"/>
          </a:blip>
          <a:srcRect l="3883" t="4766" r="2904" b="2914"/>
          <a:stretch/>
        </p:blipFill>
        <p:spPr>
          <a:xfrm>
            <a:off x="247680" y="266760"/>
            <a:ext cx="8520120" cy="4749840"/>
          </a:xfrm>
          <a:prstGeom prst="rect">
            <a:avLst/>
          </a:prstGeom>
          <a:ln w="0">
            <a:noFill/>
          </a:ln>
        </p:spPr>
      </p:pic>
      <p:sp>
        <p:nvSpPr>
          <p:cNvPr id="88" name="Title 1"/>
          <p:cNvSpPr/>
          <p:nvPr/>
        </p:nvSpPr>
        <p:spPr>
          <a:xfrm>
            <a:off x="457200" y="487440"/>
            <a:ext cx="82296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  <a:ea typeface="宋体"/>
              </a:rPr>
              <a:t>标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Content Placeholder 2"/>
          <p:cNvSpPr/>
          <p:nvPr/>
        </p:nvSpPr>
        <p:spPr>
          <a:xfrm>
            <a:off x="539640" y="1481040"/>
            <a:ext cx="8147160" cy="33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请输入文字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.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3" descr="QQ截图20111110143803"/>
          <p:cNvPicPr/>
          <p:nvPr/>
        </p:nvPicPr>
        <p:blipFill>
          <a:blip r:embed="rId2"/>
          <a:srcRect l="3695" t="1453" r="10530" b="3796"/>
          <a:stretch/>
        </p:blipFill>
        <p:spPr>
          <a:xfrm>
            <a:off x="3105000" y="525600"/>
            <a:ext cx="2716200" cy="27288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3203640" y="3292560"/>
            <a:ext cx="245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f5f5f"/>
                </a:solidFill>
                <a:latin typeface="长城大黑体"/>
                <a:ea typeface="微软雅黑"/>
              </a:rPr>
              <a:t>谢谢</a:t>
            </a:r>
            <a:r>
              <a:rPr b="0" lang="zh-CN" sz="2800" spc="-1" strike="noStrike">
                <a:solidFill>
                  <a:srgbClr val="800080"/>
                </a:solidFill>
                <a:latin typeface="长城大黑体"/>
                <a:ea typeface="微软雅黑"/>
              </a:rPr>
              <a:t>观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1143000" y="0"/>
            <a:ext cx="6350040" cy="5143680"/>
            <a:chOff x="1143000" y="0"/>
            <a:chExt cx="6350040" cy="5143680"/>
          </a:xfrm>
        </p:grpSpPr>
        <p:sp>
          <p:nvSpPr>
            <p:cNvPr id="94" name="矩形 4"/>
            <p:cNvSpPr/>
            <p:nvPr/>
          </p:nvSpPr>
          <p:spPr>
            <a:xfrm>
              <a:off x="1605600" y="0"/>
              <a:ext cx="5108400" cy="55080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fr-FR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fr-FR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fr-FR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143000" y="1285920"/>
              <a:ext cx="6350040" cy="385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Box 7"/>
            <p:cNvSpPr/>
            <p:nvPr/>
          </p:nvSpPr>
          <p:spPr>
            <a:xfrm rot="20926800">
              <a:off x="2583000" y="2664000"/>
              <a:ext cx="350064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fr-FR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fr-FR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fr-FR" sz="24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4T14:12:11Z</dcterms:created>
  <dc:creator/>
  <dc:description/>
  <dc:language>en-US</dc:language>
  <cp:lastModifiedBy>a</cp:lastModifiedBy>
  <dcterms:modified xsi:type="dcterms:W3CDTF">2015-01-14T13:01:22Z</dcterms:modified>
  <cp:revision>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