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94C-973F-4144-B90E-236E77C78B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畅想在想象力的自由世界里，寻找内心童话般的城堡。这里有中世纪的雕塑，油画中的人物，还有现实的动物，混合出一种视觉新体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2C30-9B99-42C7-BC01-CE6F46E999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往城堡的石路花坛边上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75A0-DE20-42DE-A782-851AE429CD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接近童话中的城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63F7-1C7A-4ECB-AD7C-982426D04A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的自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7BCC-CF93-40BF-8D51-8DDC34948A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6A0-83BB-4D20-9837-737BC88E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F6F-245B-485E-BEBD-64D53437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D6248-362F-41E2-94C6-38CBEB4B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631D7-B71A-4CE9-A6E7-CD32259D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8D203-CAEC-4CF9-B8A5-3ABE7084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F9B48-793B-441C-8221-50057C3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A95F6-2ED3-4405-AA83-0050BCB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F09C1-EBD9-4BEB-88D1-F266651D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539A1-D1F5-4BC7-99C9-341F9980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CD3AE-7E8C-439E-B24D-A897117D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9FA59-B755-468A-B69A-825744A5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75019-B7A8-4850-B8C6-720BADD6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68D-EA00-4D08-A672-3828E819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1CA20-B09C-42E6-98A2-BE59E561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A403E-E8B9-40CD-B00A-EFB2C6EC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8F388-1388-4F89-93D1-FF37E47F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C7CCB-E57D-4C85-9AF9-82A65B53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23B70-06BB-40F9-AF00-F1F8B0B4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A0390-F67B-44A6-B3C6-556795D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19947-1424-45FE-95CC-5DB54129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0879B-2314-4837-8BE9-E05D4152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2316E-488D-40B3-B1D2-99DE218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CECD0-05D6-41C2-975E-4EB6EE4F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BB8-5B44-4704-AB4F-DD5369B6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28CC8-C1D0-4003-9993-614F43B1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4DE71-6F4F-4694-B1A7-3F11FFAA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78DB8-1A84-4C1B-B4D0-8D475B86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8A6FA-B262-4E59-B426-5279856A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D6DFD-301A-4BBF-B0DF-07BE514E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719E7-387A-4909-ACBA-049FAFD3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5FDF6-0FC1-4DD2-A806-6B6D761E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710A7-B6B8-4CD9-A1FF-6DE84C35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12F0B-93B9-48D2-80CC-C8398085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0676C-AF79-4B82-9248-9F61D65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40CA-9170-4A24-9420-AE6B2336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E2985-F98D-4406-8093-C4FAD900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47244-F999-46C0-BCBD-6DD16A96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B9821-69E9-4E63-9BFD-565B433A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A05FD-7354-46CE-82DE-CCD5C492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A05C5-A17B-4016-9EAF-41895B26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DEDDF-ED8A-4C0C-ADCF-AB201ED6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0639B-8AC0-47B2-8EDC-A327F773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4A818-EA5B-4D2F-B98D-ABACAAE9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F6D63-111B-4C25-8EA3-D23B412C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50EAE-A9B0-4D4E-AA86-F19D7FE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86BF-B3D8-4DDA-A6DC-EBA2875B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39861-AEEE-4E1A-AAD3-53AB1F91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A3CD1-BA46-41F1-8F63-724CCE38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86778-1E93-4E6C-8A61-BB22DC6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291DC-3C7F-4848-AE24-2775426C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A2F07-9FC8-4319-A2A4-B84A3BA6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E3851-1D1F-4294-9F5C-A76E8FC4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2FEBB-ABF9-45E8-A456-F94ABAB8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B1997-3369-4DDF-AB75-7D2EF2E8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E64F3-818F-4FC6-B110-EE240AAF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DE60C-0E52-4778-B079-D71410A3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AAFE-E41A-4C70-A8B8-E003716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57EE7-7366-40D7-83B3-F76B377A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17A47-1DF8-4417-8CCD-3EF01D21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95027-E8B1-4B3D-9C20-EF759CB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9AFB5-B721-4693-BEE3-C0C2D7F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1584A-2292-4629-9AF9-B276B287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16BD6-E771-4194-AEFE-B93EA13A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AEEB9-0C45-4EE3-B51B-FB08DD1B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3A4A-26E2-4673-8C75-531C8ADC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5A4F-5EC8-45D6-BFF6-E820B7B4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D1AA-178C-4AFD-8A68-2DA64B59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1F0-A748-4AED-AE80-E34A042C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E0B-11F5-4916-9BFB-2612713D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4743-D6A2-4144-9232-2FF91C73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7820-7811-4227-A4EB-F9C271DD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037E-DD19-4669-8614-25154A85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3BBD-8F93-48BC-90E2-019F4B2F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ED1B-6F52-47ED-B92A-0DBEC604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EFC1-102C-4743-9C12-6AB2E0A0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D12D-2ADA-4524-BAD8-383B2725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E6FC5-68E1-4260-B9B4-307E40C4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D756-6CAA-4976-AAB5-2C3D7FFA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8F2E-D576-4530-BF07-DFF01342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03C-9649-4BC8-A53B-1B0C5ABE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D2F2-FBD4-44F2-A0FA-CCF43A97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62EC-A136-4003-8E9E-64C7FBC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3DAC-121D-4AAF-ABD4-EFED0A6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FEB7-D7F3-4621-8724-2321275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216E-42F6-4C46-A98E-436AFC10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6746-CCBE-40B6-96AD-126DE471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A9BC-A1F8-49DA-A2AB-5AF6C07A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73CD-1A4E-4C1B-B596-C9FFD919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73AC-1DEA-4ECE-AD05-3F6FE7F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4329-3BF2-4087-8CEB-C2852ED7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0F7-55D1-4382-9324-CA0D3FD2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91DC-B1D4-4A2A-8E38-0714CE25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60E8-8FEC-43EE-8CCA-F409B3F0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D29A-2AA4-47A6-88D2-A0AE44D5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F5371-6E15-47AD-8F8D-3BA2DF3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EA66-6ED8-4C22-B51C-591EBC6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854D-EC34-4A86-AA3F-6473F5E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AE9B-657E-4A24-AEF1-D5A26F50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6AAF1-45A0-4F74-8237-912B3A31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9DCA-DFED-4030-B4A8-883B9DFB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52DE1-F2CD-4DFB-9BE1-91A7CB23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8B8-B6DF-460B-BC7B-D2D416BC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8FE5-71D8-4690-83BD-F1EB22DE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A5666-5E6E-46DE-B628-166D6ECA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E47A2-F74B-46FD-A5C4-1FABFD05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D4826-C08D-43DA-A66C-85A8572A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1E6B-A7DF-4D0C-9111-1F2011FD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A40F-B935-45FA-9B18-E6404FD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2829C-2A16-4C5A-B7A2-B48ED8C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1D51B-0771-4E63-B1E4-529D273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CC54-866D-4E76-AA72-F456D936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E804A-A603-40C8-978C-C8BE9A3F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BE3-8343-46A6-AA09-F069832F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737D6-D3E9-48F5-A9B7-8C0A24C6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E06D9-E655-414B-A68E-A6B6AD78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5419-A213-40F0-8B7B-7939D749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7252A-E092-4603-8342-DD8C6654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7EE95-116A-4C3C-A7B1-CE09594C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A99A-9BB5-47C0-8BAC-79B586D9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8923E-EC14-48A9-B830-6D1CB172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0463-87AA-4257-8CF4-B19E13A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76F35-C6EC-4A4E-BCDB-7F7A20E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9785C-DD5A-4BA3-8A4E-E633DD03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DFB-CC45-4512-8DCA-43A3CDE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1F96B-90E2-4217-AEC4-E9A4BCFD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06544-DADF-43E2-9924-AEEFA984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E6A83-2FC0-4CFA-8E93-943ACE77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6818-FE7E-45B5-878B-D4CEA0A6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FA6FF-62AE-4079-892B-9CEF93F7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D8AB-7FB7-48EE-821C-7F92A418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65146-7E0F-47AC-9825-7471A9A0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4C2F5-432C-475F-A217-3F6946E1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1831F-3875-4D4F-878E-E03A1052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F32A8-996F-47F9-AD03-7E094937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ED4-1A0C-426E-8197-7B75283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8FADD-CE50-4000-BC4C-1ECD2DF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8010D-871D-4094-A9C5-51DA4269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FC2A-0A32-418F-9521-B1B83FAD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31D0B-B81D-4E20-B1EB-6A9CAED0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9DA81-2947-4170-9A12-DE84C5EA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D71F6-D4B1-483B-8051-BE4F59E4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5B718-AFC7-445D-8F68-CF64FBBF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8601C-AA81-476E-90D4-DA03AFB7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F39CB-0D34-49C3-91F2-567B5AA8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D8A4-DD77-42BA-A124-9C8286FE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173-C934-49EB-83DF-2EFEC6A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58CDE-D5AC-43A9-9F33-E8CDF870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07D77-50DA-416B-99C0-C68DC23F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47D5B-3BB1-4E09-8ACC-05653C42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FBA5-1746-45E6-958C-13C22D2C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D7469-C80E-42A6-9F0F-C60DF09B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BBAD9-731C-433F-8669-B76E83F4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D0768-BEA2-4237-8A22-5D528D7B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415EB-A53F-48EA-B88F-D1C97ADF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67E79-4141-49C8-A3C4-ECC3CFF8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483CF-A5E4-4171-8451-792B8B8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D3CC-B937-43C8-9702-AF6BC8F692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6645-6AAD-418E-B20E-BBBA26BE6E1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6F04-D119-4969-AE15-1C47281FA61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49A7-6B57-4F75-93F2-A64B93F26FC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DA94-9017-4589-978B-8F22FC4656D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4EDB-39C1-4284-9838-5A7C4E5AA19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2A59-07F9-41EC-99B5-140CB336B32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E52-1B9D-4CA0-8DE9-B48D6C08547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4EA5-EFEC-4B04-90E9-D5301D01E6C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3803-A7C8-4D56-9C62-CBC791611C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9309-5ED1-4D44-8E4B-1567DF5F76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B6EE-06AB-480E-BD43-875E97AE49E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D98F-3824-46DD-A6C6-CFF4C6A0F4C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B48-3351-4676-954D-D93B378C089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5F6-50C5-4E20-816D-B3EAC7C651A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09E1-A05F-4B6B-AC9B-CFB72C88D5C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97D2-498A-40FF-91B5-D0378FBA09A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D10A-7922-4196-933D-948700F2E01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9E7D-A951-4F1E-95E5-8B754A58FC7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8176-52CC-4D1D-BA34-88C7F46B243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CD6A-CDD8-4862-8FCA-282F78D30C3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34DA-A967-4AC8-BB0E-8F39DFE82AB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EBFA-D51E-4D3A-B0C8-87F24D3F42B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903-9257-4CE9-8449-3CB73299043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447C-461E-4D6D-9B2A-C54E9DCCB4D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1welcome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" descr="2agenda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3signle_title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2" descr="4content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2" descr="5thankyou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6T07:42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