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631-F4FB-4E89-A03B-32205D13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8C6-B9C5-4D95-95C8-7ED7DBE1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CDB-5B00-4D16-80B9-5BB01FB9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038-107D-4348-B7E6-A87D580A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F7E3-E1C0-4B91-87FC-5AAC9F4C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7EA8-07A9-4903-BC56-935DF3D9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25DC-DF17-4452-AB8F-D6DD4A96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3B4E-C3BA-48E7-8245-40B9DA95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2F91-DE90-467B-870B-5B1E1DDC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FFA8-2159-4B7E-A466-212E8C65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8439-1958-4608-80B7-2A46AAEB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0BA-A15D-4845-BBCB-7A630421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B928-ED1C-467B-A7E1-F589AD50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FCC4-AF90-4C16-8FFB-6197CD83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9CE8-B2A7-4BBC-AF4E-0954ABD0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EED6-1C06-489F-A1F2-683ED6D0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8EAE-F524-4C1B-A170-E8E46878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B2DA1-9D36-4CB3-8ED6-2EF39F7A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6F759-D70B-46CB-A8C5-649D2E11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818BC-4D3D-4056-B970-82F8009E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3F7C-DF99-433A-A872-596859FE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C329E-2AD8-4D86-987C-F8D4C290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5F9-B93E-45A7-B770-F1B15B17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F1D3-9A41-4F31-B800-85598A9F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76037-2788-4D08-98BB-BF273809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65D18-9C94-4A19-8F94-DD6404EF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3D0E-32C4-4277-BFA5-BBC03400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17256-09D2-48C0-AA97-2A1D5828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BD17-4548-47CF-AE14-45F27FB9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26CD4-7BFE-4949-A287-2D34A88D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DA7-359F-45FC-80D2-D273181E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621-2DC7-4C96-B8F1-4F460B72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186-D687-4C2F-B176-F386B51B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C96-5E1E-4F6B-8599-C7344B00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014-BDF8-4BF5-AB83-181FBDB2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DE6-F85A-4DCD-940A-730808A8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/Documents and Settings/Administrator/桌面/未标题-11.jpg未标题-11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BCF5-B693-4F84-928D-B67B77E57F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/Documents and Settings/Administrator/桌面/未标题-13.jpg未标题-13"/>
          <p:cNvPicPr/>
          <p:nvPr/>
        </p:nvPicPr>
        <p:blipFill>
          <a:blip r:embed="rId2"/>
          <a:srcRect l="0" t="1476" r="15197" b="0"/>
          <a:stretch/>
        </p:blipFill>
        <p:spPr>
          <a:xfrm>
            <a:off x="3240" y="468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32000" y="6310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3EC8-99C3-4FBA-A626-C5E6234463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400C-3AEE-4133-B379-169675B478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32D9-4BDC-498D-AB5C-B834A5CB56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61080" y="62373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6:03:50Z</dcterms:created>
  <dc:creator>Administrator</dc:creator>
  <dc:description/>
  <dc:language>en-US</dc:language>
  <cp:lastModifiedBy>a</cp:lastModifiedBy>
  <dcterms:modified xsi:type="dcterms:W3CDTF">2015-01-14T13:03:4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