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8CB6F-7414-4941-A19D-9D66877148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3D58E-A0D4-40EB-9850-21BED0A0AC7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19189B-FFF2-48B1-9B98-BB7510D7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785211-4EC3-45D5-B39B-6F4D2391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578466-6C55-4C48-92F0-F932C5F5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459AB6-9826-4666-80E5-E15697C0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F90957-EA02-4AB0-AC53-FA2B0BCE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84E1D8-4262-4D0D-B788-F7C0FE11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6026E9-9CF0-4928-A63B-B2434452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D72989-EDD9-4ABA-A518-3D5D927BB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AA9CAE-D61F-4467-B548-9CD747B34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7F9D21-0DDD-4AD9-B2C5-71B326350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EB2C9-245D-4C63-BEA8-D5762A9058B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FC3E05-B6B9-436D-A665-A7F2D971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2C63D0-8788-47E8-91CE-4A5908CC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A233CE-577B-4002-A3E7-E1BFEBE4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0BD9D3-14C3-4130-B1EF-27D31FA2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4D028A-260F-4457-9854-A3C6BD66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79F558-06C8-40AF-8863-B72999EB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B75B97-E0D5-48AA-ADD4-8FEC64FC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72281B-91CB-4DB8-A432-0B763E2C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7BE7DC-9219-43C3-8222-8BBD1CF7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B265AD-A58E-4C8F-9687-396151F3F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8AAEE-9D12-43F6-8BA9-8E64885CE79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A301D7-ACCF-4B22-8D1A-5727ED850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58CA30-FCC5-4A2C-9733-D52D14291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22BF0F-CF8C-4CDF-BD9B-4C22B659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1772D9-02C3-4FBD-8B88-C9A33815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39CA9E-2346-46D6-ABB8-8070051F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849C20-94F5-4D39-B2BC-18F63965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97144D-423E-44F7-831C-BD0F5CCC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786732-A9A2-4763-932D-48C15E24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25E37B-2E20-47E3-A5B8-53EE99B4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FDDAB4-D696-4984-A5F1-972E3DDE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5863A1-234D-48A3-951E-81C819BF9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D163F7-87E2-4D81-A345-F83B4FC6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0F834B-6421-4297-936B-96D09C71F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FB92B3-9BDF-42D1-8263-1C98E3662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2F5B372-5510-4B2A-9F36-6930489D6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FCCAD95-534B-4E99-8D12-87B32153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1E84A68-8D4B-4620-9475-2AA41368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59668A2-8EB1-4D86-A081-C352C92D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A256394-7299-47D1-BC45-74250ADE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1D5C2AE-C8FE-4531-8210-E541A0D3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806BF6B-A3B5-4764-833E-D7F1ECAF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33C417-D6B9-4BEC-B4ED-95F7E7D9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E82E4E3-7863-4E4C-AD6B-3705BCDC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15222AE-E579-49E0-865E-49C551A2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BE9333E-79F8-42E4-ADAA-5C8ABADC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C0B0A14-5E3A-4481-8653-574DF3D4A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CC8221C-E63E-43DB-BA66-72622DD49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5BF9A7-1842-45EB-9B12-3ADDA977E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2A2AD9-4B59-4398-B3B0-A42870DF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EE35D2-17FA-42DE-AE33-88FD4058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9417DE-22C8-44C7-9EE4-E2A2D2B3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2ADB2F-2198-4D1D-8F69-516E350C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5985E-45A6-42DA-8770-C80B1A14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8893FA-DE86-4150-8C7F-F9F9B5B6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9057A8-6016-4D7A-B75F-AEF69D7F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5FC37A-72A9-4C3A-9AE9-67242797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69A5E2-C617-4160-8644-6DD37898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F688D8-E813-420A-95F7-020A8FCD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39B890-5D72-41F0-AAE0-004BAFE43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A1A6A9-BC58-4E4E-9DD0-03013FF11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50BFB16-1B59-4FAE-A54F-18E16444A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A378604-D470-46C6-A769-52A6A9AB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C794368-0BBD-455C-B4C5-B7A2578E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D494C3-F01B-475F-B3BC-4FB040DD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4CC1AE6-E052-42F1-A861-C1F94DA7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B9C3FF0-593F-4418-9C80-6FA9572D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78C39CD-3E07-4B4A-8C8A-20BE230E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FD14E39-FDEF-4D21-8BA3-D61A6D64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958DFBC-F0CB-4D1F-AC67-C71B0DD8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6392310-5724-441F-81E6-0E4905CE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75CD651-8C76-4CFD-941E-EA61A537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BB172F1-D32D-4E33-B68D-00BEBBE33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3565E79-3505-4C05-9C65-9C9D4C313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F8F774-8A01-4EE6-951D-C9A4771A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4B887E-DD43-42E4-A16C-FBED5E2C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B0708-3CEA-44D1-B7ED-A47731CA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7D3D2-3102-4400-888D-27A1FC2BED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906E0-87B7-4050-AB0B-AEDBF544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51430D-2972-4090-B10D-E15B9FF5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98B488-2166-4A6D-9281-841D77E7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53AFA7-AEF9-4FDF-9DF3-4AAC2F4AE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A15150-F37D-4184-9981-841B28024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7F8B4-F006-4AB7-B0A0-63724047AE5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3BEFC0-6F41-4C1E-A91A-742AF13FA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7B04E0-51C8-4B2D-A64B-9D714D9D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AE828E-17CB-48AA-9F94-DF8C6B81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A6203-0367-4087-A126-88CA8743231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39E79C-28C8-4AB0-869B-010A1593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860251-8895-4E3F-A3BB-422F0288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73FEA2-69EF-4A40-BC05-EDEA37E7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D42D3E-639E-4812-9DCE-A175C358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DD17C7-91EC-4BAD-8051-AF173809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67BBE5-5A4E-4938-B387-E0850C63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C866D9-34F7-4456-B2B8-E79687BD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2935A5-6805-42C1-BA04-E3F3D5952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1DA20D-E319-45A0-AE47-001B7D151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F76C86-1BE3-4C82-9FCD-F79480FC0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EAE93-E9D0-450D-8D36-147032E7F02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3492BF-31CF-4DA8-B4F8-95D6D1E4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CD0B01-38AC-4AB2-AD24-27C14634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FD8A71-E855-479E-ACD0-7490AC53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939F8F-CCA6-4139-A4E6-EBDC0C15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6C2584-77CC-4846-A52C-C03E3270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95F8BE-0C84-4A3B-9308-4AD34EFF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3905D2-E865-4269-BA5E-DA3AAD5D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1BFA74-F0D5-446F-A83A-1ED0E576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BDEFE8-562F-4748-AFE9-308FF1E9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B8BB4F-EE03-4229-AA92-5DF26FCD0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7FAD5-4B50-486B-9521-58AD5679D9F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01EEE6-7288-415D-8CDE-A0BF16E1C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910368-DB1B-4CAB-B436-63EE51719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30B1A4-E492-419E-A27C-9DA27494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62EAD3-3AC2-40C0-9EC3-E7B1EA91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A20B9E-11DA-4E84-BB4E-F18D6EBF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0BC7D6-324A-49CC-867A-FDFDB0C4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44CCC7-6C0C-4C81-8DF8-176992E6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7D9AE2-DA1E-4D69-9474-2E745DE1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B6939A-94DD-47F8-BFE4-8737E3B8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E33B72-74C6-4491-B80A-DCD7D97D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EF9C6-02AC-46D7-AA36-6E49ECF3315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AC5BAF-C8B0-4471-84DC-C05F4E81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AD888F-116B-4C79-9CF7-EC1C2789A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1B8A25-9327-45A3-B4EB-B686FE825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99A942-0C36-435C-98AA-E7086CECE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6E8DA3-228C-4BA0-884F-E8568A05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13137A-D2B6-42C9-9A3A-66F0647B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FE0DBD-3D7F-4209-A0F2-67AF1E42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1BA738-A641-4E21-9593-E9C2BB7E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064FDD-8634-4A11-9DC2-A3ADEF60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0AD912-01A3-4BB1-B34D-3D177C60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25CA8-8D2D-4652-B7D7-97FDAAFCA6D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08403B-C24F-45B6-A18D-BFD7BA32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E016F3-8CB0-415B-B8EE-A78FDD2F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0058B1-D041-4D19-9558-B3221EE3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5ED680-C485-40AD-B13A-F2BC937DF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11AC01-7AB7-4A12-B9FD-29019A450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3C8272-F7E4-43AF-ABC5-96A7E800F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D0B2A7-71BE-4A0F-8640-6A51E956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157484-947D-4515-91E3-75BD88F7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2783EF-C004-4381-B3F9-341C7220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84EE2D-2A3C-46A5-B6A6-2ABE357F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4684A-EFEA-458F-9C6A-AEA122203F0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2EA866-4B31-4496-92FB-E2C2F291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16D03B-F196-424C-8798-EF831221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AC258D-61DC-4BBF-ABC4-74C4698C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3D6448-7B25-4187-B0F9-2694DFDB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669073-FF3D-4E0F-9776-238CCCB4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69914D-9992-4271-89D4-ADE881F2B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8A1423-ED30-40AE-AACA-CA1A5B9A9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875D0A-010D-4942-AB44-97A5FCD80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26524F-F81E-47F1-98B4-F4F42E72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0F07A2-FB85-4A28-8CCC-D76231BC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g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261800"/>
            <a:ext cx="8207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b4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b4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b4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b4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235640" y="64018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C8F948E-B874-4FB2-A913-1483D5EE6DF8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2842920" y="348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1861-D240-4DAF-B415-BD890C553E0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2D14-707A-4725-9997-13D6BBE9DC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B8A3-9A49-4B59-9722-508E0D9ED20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C8C4-E59A-4575-A5CD-7E2DDAE112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E034-823C-4275-B5EB-1E7D5BE24AF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0403-2073-4772-84E8-E7B6E31625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E570-51D6-46CA-9505-D493C2F5608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AD0F-91EE-4CF2-B1B2-69D826519D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4E9E-1D4F-4F08-A38F-7193517EF67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90E0-F435-4487-B33B-41ECAC1479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EE71-A6D6-4A8E-8458-60B2F876302D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F5A3-D7CE-440D-9EEB-96FAE58EAE4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468360" y="1261800"/>
            <a:ext cx="8207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b4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b4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b4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b4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2842920" y="348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253C-6A6C-4F26-BBD1-5081C55005D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F011-3A4B-4D11-97F0-22E97C366E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B907-D49B-4202-A795-D81AC62901F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6BA9-EA80-44F5-ACBE-8596065249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73F2-BFBA-4890-9405-DDD5C9612F7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E825-5D9B-4E56-BB39-0D6151F1F7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6A72-27D3-4601-A341-9D7119E55D6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0973-1C7D-4232-81C7-135EBF3C21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C0168-0DF5-4592-A907-3BDB2E3B7B6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B9A3-ACDE-4A97-B8B1-81EA2B392A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3A7A-0EF1-44DB-A988-4FE266D7A8C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2A4E-F987-4D11-B579-091C4A032C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68360" y="4094280"/>
            <a:ext cx="54086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76280" y="520488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2"/>
          <p:cNvSpPr/>
          <p:nvPr/>
        </p:nvSpPr>
        <p:spPr>
          <a:xfrm>
            <a:off x="1785960" y="3995640"/>
            <a:ext cx="11271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文字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3"/>
          <p:cNvSpPr/>
          <p:nvPr/>
        </p:nvSpPr>
        <p:spPr>
          <a:xfrm>
            <a:off x="3981600" y="3995640"/>
            <a:ext cx="1126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4"/>
          <p:cNvSpPr/>
          <p:nvPr/>
        </p:nvSpPr>
        <p:spPr>
          <a:xfrm>
            <a:off x="6168960" y="3995640"/>
            <a:ext cx="11271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0" y="6453360"/>
            <a:ext cx="1511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1c1c1c"/>
                </a:solidFill>
                <a:latin typeface="Arial"/>
              </a:rPr>
              <a:t>分享者</a:t>
            </a:r>
            <a:r>
              <a:rPr b="0" i="1" lang="zh-CN" sz="1400" spc="-1" strike="noStrike">
                <a:solidFill>
                  <a:srgbClr val="1c1c1c"/>
                </a:solidFill>
                <a:latin typeface="Arial"/>
              </a:rPr>
              <a:t>:</a:t>
            </a:r>
            <a:r>
              <a:rPr b="0" i="1" lang="zh-CN" sz="1400" spc="-1" strike="noStrike" u="sng">
                <a:solidFill>
                  <a:srgbClr val="00458a"/>
                </a:solidFill>
                <a:uFillTx/>
                <a:latin typeface="Arial"/>
                <a:hlinkClick r:id="rId1"/>
              </a:rPr>
              <a:t>PPT模板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13:51:54Z</dcterms:created>
  <dc:creator/>
  <dc:description/>
  <dc:language>en-US</dc:language>
  <cp:lastModifiedBy>a</cp:lastModifiedBy>
  <dcterms:modified xsi:type="dcterms:W3CDTF">2015-01-14T13:21:39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