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projctor.wav" ContentType="audio/x-wav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jpeg" ContentType="image/jpeg"/>
  <Override PartName="/ppt/media/image10.gif" ContentType="image/gif"/>
  <Override PartName="/ppt/media/image12.jpeg" ContentType="image/jpeg"/>
  <Override PartName="/ppt/media/image8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8A0-6586-4E4C-9F19-06DF044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DB3-8E66-44E7-8F5A-B45EA7B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29C40-DCA5-4021-AA8A-CEFABF5F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39AA-63DE-4B74-B4A4-E04EB868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BDFF0-C49A-42B5-82C2-72BB77AB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22A6D-9BF3-4FC5-9204-37FABD59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06D0D-A8D7-4D9B-A196-FE95860C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AD82-FFB2-42B2-98DF-E4DAF0D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8F135-D7DC-435F-A079-2E2B41F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434A4-629C-42C8-BD60-A58E840C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E8D0-93D7-4B67-BC4A-F11AAE38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8A710-7358-49AA-885A-C700B351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9D7-89EC-4BC3-B8C0-0023B170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03E68-5736-4DE1-A09F-F49F3401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74D3-863D-4D91-A190-E74FBA9F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78E5E-DFB5-4332-8F86-FB08AE3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1BCFB-54CD-42F6-A9AE-63C1B122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28626-6E4C-4372-9A3E-3393D4F7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AF945-22C0-49E7-9D99-350A31E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1E57B-AA4C-4076-A3D0-C86578D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19984-34F0-469D-AF9F-A83C37AE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E31C6-DC94-46B3-BD25-3ADC098D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31637-40E8-4D5F-80F9-BA88B4B4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E33-7E76-430F-9D1B-6B5A12F5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C9AEB-5A29-4FD0-8866-F5B09551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32683-8FB1-4675-84BC-86E5CAEE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579EC-B42D-4DE2-842F-DB50161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F742-2AC2-4C86-AFBC-EE634361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E501-54AB-4A3B-BA9B-C35B553E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D5B6F-DBE7-4E94-B347-97E710C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0EB7E-BF38-4762-981B-F9DDD4EC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156DF-0E85-4B6B-A578-9C89394D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BC99-8C7C-4ACF-97A9-6E1E5E2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03204-040F-491A-B384-EFB5F782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A0C-8D89-435C-882B-B41B3CE2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BFD16-8CDA-478F-A354-CDDE76E6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9C43-670F-4035-AC73-4CA2615A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BF921-052B-4CED-BFC4-652A9E79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4E939-11E3-4763-8FDC-1418C61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D45DC-EF10-4DEF-A19C-4887F269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C2DBB-BAFC-435C-B0B6-648D8B2E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4C3D8-B387-422C-BA04-2776C74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526F5-E85C-4080-ACFD-99CF6723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D200B-B856-48B0-A7E5-421168D1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A42B3-9A93-41F8-A0AA-D4805988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A2C-FB55-49EB-8317-31D789BC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9D953-D9E7-481E-8382-2FB69FB9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5DBEB-35A4-4E57-ABF4-ACB73A7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7461-4D01-4223-BAA9-302B288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C72F9-9C53-4944-A740-22659FF5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1B7CD-35F8-429B-B7F0-D1DE6729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C2992-7310-434F-A1FE-073B1550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E68AF-71C7-417C-B7AE-59EE2E5E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E7F13-96D0-4A1C-8BE6-62B0161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9BB52-088C-449C-9FE8-95F4142D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2BADF-AD9F-49C9-A9A8-7265D05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A057-439F-4391-91DC-B9ADFAF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A1558-31D7-40DD-AA7D-7A010D0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A50D3-9456-4411-BB1C-C8516C0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105A1-7F10-4FA5-A24E-6233AEC2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C7DBE-E50F-42A2-9E03-D33FE53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D5E77-48FA-4E99-9FA0-7255950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473D5-DE53-4B20-A952-974C4015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85E94-8F81-45FA-8C65-94212D9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4AD09-CB34-4610-B650-A2A72688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6E02A-58EB-46C8-853C-7AE8D22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5D705-D844-46ED-A569-1E5634C0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D1DA-7CEF-46D4-AE41-3E973802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A2B39-E3B6-4FC8-8507-DD46EB1B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D54D8-EAED-4C38-9377-523B6EA7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9FC85-1D94-4BC9-B211-D60AAD1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34498-84A5-40AD-8424-F771145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A1FCC-F465-4ED3-8B19-3B2CB1D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D1D8D-62FC-46CF-845F-E7178BF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3EA7A-24D8-4647-86E1-1A333ED1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BF813-006E-46DA-BD53-D8EB8440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F4733-F95D-4B38-8453-757A163E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D7D-F0CD-4244-90C3-A5D197E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7E7C-EDC2-495D-B71C-FFFE9FA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CC5B-5954-4D1A-B25A-3E1F116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51E-0907-4B2F-95F1-5422CF75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6410-8EF0-4EE4-B7D7-290715A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881-C4A2-432F-9BA6-A4D0E5F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4D20-5F5A-4AB2-BC7C-7DE54F19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F15B-0F4A-470E-B3FA-3CBD345C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AC20-4BB1-4F15-94A0-7E78E98C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814E-FE9C-4856-86DA-D24ECA47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1C4F-EF26-482D-95A9-A3F66A7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8E40-62F9-42D4-A3A0-2958D0EC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A4684-9235-49C2-BA2E-50408FC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065F-0456-4159-AC9F-812FDB87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D3F0-AB29-4CC7-8DC6-10A5B1DF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05F7-37EC-4B74-85CC-D747E4C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A022-731D-427A-95B5-EA86620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5C32-3F97-4841-AA98-A822A026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9997-EC96-4A56-BA5D-B306850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1ED9-894E-4092-86C0-F0EC62E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D861-F782-4930-BFF0-DDBDEDB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16CDD-23A5-463F-9F00-88C3B63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D150-DA20-4963-92EE-3297E2EC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77C7-F9CC-4A8C-8849-52779EC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AB362-86DB-473E-8325-B5AC416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DC2-4AC9-46D3-9BB7-6967BCE4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9B10-BD2F-467D-A64A-1B12C37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92BC-79A1-4FC3-9DCF-3D0CCEA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6A09-E840-4F4F-8589-22EA15E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287E2-4F78-4660-B51C-669D2BE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4555-328F-42CB-A55B-057B24E4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1F2A-2BF9-47B6-A744-F276A242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588A-3463-4210-90E8-7F415115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5D71-2139-4DA0-BB4E-8D46CF66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75695-AFD6-4C7B-BFB4-9EFB0F1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D6C7-E802-46D6-A43E-25D7D963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1BE-7BB2-440F-B307-45F66957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4324-9A2A-405B-AB24-D116788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9D6C-2B75-4630-98D0-1F1D00AF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E329-CFC6-436E-A8C2-D3EE5677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81F33-DB7A-4402-B4DC-DAC06BF7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92B1D-D7CF-49F8-A41F-9B75AFE6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F4DBC-6C83-4C6E-8736-783924F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0E763-72F1-41C3-860E-07AFC23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7913-DE10-40AA-857D-079F627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ED6C-10E8-423F-A99D-6C844B73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845C5-6269-4480-AF20-F6ED4A92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008-6922-4D4C-8AAF-D11EB00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C0B34-13C2-4CE2-A2FA-5A8F7B5F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FD1B-D4D7-4662-B967-9DB1AE17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53247-7363-4267-AAC4-E0C300B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059A8-B7D6-47B6-B3C3-DD3045B1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8A58-C68B-4585-82E0-7501046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0E002-CF0B-4839-AF90-992D90D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8670D-D498-42C4-A011-ABCC7C5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6D9C-2C7C-4861-A4F0-4CCA823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196C-F88A-4DA7-A018-5588913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5024-591A-4543-9583-E81EBFE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D85-D242-427C-87EF-6AFD2BAA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B397-4E2C-4D61-9C84-266164C7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EECA2-C3DA-4F25-AF63-5C23DE4D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FFD3E-F536-4FD8-9E8A-F5A761B5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8E38-B504-4129-917B-40A24928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887F-12D9-44FF-B03C-94349F84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7221-760D-43D2-B9B9-340551E2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7931A-5FDE-4EF9-8F49-819F38FB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1D7BB-EB6D-4FC1-892C-7ECDB93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0B53A-3369-4A9C-939A-62CB68D6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F7A6D-65BD-49AD-A79E-7583382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F51-125D-4154-A419-257D249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6A92-DD63-4E03-A388-BC6A13F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43B26-30B4-4644-9C10-7092975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896D-7BE5-4D3F-AAB2-846C415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AC4D-0201-4F8C-962B-C6E7A5D3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F9C66-5C9A-40CC-93DB-41CA402B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9ECFF-B2A0-495A-BC39-CC69186F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8913-1B32-4F62-9702-C6EB559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DD28-7626-44F0-B417-2548F156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F813-C4C4-4FDA-9949-45A74FE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3BCD3-406B-4A75-A508-7D69E95F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159-DD91-4DEE-AC75-AA42837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0AA2-E29A-43C7-89A5-2C0D652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2957-C6D4-4232-95D4-35118A0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7907-0345-44FC-8433-8E1389DD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91D9-95B8-46DB-A376-ECD71674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F7547-7781-4D92-A63C-134C08FB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5E6C9-1600-4CBA-85C3-2AAD4D57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B71C4-818D-415A-9461-BD03B02B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41129-99DB-4D20-B815-7876A336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5C3B7-4BCC-4589-81CE-0876BB16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313C7-5AF9-470F-924C-161A7E38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ue"/>
          <p:cNvPicPr/>
          <p:nvPr/>
        </p:nvPicPr>
        <p:blipFill>
          <a:blip r:embed="rId3"/>
          <a:stretch/>
        </p:blipFill>
        <p:spPr>
          <a:xfrm>
            <a:off x="0" y="666720"/>
            <a:ext cx="600120" cy="588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D97-D03A-4A3D-AB6E-16F8175DEACF}" type="slidenum">
              <a:rPr b="0" lang="en-US" sz="1000" spc="-1" strike="noStrike">
                <a:solidFill>
                  <a:srgbClr val="000000"/>
                </a:solidFill>
                <a:latin typeface="Trebuchet MS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6D54-6AD4-4BDB-BA48-72CEE6F5267C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CD5-C7AC-4FE6-A03F-0B4F2B735A2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160-4A7B-4A6E-AB21-5206B0ACF187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2E3-5D42-436A-B2E0-662D1F989E0D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7C2-D74B-4F1F-9571-1A00F36BF64C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4745-0ED5-48A8-A113-661F6687779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1DB-1A37-4B01-A855-1AEA5C307AF3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92E0-8B63-4E0D-9D6D-FFBFCE8AF50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50B8-D45B-4C0A-8D0A-AA70507611F1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EC2-8E1E-41B5-A84E-0BE419DAA80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142-F470-48E6-85F4-E036D5B75A5B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F9B4-1036-4C6C-AD21-D1CCCF7B233E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Trebuchet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Eras Bold ITC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4779-BF84-4BC2-B034-AEF63123E806}" type="slidenum">
              <a:rPr b="0" lang="en-US" sz="900" spc="-1" strike="noStrike">
                <a:solidFill>
                  <a:srgbClr val="000000"/>
                </a:solidFill>
                <a:latin typeface="Eras Bold ITC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AF60-BF6A-4456-BE42-AF4A583D0D51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674-D312-4828-99AD-19B5CE00FB7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9D7-ACB9-4C7E-8936-68B4343E8379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77C0-E761-4B75-9366-50A6FF32ACA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BF39-BCD1-4B1D-9FB5-8B5F8B28BBF6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CCF-0A81-4019-ABA1-35EE43C987D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9352-5FF7-4351-843F-5151982720F1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B075-B90F-45C8-ACA7-ECBC59DFE64A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070C-69CF-43B7-B7FE-7153589B20BF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47A-2066-4B50-9C27-6D778ED83444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6D2A-1E48-4988-B3C9-4888BA702FC2}" type="datetime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22CA-3B36-49DD-B335-E9C6737B18B0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gif"/><Relationship Id="rId5" Type="http://schemas.openxmlformats.org/officeDocument/2006/relationships/image" Target="../media/image5.png"/><Relationship Id="rId6" Type="http://schemas.openxmlformats.org/officeDocument/2006/relationships/image" Target="../media/image14.jpeg"/><Relationship Id="rId7" Type="http://schemas.openxmlformats.org/officeDocument/2006/relationships/image" Target="../media/image6.gif"/><Relationship Id="rId8" Type="http://schemas.openxmlformats.org/officeDocument/2006/relationships/image" Target="../media/image10.gif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ue"/>
          <p:cNvPicPr/>
          <p:nvPr/>
        </p:nvPicPr>
        <p:blipFill>
          <a:blip r:embed="rId1">
            <a:lum bright="-6000"/>
          </a:blip>
          <a:stretch/>
        </p:blipFill>
        <p:spPr>
          <a:xfrm rot="2482200">
            <a:off x="-608040" y="4267080"/>
            <a:ext cx="13333320" cy="1359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ue"/>
          <p:cNvPicPr/>
          <p:nvPr/>
        </p:nvPicPr>
        <p:blipFill>
          <a:blip r:embed="rId2"/>
          <a:stretch/>
        </p:blipFill>
        <p:spPr>
          <a:xfrm rot="19795200">
            <a:off x="-3122640" y="3505320"/>
            <a:ext cx="13333320" cy="1358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 Black"/>
                <a:ea typeface="宋体"/>
              </a:rPr>
              <a:t>Billiard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5181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  <a:ea typeface="宋体"/>
              </a:rPr>
              <a:t>Your Subtitle Goes He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1" name="Picture 4" descr="pool_balls_racked_hg_clr"/>
          <p:cNvPicPr/>
          <p:nvPr/>
        </p:nvPicPr>
        <p:blipFill>
          <a:blip r:embed="rId1"/>
          <a:stretch/>
        </p:blipFill>
        <p:spPr>
          <a:xfrm>
            <a:off x="5810400" y="4390920"/>
            <a:ext cx="33336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  <a:ea typeface="宋体"/>
              </a:rPr>
              <a:t>Transitional Page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0" y="5158440"/>
            <a:ext cx="9144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84" name="Picture 4" descr="pool_ball_8_rolling_hg_clr"/>
          <p:cNvPicPr/>
          <p:nvPr/>
        </p:nvPicPr>
        <p:blipFill>
          <a:blip r:embed="rId2"/>
          <a:stretch/>
        </p:blipFill>
        <p:spPr>
          <a:xfrm>
            <a:off x="3505320" y="2590920"/>
            <a:ext cx="1981080" cy="175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87" name="Picture 4" descr="pool_cue_chalking_hg_clr"/>
          <p:cNvPicPr/>
          <p:nvPr/>
        </p:nvPicPr>
        <p:blipFill>
          <a:blip r:embed="rId2"/>
          <a:stretch/>
        </p:blipFill>
        <p:spPr>
          <a:xfrm>
            <a:off x="5810400" y="4267080"/>
            <a:ext cx="33336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  <a:ea typeface="宋体"/>
              </a:rPr>
              <a:t>Elements</a:t>
            </a: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0" y="5181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  <a:ea typeface="宋体"/>
              </a:rPr>
              <a:t>www.eeppt.com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90" name="Picture 4" descr="billiards_sld"/>
          <p:cNvPicPr/>
          <p:nvPr/>
        </p:nvPicPr>
        <p:blipFill>
          <a:blip r:embed="rId1"/>
          <a:stretch/>
        </p:blipFill>
        <p:spPr>
          <a:xfrm>
            <a:off x="152280" y="346248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billiards_prt"/>
          <p:cNvPicPr/>
          <p:nvPr/>
        </p:nvPicPr>
        <p:blipFill>
          <a:blip r:embed="rId2"/>
          <a:stretch/>
        </p:blipFill>
        <p:spPr>
          <a:xfrm>
            <a:off x="152280" y="5118120"/>
            <a:ext cx="2014560" cy="1511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billiards_qx"/>
          <p:cNvPicPr/>
          <p:nvPr/>
        </p:nvPicPr>
        <p:blipFill>
          <a:blip r:embed="rId3"/>
          <a:stretch/>
        </p:blipFill>
        <p:spPr>
          <a:xfrm>
            <a:off x="152280" y="171360"/>
            <a:ext cx="1981440" cy="14893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pool_ball_8_rolling_hg_clr"/>
          <p:cNvPicPr/>
          <p:nvPr/>
        </p:nvPicPr>
        <p:blipFill>
          <a:blip r:embed="rId4"/>
          <a:stretch/>
        </p:blipFill>
        <p:spPr>
          <a:xfrm>
            <a:off x="2286000" y="1419120"/>
            <a:ext cx="1752480" cy="1552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cue"/>
          <p:cNvPicPr/>
          <p:nvPr/>
        </p:nvPicPr>
        <p:blipFill>
          <a:blip r:embed="rId5"/>
          <a:stretch/>
        </p:blipFill>
        <p:spPr>
          <a:xfrm>
            <a:off x="2362320" y="228600"/>
            <a:ext cx="6400800" cy="652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billiards_trs"/>
          <p:cNvPicPr/>
          <p:nvPr/>
        </p:nvPicPr>
        <p:blipFill>
          <a:blip r:embed="rId6"/>
          <a:stretch/>
        </p:blipFill>
        <p:spPr>
          <a:xfrm>
            <a:off x="152280" y="182880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pool_balls_racked_hg_clr"/>
          <p:cNvPicPr/>
          <p:nvPr/>
        </p:nvPicPr>
        <p:blipFill>
          <a:blip r:embed="rId7"/>
          <a:stretch/>
        </p:blipFill>
        <p:spPr>
          <a:xfrm>
            <a:off x="5810400" y="838080"/>
            <a:ext cx="3333600" cy="2467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pool_cue_chalking_hg_clr"/>
          <p:cNvPicPr/>
          <p:nvPr/>
        </p:nvPicPr>
        <p:blipFill>
          <a:blip r:embed="rId8"/>
          <a:stretch/>
        </p:blipFill>
        <p:spPr>
          <a:xfrm>
            <a:off x="2971800" y="2057400"/>
            <a:ext cx="2819520" cy="219060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12"/>
          <p:cNvSpPr/>
          <p:nvPr/>
        </p:nvSpPr>
        <p:spPr>
          <a:xfrm>
            <a:off x="6553080" y="5715000"/>
            <a:ext cx="2514600" cy="990720"/>
          </a:xfrm>
          <a:prstGeom prst="wedgeRectCallout">
            <a:avLst>
              <a:gd name="adj1" fmla="val -60226"/>
              <a:gd name="adj2" fmla="val -79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6553080" y="57150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imations of every pool ball and plenty of additional pool graphics are available on Animation Factory Platinum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45:06Z</dcterms:modified>
  <cp:revision>1</cp:revision>
  <dc:subject/>
  <dc:title>Billiards</dc:title>
</cp:coreProperties>
</file>