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EB6-0564-46F8-B984-782A487C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A84-54E5-4C5E-97F0-0F62B140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31E-3D2D-4926-B046-D1A797CD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564-CD6D-4FE4-8ECF-2F92F722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73AC-4F0C-498C-864C-4C9FFE76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3320-EBC2-4A61-9A74-2A06DC47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C9B8-5D43-4C8F-B6EF-1B743E5C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55CB-2D76-4F62-9266-466B925F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2E7B-114C-4DBD-B11B-EAA9CDE3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FDEC-C3B8-428F-89F0-BFD40F43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A1BF-5D78-4A1E-AFD5-6B77E04C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870-7BFC-4C7A-BECC-C4F3F88C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21A6-F5CE-4C13-A86E-1B8C7C30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A4A0-0219-4ED2-AEC2-FF0F497B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4845-8499-4EC8-B49E-70BA1065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4D9E-87C3-410E-84C0-3E059032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EFA1-C8CE-404A-AF53-127C0097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993-0EA8-4A41-83EC-FBD8EF5E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5A9-633E-4C8F-ABA5-69183B85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F67-0EC9-4432-BB59-073E359E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818-8042-49BB-8899-C86E2D89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D93-BCA1-4671-98E9-08E46BEF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E0F-9A08-4EC8-B186-1F2F2ED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2D7-C048-4F06-8243-8FCD164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C640-A047-4150-A155-5C7C8B4C28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9533-ED74-4E98-B628-4366C75D80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014E-AEF3-4A8C-BFCB-2A6DCBCC16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0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-2"/>
          <p:cNvPicPr/>
          <p:nvPr/>
        </p:nvPicPr>
        <p:blipFill>
          <a:blip r:embed="rId1"/>
          <a:stretch/>
        </p:blipFill>
        <p:spPr>
          <a:xfrm>
            <a:off x="466560" y="263520"/>
            <a:ext cx="82821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0-3"/>
          <p:cNvPicPr/>
          <p:nvPr/>
        </p:nvPicPr>
        <p:blipFill>
          <a:blip r:embed="rId1"/>
          <a:stretch/>
        </p:blipFill>
        <p:spPr>
          <a:xfrm>
            <a:off x="396720" y="333360"/>
            <a:ext cx="8280720" cy="619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0-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0封面0"/>
          <p:cNvPicPr/>
          <p:nvPr/>
        </p:nvPicPr>
        <p:blipFill>
          <a:blip r:embed="rId1"/>
          <a:stretch/>
        </p:blipFill>
        <p:spPr>
          <a:xfrm>
            <a:off x="466560" y="262080"/>
            <a:ext cx="821088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11"/>
          <p:cNvPicPr/>
          <p:nvPr/>
        </p:nvPicPr>
        <p:blipFill>
          <a:blip r:embed="rId1"/>
          <a:stretch/>
        </p:blipFill>
        <p:spPr>
          <a:xfrm>
            <a:off x="466560" y="333360"/>
            <a:ext cx="8137800" cy="626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5640" y="630864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09999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23"/>
          <p:cNvPicPr/>
          <p:nvPr/>
        </p:nvPicPr>
        <p:blipFill>
          <a:blip r:embed="rId1"/>
          <a:stretch/>
        </p:blipFill>
        <p:spPr>
          <a:xfrm>
            <a:off x="466560" y="333360"/>
            <a:ext cx="828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5:33:19Z</dcterms:created>
  <dc:creator/>
  <dc:description/>
  <dc:language>en-US</dc:language>
  <cp:lastModifiedBy>a</cp:lastModifiedBy>
  <dcterms:modified xsi:type="dcterms:W3CDTF">2015-01-14T13:07:16Z</dcterms:modified>
  <cp:revision>1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