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3E13-FABC-4183-B4DD-A19F19B3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A325-ADBD-4E9E-A194-6577A0EC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121-EFA0-4912-8936-7A41F338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8A52-9F33-486C-8241-FECAAC16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5A7E-C329-4F65-BA63-DE845A26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6E81-11CD-4F51-AD51-F71691A3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DBD5-A715-417B-A22C-79A2BF6B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F985-3D86-4F25-9FEE-73408762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01E3-CF9F-414D-BE45-9C390E61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5773-03AD-470B-BFAF-4F488887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0933-59CF-4000-8A17-8EA8BDD6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6FFD-0C7D-4D13-B30D-D6A617AD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E79A-3BFF-4E48-A7A9-E3B72100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93AA-7B4B-44FC-8539-C8C9CF6D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0035-4A5E-44A5-9B8E-DF0D11EA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CCC6-A968-4F93-B341-669B6EB4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A7D0-D1D5-42FC-898D-6B3BB92F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543EC-99D4-43ED-9755-A2CB4DEC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DB9F7-6D14-40B3-ACA4-CF43829E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C0C83-BE4E-49AE-9CCA-8A4A6F1C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A9D1E-1D79-4E62-B506-2FDB6FF5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AF7D4-3592-4F30-A11C-90DA39A9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429D-8C1C-464A-B537-E548D6DE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ACD8F-F93F-4EA3-A319-59E225E9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5BD84-DC07-4FC5-8719-0E7514C0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2BB62-36C0-460C-BFFC-5D2543F5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99C09-0432-49F6-ADF5-24AB9D01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1818F-8AD7-48E2-84C8-6683EEBF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AC384-C210-4436-BBE3-824F7A4B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384B7-8C82-4D04-9853-6C93F252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DD75-1533-4D4F-AB69-3FA5A12A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4532-AB11-4543-B639-C563C95B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CD6B-C002-4AFD-94C6-AAD9A15A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D466-5BCA-4821-B6C9-FB243000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668D-BB03-449B-8557-8E84C36E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456-DBED-4806-BE34-414968F3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79b5b0"/>
              </a:buClr>
              <a:buSzPct val="70000"/>
              <a:buFont typeface="Wingdings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b4bc4c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7785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776a5b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a606e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4236-0CBB-445E-8C11-097B87A2AD75}" type="datetime">
              <a:rPr b="0" lang="en-US" sz="1400" spc="-1" strike="noStrike">
                <a:solidFill>
                  <a:srgbClr val="4a606e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4b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9b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862D-DC5D-40C2-9649-0F4EA9B26D9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4680" y="6053040"/>
            <a:ext cx="2244600" cy="712800"/>
          </a:xfrm>
          <a:prstGeom prst="rect">
            <a:avLst/>
          </a:prstGeom>
          <a:solidFill>
            <a:srgbClr val="b4b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9b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d1e1e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1e1e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79b5b0"/>
              </a:buClr>
              <a:buSzPct val="70000"/>
              <a:buFont typeface="Wingdings" charset="2"/>
              <a:buChar char="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b4bc4c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7785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776a5b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79C1-F86E-403A-B768-229FEBE01950}" type="datetime">
              <a:rPr b="0" lang="en-US" sz="1400" spc="-1" strike="noStrike">
                <a:solidFill>
                  <a:srgbClr val="ffffff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1e1e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512D-A9E8-413F-B4BA-6152669C4611}" type="slidenum">
              <a:rPr b="1" lang="en-US" sz="1400" spc="-1" strike="noStrike">
                <a:solidFill>
                  <a:srgbClr val="d1e1e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83A1-44AC-448D-ACA8-283FBEAB89C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1DA1-68CB-4743-99CE-AB75F8A909B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28920" y="6071760"/>
            <a:ext cx="64771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Tw Cen MT"/>
              </a:rPr>
              <a:t>PRESENTATION  NAME</a:t>
            </a:r>
            <a:endParaRPr b="0" lang="en-US" sz="3600" spc="-1" strike="noStrike">
              <a:solidFill>
                <a:srgbClr val="d1e1e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71440" y="228600"/>
            <a:ext cx="6694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fr-CA" sz="4400" spc="-1" strike="noStrike">
                <a:solidFill>
                  <a:srgbClr val="595959"/>
                </a:solidFill>
                <a:latin typeface="Tw Cen MT"/>
              </a:rPr>
              <a:t>Title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071440" y="1600200"/>
            <a:ext cx="669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</a:pPr>
            <a:r>
              <a:rPr b="0" lang="fr-CA" sz="2900" spc="-1" strike="noStrike">
                <a:solidFill>
                  <a:srgbClr val="595959"/>
                </a:solidFill>
                <a:latin typeface="Tw Cen MT"/>
              </a:rPr>
              <a:t>Lorem ipsum dolor sit amet, consectetuer adipiscing elit. Vivamus et magna. Fusce sed sem sed magna suscipit egesta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</a:pPr>
            <a:r>
              <a:rPr b="0" lang="fr-CA" sz="2900" spc="-1" strike="noStrike">
                <a:solidFill>
                  <a:srgbClr val="595959"/>
                </a:solidFill>
                <a:latin typeface="Tw Cen MT"/>
              </a:rPr>
              <a:t>Lorem ipsum dolor sit amet, consectetuer adipiscing elit. Vivamus et magna. Fusce sed sem sed magna suscipit egesta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71440" y="228600"/>
            <a:ext cx="6694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fr-CA" sz="4400" spc="-1" strike="noStrike">
                <a:solidFill>
                  <a:srgbClr val="595959"/>
                </a:solidFill>
                <a:latin typeface="Tw Cen MT"/>
              </a:rPr>
              <a:t>Title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071440" y="1600200"/>
            <a:ext cx="669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</a:pPr>
            <a:r>
              <a:rPr b="0" lang="fr-CA" sz="2900" spc="-1" strike="noStrike">
                <a:solidFill>
                  <a:srgbClr val="595959"/>
                </a:solidFill>
                <a:latin typeface="Tw Cen MT"/>
              </a:rPr>
              <a:t>Lorem ipsum dolor sit amet, consectetuer adipiscing elit. Vivamus et magna. Fusce sed sem sed magna suscipit egesta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</a:pPr>
            <a:r>
              <a:rPr b="0" lang="fr-CA" sz="2900" spc="-1" strike="noStrike">
                <a:solidFill>
                  <a:srgbClr val="595959"/>
                </a:solidFill>
                <a:latin typeface="Tw Cen MT"/>
              </a:rPr>
              <a:t>Lorem ipsum dolor sit amet, consectetuer adipiscing elit. Vivamus et magna. Fusce sed sem sed magna suscipit egesta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"/>
          <p:cNvSpPr/>
          <p:nvPr/>
        </p:nvSpPr>
        <p:spPr>
          <a:xfrm>
            <a:off x="252360" y="6453360"/>
            <a:ext cx="1511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分享者</a:t>
            </a: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0" lang="zh-CN" sz="1400" spc="-1" strike="noStrike" u="sng">
                <a:solidFill>
                  <a:srgbClr val="3ecced"/>
                </a:solidFill>
                <a:uFillTx/>
                <a:latin typeface="Arial"/>
                <a:hlinkClick r:id="rId2"/>
              </a:rPr>
              <a:t>PPT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959"/>
                </a:solidFill>
                <a:latin typeface="Tw Cen MT"/>
              </a:rPr>
              <a:t>Title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12720" y="1671480"/>
            <a:ext cx="815328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900" spc="-1" strike="noStrike">
                <a:solidFill>
                  <a:srgbClr val="595959"/>
                </a:solidFill>
                <a:latin typeface="Tw Cen MT"/>
              </a:rPr>
              <a:t>Lorem ipsum dolor sit amet, consectetuer adipiscing elit. Vivamus et magna. Fusce sed sem sed magna suscipit egesta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900" spc="-1" strike="noStrike">
                <a:solidFill>
                  <a:srgbClr val="595959"/>
                </a:solidFill>
                <a:latin typeface="Tw Cen MT"/>
              </a:rPr>
              <a:t>Lorem ipsum dolor sit amet, consectetuer adipiscing elit. Vivamus et magna. Fusce sed sem sed magna suscipit egesta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fr-FR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fr-FR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fr-FR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19:09:17Z</dcterms:created>
  <dc:creator>Ric</dc:creator>
  <dc:description/>
  <dc:language>en-US</dc:language>
  <cp:lastModifiedBy>a</cp:lastModifiedBy>
  <dcterms:modified xsi:type="dcterms:W3CDTF">2015-01-14T13:16:47Z</dcterms:modified>
  <cp:revision>3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