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D9A-A8E6-48B1-843E-1E9020BA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0DF-2CB1-4E2A-87EE-0BD17877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810CC-B819-4316-A98B-9EBEC4F1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8ED3F-661C-4321-83AA-98B7D6B5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B55E6-75A6-40CD-AA97-6AA1200F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1EDED-77D0-4DB3-8112-5FE21301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06A38-DD6D-471A-B529-C228552E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D2AE0-BDB8-42B8-A52B-23B2298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A35EB-C60D-43FB-926C-EABB48F1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00DFD-B697-44EC-997B-8F00D9E7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4F855-5B45-47D0-B420-EBF3E362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414A8-C0F9-4632-A339-DFC5DEE6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104-B574-45D3-BD62-B1652E54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1B0E7-5E90-452F-A9CD-1C6EED9A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7DACA-72A2-4A57-961D-52A6BD05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95C77-0DF0-4D85-8C4E-F50B8130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460A3-6B82-4330-8A0D-0B0CB1B3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D814A-1F10-4B40-AA29-A188667F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52F7E-BFCD-419B-B946-B95956CC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E3D98-32CF-4794-B82E-FB2EC7C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CC132-8ECA-464A-881A-8A6E0E35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9046B-AF1F-4F33-99D6-F1BD27A2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ED70B-27DD-4C4D-B626-153367CF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ACD-EB40-487C-B5AF-EFED234B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664C3-7578-4063-8D5E-1325C3B3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8C60E-1859-4F3F-B97A-A67BAA89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38A30-094C-4C39-B111-60F3DF4A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63FC-4876-4A4A-9B7E-8857B43B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44D3B-F6C4-435B-AD8C-72170DE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AD9F-BBFF-4BCC-A6FC-20BE1B71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27E50-AEDC-4A8B-B182-0DEFE1F6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571CA-FBD3-4F68-857C-16CA4C1E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A3C07-CD2A-40A1-8EB7-B262CC00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FB171-F0C1-445A-A7B5-7E0321F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FD77-A8D5-477B-8284-9C35578C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0B3BB-E258-464B-AE6A-FA179B21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72EEE-510C-4D7D-A240-91BD9756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C6F15-D58E-4334-86A6-620B2D30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B546F-09B3-4EB7-8C78-6E7F7A98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3D751-6826-4BC3-AB60-B97A8A7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D5CE9-295C-4E50-AE1B-A64156B4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E8DB3-CDE1-44A0-A1EF-79E06EA1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CA6E5-13FA-4E39-8F51-CE74F5C6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EA483-E7BE-4638-A82A-071588AC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F31F6-8D37-4F66-B4B0-A4BF5D8C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1A67-595B-4CF9-9813-55907B5A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E6FEF-2E08-4450-B6C1-C5CB7811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A5CDD-A125-4586-88DD-2D8941F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8DC82-993E-4431-94F0-57CA573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B912D-7E5E-46DB-B59F-D9ED0D87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08F53-23F5-4DA0-B75A-39A053B7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6009C-4C8C-4584-8681-9FE39BAD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D72A5-33DA-45E0-AF64-49B64BAE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A8C19-D6DD-4589-A117-F0DA0500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DA56C-694A-4F32-B507-D6E9C6AB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CA391-5E16-4729-B83F-51D7CDE0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657E-B1EE-4B03-9A30-B4B85846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A9350-EB2E-44D8-A8CF-FD08D49A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96192-81A3-4A72-9C00-8B9A3D43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7ADA0-7DB3-4543-ADCF-DCBBDC3B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65AC5-C4B9-42E0-B2CE-AB0DC3AF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DDCBD-42D9-4A4C-8BAD-B10B9C07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06E0E-662F-453C-A29A-1B5DEDFD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11FEA-3E67-48E0-9F0F-E89C5AFE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51614-EDDF-4BEF-83BA-ABA51165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00845-7C3B-4645-A918-B4854602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96EF1-CF15-47BC-B24C-845DBA73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2DE-1F56-4180-9ABD-F9F3084E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E69A1-D6FC-4D79-BF91-B29C5E7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DA6A1-B048-4965-925E-5F19164F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30D12-3D45-4250-BF7F-78F04E38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91498-747F-4D85-9378-7358C6DD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3DA67-0EC4-4DF4-8704-348F8AE3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E4DBC-FBCF-4617-8637-F900E6C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D98935-6398-42D7-8E4C-D663C49D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E7FF4A-2D7A-43D2-951A-9C14E689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7B522-B42A-4C41-B9DE-51B2175A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2C44-5247-4B75-A4F6-6AF0662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ED81-9F38-4CC2-8C99-AD965EA1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2182-7286-49AF-8C02-664EDC47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CF5-0014-4E78-90D0-4EBE811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B890-7189-4DBB-8420-AE05B47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7A91-C453-488C-A106-7A2FAF94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0D70-87EF-408F-B542-814DAE3A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A8AF-981A-444F-A24C-4F673D77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1C2B-0FB9-4A45-B469-52DD3F76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53B0-6967-4670-9E0D-7CE7AB3C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053D-BFCD-49B7-B03E-77C4056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0A93-8B47-47F3-A4AA-A017CF5B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8B84-860B-4E50-AF6D-15523B19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9CEA-8158-487A-8462-498FFB2C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AFC-01BB-4DDE-8518-3F9F3B78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42B6-E214-4C8E-B4F4-2B6A6C50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C9843-9B38-45B3-B9B9-D5A735C3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DE31-A669-4FAC-BED7-19AA420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FC2C-F736-468E-A8EA-2F67F98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CC06-C20B-4566-9930-9183D6A9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A618-3D28-4060-87A3-2332EBD8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C5B5-05C0-4583-B22D-133EE154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ECDD-E10C-48A4-850A-5B0C66B8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DCD56-FC9F-423B-A9B0-920F5E6D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AB12-3A25-4605-99C2-8639BF4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D34-FA92-4F00-828F-B2391F90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79A86-32BA-4D02-8DBA-B1DA2B6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85B6-3350-4005-829F-7CB18BBE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3EA9-FE7D-4B17-B671-FCD9B6C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D48BB-258C-466A-96DB-1F9BA8E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DF2F-D44E-4882-BEA5-E6A06308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682C-3FE9-4757-8053-69248A1B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F09DB-138A-40F1-886D-0D46B77B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3CCDE-1194-4D72-B2B8-3D8B7308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FE38D-7EE4-4B6D-983C-6BBCBC5C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C810-58EB-4FBF-87ED-86C5598F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5AC-1A94-458B-A016-9E17B1C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DD30B-FD67-491D-BBA6-DC2C7AD8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DA77-DB1D-490D-9409-54766B04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D15DF-44F7-4CB5-BBA5-D2E0DC20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7A7BD-1BD3-495C-8F68-13E9AD38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C5D7-C0E6-4D68-88C4-48A12BFE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B394-D464-4466-A43E-0DDDE20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CE495-974C-4C5B-927E-BAC1E635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048D-D6D7-4D56-9D21-73BD1FE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1982B-9D87-455C-B714-F9A252C2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52AE8-477C-4DD2-BC8E-61990495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43B-EC7A-49E0-86F2-ED254AED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3F85-C103-479D-BE5C-B16C761D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2E30D-BE62-4032-9F16-31D05B6A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06385-CC75-444A-B22D-A6E1DFC6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BBEFB-457A-488D-B313-066A488C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B6AF9-D6F6-4CDB-9B96-8C634400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03F19-0947-4ADD-A1F5-D641FD5F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CDED5-F879-45A4-847B-1198EDCE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B9AC-2948-4452-8AF4-4C737EA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A01B-CDD8-4F5F-B4C4-D71056CF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626B7-658E-4CCA-96FD-1748EAC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E7D-8B68-490C-93C2-1E662395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8882-51D8-47A0-A9DB-30AF426A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EF641-FB2F-486A-A5D9-9BEDF24A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79718-2145-4115-8FA6-85E55C6B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07056-965D-4E7C-A4D1-92FE324F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804E-7F8B-491F-9307-239EAFB9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4590A-D819-40B1-B40C-C8ACE35E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1A61E-62C2-4ECA-B326-6AC26772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E8898-F34C-4DD7-BF6D-40A8586A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3BAF-7C82-49F3-B21B-5DF58405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B4082-9DB6-4A9C-AAA9-D34D14C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542-0A97-4779-A570-5E14B77B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2FB32-16DB-4B02-843E-B79DCB5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D4906-49FE-4470-8F1F-F218D30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EB8FC-1FCA-4EF9-B8D7-50F47643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44F74-6962-42FF-892B-F33A84F6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72779-E403-4078-8B3C-BBB717D9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2E4F6-89F2-4A50-9AF0-A33BD639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4300-74E2-44B1-8287-09A76E6F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96BC6-9596-46EA-A2F7-7806F3B1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4D611-2944-46CC-8941-1882723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A8C0D-971F-42B8-B16C-C8AD9BAA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521-1007-4B1E-ACB1-F89EA677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CB7F-443D-4BDC-B8D1-3FD2B9DD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367B1-93F5-41E2-A16E-ED9028B9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CCC6-A48A-4863-BEC2-1E7EE21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0F9E-39CE-44F3-B171-7B001660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5F903-79A4-44E1-BBED-9B4AE002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8BC0D-D20E-40D1-BED3-05F586AE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2B710-5A22-4C5F-A579-1905DB6A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BE19A-9549-4FA4-8DFF-CB5672A1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7D5E7-58B5-48A2-8390-76756D21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C917A-53AB-4060-94F3-DC3BB46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57CE-CD02-4782-AE76-2ECC6BE8DDAF}" type="slidenum"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B824-F4E1-4B61-814C-A5F67B6E59A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F9C1-4DF3-43CD-8083-48F3345FA5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D938-DC28-4AD1-8395-C1F4CD0BACD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5ACE-FCAE-4700-989B-5A02D9B39F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D9D6-8C17-4F27-B63C-16C78995D25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04D-24C3-405C-B0B1-99C5FF9CA3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9B6F-2CDE-4F9C-BB34-1AD05B6B9AD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7B51-A4C0-4B3F-9A0C-437249BE1C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DF75-3EA4-41F4-901F-EAB1EFF1733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DBDF-21C8-48EC-93D0-7A00AE852F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904F-C287-4892-A41E-C68821FA809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3ABF-9090-4A3F-8211-DC7C02A4E9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4E6-FA05-4A36-98CA-3295BE86F5A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037C-6DB0-402E-86AC-2A38E6E02C7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0F56-7939-42D7-8999-B56F5994D6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D4CA-6839-490D-BFF8-34371F48EC4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F358-2D78-4232-93F1-B40EAFF081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9CAC-6ACF-408E-B510-082D89CEEFA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A913-DE98-480E-98BD-EC886FF916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21A2-44D0-447D-9FC0-0B1AF042C04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EB4F-D37C-461A-8823-4558C426A9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D4F2-CD4F-492D-9BD0-42AC7F90BCD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2645-D462-488E-BA5C-FFAF50370A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247-C01E-4977-8812-48383A79B48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DEFB-30B0-4ACA-97D2-B631275A51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Romantic Love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39625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>eclipse</dc:creator>
  <dc:description/>
  <dc:language>en-US</dc:language>
  <cp:lastModifiedBy>a</cp:lastModifiedBy>
  <dcterms:modified xsi:type="dcterms:W3CDTF">2015-01-14T13:14:41Z</dcterms:modified>
  <cp:revision>5</cp:revision>
  <dc:subject/>
  <dc:title>Pixelra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