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4B4-8AFF-4E75-9A46-9183CE12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B4F-A2D8-47EE-AFE0-0D37C0C8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D2B-8751-4AD9-A2F4-66D06863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EAC-CE72-4BC3-BBFD-45754DCA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5A61-59DA-44B7-B23E-36B88801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F03B-7CF8-4389-B6AF-7618AC14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6978-3F35-40EF-988D-8D0527CB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C75D-4252-451B-8FD2-4E8C2C53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9494-6A3A-4A22-A731-13DE1CB1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72FB-9290-4341-94D0-4B37D0B0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F570-F665-4D59-AD6E-5026D729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074-A230-4F34-A3F3-B7CBB29B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3F1F-8AE4-4BB0-BA5B-2221927C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4D24-2200-4002-8A9E-861DAFC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E009-93EA-4550-8C53-56DDE6EF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61A0-540D-4EE2-9897-C9412385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8AD3-47F8-4FDD-89CE-49A238BB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849-8188-43B8-BFA4-5A0D9934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8AF-D1AE-411C-B6A7-70DCAC4E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738-1A7C-44D5-8467-C44C8BDD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745-D5E2-409E-ADC5-0659246C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58F-28FE-4F24-BD83-3D4C629D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AEF-AF5C-4A2F-85F1-C746CB42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CB4-3F88-4CBF-9DA0-7888FFF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0932-A6E8-41A1-8BDF-5401F0643E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F263-CB65-40D1-BCFB-4D1B07E681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AADD-1FCB-4DFE-9DB0-052179B40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916080" y="4008600"/>
            <a:ext cx="469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572800" y="5013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手绘画卷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495840" y="5445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站长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98340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983400" y="321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83400" y="407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05504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75040" y="400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223400" y="306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295760" y="494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695400" y="3133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695400" y="356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6954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695400" y="450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30920" y="29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930920" y="378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399480" y="450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8632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1994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607040" y="494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936120" y="378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920120" y="573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79176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43680" y="35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078960" y="28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a</cp:lastModifiedBy>
  <dcterms:modified xsi:type="dcterms:W3CDTF">2015-01-14T13:16:0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