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FFF-5E5E-46EF-9631-98139D23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61C-495B-4BD2-A962-CC3F1AE6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6B4-3C93-4A71-9A17-8EC96FBC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F67-651B-4BC1-9D6F-ADC10AEE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883A-4C3C-427D-BA01-56A42142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4F38-D9F3-4226-B2F6-150992AA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6EF3-9C08-40C4-B5ED-3A035EAC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F37E-0F0E-4269-A3A2-59A42B9B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0804-9FB7-48F3-AC5D-5158B1CB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4419-05B2-4886-8097-B39689D8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B4D1-20B1-439B-BFF3-B8098D6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800-1653-4C83-953A-FDB45BB4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5901-A560-46D4-8594-D561C7CD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9F0B-9E36-4176-BB2B-F093C124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4DB9-1160-4E1F-BBC7-6BB6351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5272-5DDB-4756-8765-AEFDB0A6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E5C5-7DC9-48FE-AEA7-DF4AD54B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35E-18CB-43FE-8D66-4C6E270C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B0A-041B-4D8B-A055-C9CB5D24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63D-1E92-43FF-8641-B6F5BF81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464-5025-4BCF-8ADA-9EB77292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9EE-82D0-46B6-954E-96E23F36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264-064F-4655-B8F5-46C3AA32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C0D-C26E-40F9-9F00-53D5AFF1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2E62-882F-4C20-8831-9469E5759D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5388-E4B1-4AED-97BE-9A4C5824B5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B599-2522-4271-8F6C-CCEF7FFBE2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861080" y="51544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WE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848120" y="5877000"/>
            <a:ext cx="38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清凉纸船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904120" y="270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070160" y="3246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070160" y="3246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920120" y="400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415400" y="177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59760" y="2852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31040" y="39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487400" y="350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615760" y="522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27976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12120" y="4365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a</cp:lastModifiedBy>
  <dcterms:modified xsi:type="dcterms:W3CDTF">2015-01-14T13:15:3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