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C33-FAFF-4C94-97EF-E5F8DC45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B4C-EC86-4F23-A91A-035A35C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D0B-482F-4FB4-8722-1BF97939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C2B-9903-463F-AD96-CB51ED2D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AFC8-A324-4493-A7CB-8C48A492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C697-240B-449F-AE86-9AC9FBE9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1D64-3F23-4F20-A737-07AC3442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335E-1849-4D79-987D-1436681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B60-0DA3-41EA-B272-08172AC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A3CC-F9A8-4B05-97C9-9738535D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989-337B-43F7-9012-0544E77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5BE-4BFA-4EEB-848B-FC36A18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201A-357F-42B1-8123-8800A5A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9900-A84C-4526-9AC3-0D2C61B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0F1-4954-471C-9762-22270595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9835-25A7-476E-A120-0E18FC7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8805-003E-4500-8E00-EC982D9E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12D-B2D8-4941-807D-80B02FE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9E8-38A2-4202-9F58-626C3708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ECD-AC33-4A4D-9E4A-D2A90C47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1F1-5D02-468A-B7F5-3A47B35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008-6529-4E35-86F5-2D1BE0C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BC7-5A20-44E4-A5B0-BD1B903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AE0-0511-423E-9748-9ECA254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7AA-29A7-47EF-8AB3-CAFE1C3188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E841-F950-467F-A781-62DDEAB208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4C6-F31A-492E-9155-2CB7342BECE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年 终 总 结</a:t>
            </a:r>
            <a:r>
              <a:rPr b="1" lang="en-US" sz="6000" spc="-1" strike="noStrike">
                <a:solidFill>
                  <a:srgbClr val="c00000"/>
                </a:solidFill>
                <a:latin typeface="方正姚体"/>
                <a:ea typeface="方正姚体"/>
              </a:rPr>
              <a:t> 报 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306828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7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—</a:t>
            </a:r>
            <a:r>
              <a:rPr b="1" lang="zh-CN" sz="2700" spc="-1" strike="noStrike">
                <a:solidFill>
                  <a:srgbClr val="000000"/>
                </a:solidFill>
                <a:latin typeface="方正姚体"/>
                <a:ea typeface="方正姚体"/>
              </a:rPr>
              <a:t>回顾总结，展望</a:t>
            </a:r>
            <a:r>
              <a:rPr b="1" lang="zh-CN" sz="27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未来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人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108000" y="33480"/>
            <a:ext cx="1955880" cy="173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 rot="392400">
            <a:off x="2498760" y="1832040"/>
            <a:ext cx="54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  成绩斐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474000">
            <a:off x="2646360" y="2987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  共励并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 rot="609600">
            <a:off x="3988440" y="4268880"/>
            <a:ext cx="396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  任重道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——</a:t>
            </a: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昨日   成绩斐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868560" y="1890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20000"/>
                </a:solidFill>
                <a:latin typeface="方正姚体"/>
                <a:ea typeface="方正姚体"/>
              </a:rPr>
              <a:t>回顾篇：昨日   成绩斐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5640" y="206028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最佳宜居楼盘 ”称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年度最佳经理人奖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最佳操盘            手 ”称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谢 谢 </a:t>
            </a:r>
            <a:r>
              <a:rPr b="1" lang="zh-CN" sz="6000" spc="-1" strike="noStrike">
                <a:solidFill>
                  <a:srgbClr val="c00000"/>
                </a:solidFill>
                <a:latin typeface="方正姚体"/>
                <a:ea typeface="方正姚体"/>
              </a:rPr>
              <a:t>聆 听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-4680" y="-15840"/>
            <a:ext cx="1773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7:32:37Z</dcterms:created>
  <dc:creator>User</dc:creator>
  <dc:description/>
  <dc:language>en-US</dc:language>
  <cp:lastModifiedBy>a</cp:lastModifiedBy>
  <dcterms:modified xsi:type="dcterms:W3CDTF">2015-01-14T13:12:46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