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10799763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4D90-F902-4222-AF64-A74774A44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036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972036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9280" y="4160880"/>
            <a:ext cx="972036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DB96-D24E-493D-8D95-347C44414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036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336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20240" y="1679040"/>
            <a:ext cx="474336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9280" y="4160880"/>
            <a:ext cx="474336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20240" y="4160880"/>
            <a:ext cx="474336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8B93-7F13-4DA3-95D1-930D702BD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036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31298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26080" y="1679040"/>
            <a:ext cx="31298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112880" y="1679040"/>
            <a:ext cx="31298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9280" y="4160880"/>
            <a:ext cx="31298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26080" y="4160880"/>
            <a:ext cx="31298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112880" y="4160880"/>
            <a:ext cx="31298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DF4B-54AE-47A8-83EC-4D1CF38CB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A1DBC-DD43-441A-9A14-5F2EF8DA1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036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9280" y="1679040"/>
            <a:ext cx="9720360" cy="47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AB687-78A8-4B36-B204-D6335117E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036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972036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882B8-C562-40EF-A04F-57C691714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036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336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520240" y="1679040"/>
            <a:ext cx="474336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CE4FC-676B-42C2-B55E-E2C58957B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036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F1206-2E21-4056-B11F-9A9282067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39280" y="288720"/>
            <a:ext cx="9720360" cy="55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EA543-CF83-40FF-916C-EE403F52B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036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336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520240" y="1679040"/>
            <a:ext cx="474336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9280" y="4160880"/>
            <a:ext cx="474336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60FE0-0A80-4933-9743-B9A738EC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036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9280" y="1679040"/>
            <a:ext cx="9720360" cy="47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8AB7-0D53-428F-9AAE-9B37CFC40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036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336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520240" y="1679040"/>
            <a:ext cx="474336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520240" y="4160880"/>
            <a:ext cx="474336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D1EA9-1BDD-4A85-A7A7-CDF1019A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036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336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520240" y="1679040"/>
            <a:ext cx="474336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9280" y="4160880"/>
            <a:ext cx="972036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AC9C2-3BDC-410F-AF61-DF29E62C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036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972036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9280" y="4160880"/>
            <a:ext cx="972036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62416-5391-42D4-904F-0AA184A3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036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336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520240" y="1679040"/>
            <a:ext cx="474336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9280" y="4160880"/>
            <a:ext cx="474336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520240" y="4160880"/>
            <a:ext cx="474336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C2616-D800-4F57-AD05-B96C251EB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036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31298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26080" y="1679040"/>
            <a:ext cx="31298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112880" y="1679040"/>
            <a:ext cx="31298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9280" y="4160880"/>
            <a:ext cx="31298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26080" y="4160880"/>
            <a:ext cx="31298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112880" y="4160880"/>
            <a:ext cx="31298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A89FD-DCA1-4787-8544-1914799AE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036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972036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C42F-FFA8-4325-947E-A8EB9A2DB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036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336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20240" y="1679040"/>
            <a:ext cx="474336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C0B5-5866-4183-920A-1A2693FB0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036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82EC-91F5-4BEA-B5BB-5CEC400A5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9280" y="288720"/>
            <a:ext cx="9720360" cy="55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CE1C-A1AE-41B5-8700-8473D4EFB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036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336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20240" y="1679040"/>
            <a:ext cx="474336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9280" y="4160880"/>
            <a:ext cx="474336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1F18-DFED-4138-B9E4-5BD64AE3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036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336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20240" y="1679040"/>
            <a:ext cx="474336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20240" y="4160880"/>
            <a:ext cx="474336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97B5-DBFC-465A-99D5-B5130614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036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336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20240" y="1679040"/>
            <a:ext cx="474336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9280" y="4160880"/>
            <a:ext cx="972036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1BF3-F018-4C27-9311-B45B87BB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17640" y="-11160"/>
            <a:ext cx="10834920" cy="7255080"/>
          </a:xfrm>
          <a:prstGeom prst="flowChartProcess">
            <a:avLst/>
          </a:prstGeom>
          <a:gradFill rotWithShape="0">
            <a:gsLst>
              <a:gs pos="0">
                <a:srgbClr val="cc321b"/>
              </a:gs>
              <a:gs pos="100000">
                <a:srgbClr val="ee9117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036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9280" y="1679040"/>
            <a:ext cx="9720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39280" y="6555960"/>
            <a:ext cx="25210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900BD-806F-43E9-A3CB-80208480DF0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688920" y="6555960"/>
            <a:ext cx="341964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38560" y="6555960"/>
            <a:ext cx="25210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F9B62-EEE7-426D-9F6D-9A8E63F549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8" descr="素材2"/>
          <p:cNvPicPr/>
          <p:nvPr/>
        </p:nvPicPr>
        <p:blipFill>
          <a:blip r:embed="rId2"/>
          <a:stretch/>
        </p:blipFill>
        <p:spPr>
          <a:xfrm>
            <a:off x="0" y="4143240"/>
            <a:ext cx="10798200" cy="30798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南瓜"/>
          <p:cNvPicPr/>
          <p:nvPr/>
        </p:nvPicPr>
        <p:blipFill>
          <a:blip r:embed="rId3"/>
          <a:stretch/>
        </p:blipFill>
        <p:spPr>
          <a:xfrm>
            <a:off x="334800" y="4676760"/>
            <a:ext cx="2602080" cy="2279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036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39280" y="1679040"/>
            <a:ext cx="972036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-3589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984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3976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79400" indent="-23940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3976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3976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3976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39280" y="6555960"/>
            <a:ext cx="25210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76343-EAC2-438D-A52D-3086FCEA837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688920" y="6555960"/>
            <a:ext cx="34210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738560" y="6555960"/>
            <a:ext cx="25210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06B4A-1BC6-4807-9F5F-377106E858A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南瓜"/>
          <p:cNvPicPr/>
          <p:nvPr/>
        </p:nvPicPr>
        <p:blipFill>
          <a:blip r:embed="rId2"/>
          <a:stretch/>
        </p:blipFill>
        <p:spPr>
          <a:xfrm>
            <a:off x="431640" y="2305080"/>
            <a:ext cx="4213440" cy="36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素材2"/>
          <p:cNvPicPr/>
          <p:nvPr/>
        </p:nvPicPr>
        <p:blipFill>
          <a:blip r:embed="rId1"/>
          <a:stretch/>
        </p:blipFill>
        <p:spPr>
          <a:xfrm>
            <a:off x="0" y="4130640"/>
            <a:ext cx="10798200" cy="3078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南瓜"/>
          <p:cNvPicPr/>
          <p:nvPr/>
        </p:nvPicPr>
        <p:blipFill>
          <a:blip r:embed="rId2"/>
          <a:stretch/>
        </p:blipFill>
        <p:spPr>
          <a:xfrm>
            <a:off x="395280" y="4616280"/>
            <a:ext cx="2603520" cy="22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280360" y="6591240"/>
            <a:ext cx="2374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r>
              <a:rPr b="0" lang="zh-CN" sz="1300" spc="-1" strike="noStrike">
                <a:solidFill>
                  <a:srgbClr val="ffffff"/>
                </a:solidFill>
                <a:latin typeface="Arial"/>
                <a:ea typeface="黑体"/>
              </a:rPr>
              <a:t>免费</a:t>
            </a:r>
            <a:r>
              <a:rPr b="0" lang="zh-CN" sz="1300" spc="-1" strike="noStrike">
                <a:solidFill>
                  <a:srgbClr val="ffffff"/>
                </a:solidFill>
                <a:latin typeface="Arial"/>
                <a:ea typeface="黑体"/>
              </a:rPr>
              <a:t>PPT</a:t>
            </a:r>
            <a:r>
              <a:rPr b="0" lang="zh-CN" sz="1300" spc="-1" strike="noStrike">
                <a:solidFill>
                  <a:srgbClr val="ffffff"/>
                </a:solidFill>
                <a:latin typeface="Arial"/>
                <a:ea typeface="黑体"/>
              </a:rPr>
              <a:t>模板下载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3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</a:t>
            </a:r>
            <a:r>
              <a:rPr b="0" lang="zh-CN" sz="1600" spc="-1" strike="noStrike">
                <a:solidFill>
                  <a:srgbClr val="ffffff"/>
                </a:solidFill>
                <a:latin typeface="华文中宋"/>
                <a:ea typeface="华文中宋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2"/>
          <p:cNvSpPr/>
          <p:nvPr/>
        </p:nvSpPr>
        <p:spPr>
          <a:xfrm flipH="1" flipV="1">
            <a:off x="-720" y="1949400"/>
            <a:ext cx="10828440" cy="526752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600120" y="0"/>
            <a:ext cx="8888400" cy="7199280"/>
            <a:chOff x="600120" y="0"/>
            <a:chExt cx="8888400" cy="7199280"/>
          </a:xfrm>
        </p:grpSpPr>
        <p:sp>
          <p:nvSpPr>
            <p:cNvPr id="91" name="矩形 4"/>
            <p:cNvSpPr/>
            <p:nvPr/>
          </p:nvSpPr>
          <p:spPr>
            <a:xfrm>
              <a:off x="1330920" y="0"/>
              <a:ext cx="6912360" cy="71856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00120" y="1799640"/>
              <a:ext cx="8888400" cy="539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Box 7"/>
            <p:cNvSpPr/>
            <p:nvPr/>
          </p:nvSpPr>
          <p:spPr>
            <a:xfrm rot="20926800">
              <a:off x="2613960" y="3746880"/>
              <a:ext cx="4899960" cy="12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3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3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3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3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3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3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dministrator</dc:creator>
  <dc:description/>
  <dc:language>en-US</dc:language>
  <cp:lastModifiedBy>a</cp:lastModifiedBy>
  <dcterms:modified xsi:type="dcterms:W3CDTF">2015-01-14T13:19:21Z</dcterms:modified>
  <cp:revision>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